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9717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716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550512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314280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-360" y="651528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5505120" y="651528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B8F6-45E0-46D7-BAB1-6A6F42823B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ms-help://MS.VSCC.2003/MS.MSDNQTR.2003FEB.1033/cpref/html/frlrfsystemtextregularexpressionsmatchclasstopic.htm" TargetMode="Externa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 can also be set in the expression it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expressions are a balance between matching what we want and not matching what we don't w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for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m[aeiou^aeiou]  - nonsense and no compiler errors - emphasise the 2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te space Unicode specials – include U+0085 (next line) and white space \p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gits – not Chinese, Korean &amp; Japan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somewhere if you don’t know what ecmascript is you don’t need to worry about this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racter class – applies to other metacharaters such a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\\w will match carp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@ - C#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verbatim st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– otherwise unrecognised escape sequ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lso corresponding an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nesca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unction which removes all the escape characters from a regex perhaps useful if you want to reverse an esca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\d\d\d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K post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ace between the question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he example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lower case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d not use \w as it also matches under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ace between the question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ace between the question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ace between the question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ace between the question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ace between the question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gexOptions.IgnorePatternWhitespace - Eliminates unescaped white space from the pattern and enables comments marked with #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sue that \n terminates the # comment – but in the string there is no new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t no compile errors just a puzzlement why your Regex is only half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use of \s could have used just a \ followed by a space - \s will also take a t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iminates unescaped white space from the pattern and enables comments marked with #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 language supported by the fra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you to manipulate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SQL – like SQL select a piece of text insert update de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gex equivalent to ‘or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ft most w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racter class matches one character Alter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: cannot be divided or broken down fur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- width Do not cause the engine to advance through the string or consume characters- work in the current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rtion: test, declare posi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t and \b appeared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ill not work in a character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ricter Postcode Regex – no lowercase must have a whitespace – suitable for a text box va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aret and dollar enforces no other nonmatching characters either side of the post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emonstrate the Regex designer Postcode -1 – explain tool show help file to explain @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ingle line text box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ost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hows that it only matches if the text box contains only a post code by typing in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Queen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how that it fails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if a space is added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suggest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tring Trim() before the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w show a multi-line postcode 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how that it doesn't match because the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multi-line option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is not se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w Append a new line-doesn't work – why? because Windows text box puts a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arriage return and a new lin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prove with a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\s\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\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atch the beginning of the string (ignores the Multiline op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\Z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atch the end of the string or before \n at the end of the string (ignores the Multiline option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\z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atch must occur at the end of the string (ignores the Multiline option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Open postcode Address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f capturing the data use a trim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t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es not understand English punctuation of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s not consumed any text ie if it was a split would get spaces in the returned array compared with a \s (whitespace) which would eat th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core is a word character, a hyphen i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\r\t will also match positively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e extr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reference: allows you to match a previous 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ion: insert a match within a replacement st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advantage of $1 automatically numbered notation is that it is if the regex is amended by inserting or removing a set of parentheses, all code that refers to the numbered captures must be rewritten to reflect the new numbering. Also with a complex expression with lots of parentheses, it is difficult to determine which of the two expressions actually returned a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ing used f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ust not contain any punctuation and it cannot begin with a number. And no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use single quotes instead of angle brac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dvised to mix unnamed and named capturing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.* matches any character – it is greedy – use it with care with large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 starting at the position at which the last match ended (at the character beyond the last matched charac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t properties of 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ensus between the various too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tle differences between the implementations a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lking about the System.Text.RegularExpressions.Regex class, but also there is a  JScript object (RegExp) based .NET Regex object uses a subset of 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t properties of Match\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 property of the match class – seems to be us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understand this is the position of the quantifier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advantage of $1 automatically numbered notation is that it is if the regex is amended by inserting or removing a set of parentheses, all code that refers to the numbered captures must be rewritten to reflect the new numbering. Also with a complex expression with lots of parentheses, it is difficult to determine which of the two expressions actually returned a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gexOption.Explicit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pped the Groups around – Named groups go at the back of the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the named and unnamed groups is not a good idea – If you use a named group refer to it by it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using a name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k at help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ying to climb a ladder with the first few rungs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lidation: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gularExpressionValidato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you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the static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ons ar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Match is the first occurrenceM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laces all occurrences of a character pattern defined by a regular expression with a specified replacement character st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lace can also take a delegate (matchEvaluator) – also ways &amp; means of including the matched value in the re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rches an input string for all occurrences of a regular expression and returns all the successful matches as if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tc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ere called numerous ti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a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similar to the ? and * metacharacters used with the DOS file system to represent any single character or group of characters.  EG COPY *.DOC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ext &amp;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nce we have a match positive or negative we can then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42C-A05D-4558-B589-59B555FD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71D-B585-43AC-A77C-6F43FBA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8B6-5FB9-49C4-BF4D-444AC240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552-46B0-421E-9E00-19EA5984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03D-55B0-4489-9F91-3400A978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2A12-5069-4929-A840-7B66E5A2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11C0-4ACE-4159-BC49-888A7AF2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E58A-E850-458A-9382-6927C0A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25DC-80FF-4ADA-BB8E-EE6E58AD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BD09-1AE8-4D74-9FE9-67EDF45D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30A2-E3BC-4764-A3E5-9D8DA7F8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416-7740-462A-81EC-FC202DD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6DAB-C5B9-4313-9B4F-C122B1D4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B0BD-7012-4A2B-B9CD-676FD4A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6933-6440-4113-8C5B-9F6F6112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E1E2-37DF-48B7-824D-AD4B7F6A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3562-AEF7-443F-A311-8047C3A0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68AE-EAB0-43A8-9068-57BEA55F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01DE-D689-4349-8D43-6ED7DBE7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27AF-D469-4AE0-A82D-A1BFF6B0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866A-633C-47D1-8ECC-FB6BFFBC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2A8C-8CB9-47BB-893B-14CAFC7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297-C005-4AEA-B21A-90791C8F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02BE-87E4-4B81-B46E-072DF2F3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451D-C9A1-444D-9138-6715DAE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6D98-6EC6-4BD8-9E77-C074B662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9F37-5F50-4829-B882-FF481334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6FBE-747F-4B14-9AEA-A9E3A990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2582-A4A1-46C4-8D2C-30E9B287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0DEC-ABCD-4FCF-ACD5-3E121E5D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AE95-741B-4092-B870-13F7297C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39B0-F8C5-4281-AF97-4A4678C9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7FB7-44FE-44EE-8499-94FE1334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4F7-527B-414D-B6F9-BDC0C15D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E669-7B88-42DB-A8DA-6E27D353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725C-3932-4CD8-BB84-95A7D803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B4F2-3C46-48A9-B5CF-900FBD7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54FB-739C-4DDF-9953-5519755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3E96A-D12A-46A1-AEF1-71CCD3BA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9985-0731-464F-80CC-78FCB96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6B93-A7C0-4C3C-BE3A-1F222198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5E5E-1430-4B34-993A-331B439F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8F72-A175-4E0A-A3ED-EB81E653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A8C-A17F-471B-B0E3-24364F72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59A-F27B-4DB1-AD8C-F828CDF4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EA3-0457-42A6-89C9-9B0DE9AB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247-C36C-4254-A2F4-480CC6A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689-472D-40DE-93EE-28C80C8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99B6-A6B5-45C9-8F45-BC79D50E74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A107-E688-4B46-B07A-FC82C31FFB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2" marL="623880" indent="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3" marL="1349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4" marL="1795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5" marL="1795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6" marL="1795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FC91-438E-4DB1-9ED0-95D2CA2199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2F8D-B60D-4D0F-864C-FFEDB6E541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s-help://MS.VSCC.2003/MS.MSDNQTR.2003FEB.1033/cpref/html/frlrfsystemstringclasstopic.htm" TargetMode="External"/><Relationship Id="rId3" Type="http://schemas.openxmlformats.org/officeDocument/2006/relationships/hyperlink" Target="ms-help://MS.VSCC.2003/MS.MSDNQTR.2003FEB.1033/cpref/html/frlrfsystemstringclasstopic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gxlib.com/" TargetMode="External"/><Relationship Id="rId3" Type="http://schemas.openxmlformats.org/officeDocument/2006/relationships/hyperlink" Target="http://www.sellsbrothers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gular Express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 Dab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ropolis Systems Lt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push dir="l"/>
  </p:transition>
  <p:timing>
    <p:tnLst>
      <p:par>
        <p:cTn id="1" dur="indefinite" restart="never" nodeType="tmRoot">
          <p:childTnLst>
            <p:seq>
              <p:cTn id="2" dur="indefinite" fill="hold">
                <p:childTnLst>
                  <p:par>
                    <p:cTn id="3" fill="hold">
                      <p:stCondLst>
                        <p:cond evt="onBegin"/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Literal Characters – Example 3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60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iouse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60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Curiouser and curiouser!' cried Alice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60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Curiouser and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curiouse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!' cried Alice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Regex are case sensitive unless the option is set e.g. RegexOptions.IgnoreCase, but  then will also match the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IoUseR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Metacharacters – Character Clas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tches any one of several literal charact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d by enclosing some literal characters inside square brackets. E.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[Cc]uriouse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gated Character Class [^…] – any character that isn't lis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[^aeiou]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tiguous Character Range denoted by a hyphen (-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[0-9a-fA-F]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8000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aracter Class – Example 1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[aeiou][^aeiou]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on, memory and muchn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on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mem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ry and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mu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n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</a:t>
            </a:r>
            <a:r>
              <a:rPr b="0" i="1" lang="en-GB" sz="2400" spc="-1" strike="noStrike">
                <a:solidFill>
                  <a:srgbClr val="ffcc00"/>
                </a:solidFill>
                <a:latin typeface="Tahoma"/>
              </a:rPr>
              <a:t>mor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y did not appear as part of the match </a:t>
            </a:r>
            <a:r>
              <a:rPr b="0" i="1" lang="en-GB" sz="2400" spc="-1" strike="noStrike">
                <a:solidFill>
                  <a:srgbClr val="ffcc00"/>
                </a:solidFill>
                <a:latin typeface="Tahoma"/>
              </a:rPr>
              <a:t>m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[aeiou^aeiou]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would not work - ^ is only a metacharacter within a character class if it follows the [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2000"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aracter Class – Example 2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r[^a-zA-Z]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iouser and curiouse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ious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e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d curiouse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The second match did not occur because the regex is looking for a ‘er’ followed by a character that is not in the range ‘a’ to ‘z’.  If  a newline (\n) had followed then it would have match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push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Character Class Shorthand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700280"/>
          <a:ext cx="8229600" cy="3384360"/>
        </p:xfrm>
        <a:graphic>
          <a:graphicData uri="http://schemas.openxmlformats.org/drawingml/2006/table">
            <a:tbl>
              <a:tblPr/>
              <a:tblGrid>
                <a:gridCol w="801720"/>
                <a:gridCol w="3457440"/>
                <a:gridCol w="3970440"/>
              </a:tblGrid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d Charac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a-zA-Z_0-9] + Unicode speci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Word Charac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^w]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hite Space Charac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 \f\n\r\t\v] + Unicode speci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White Space Charac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^s]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g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0-9] in most scrip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Dig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^d]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39640" y="5300640"/>
            <a:ext cx="736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5364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ption RegexOptions.ECMAScript confines the tests to the ASCII charac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32000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aracter Class Shorthand – Example 1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\W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rabbit with a waist-coat and a watch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abbi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is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a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tch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te the punctuation is match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push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aracter Class Shorthand – Example 2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\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rabbit with a waist-coat and a watch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abbi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ist-coa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tch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te the punctuation is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 match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9000"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ny Character Shorthand - Do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tches any character apart from newline (\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cept wh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a character class ([…]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Options.Singleline is set – will match newline (\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.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i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ce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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ca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7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aracter Escap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002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ackslash (\) escapes the following character e.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\\w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will match 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:\carpenter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\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lrus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ther  ‘escapes’ includ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3068640"/>
          <a:ext cx="8136000" cy="2766960"/>
        </p:xfrm>
        <a:graphic>
          <a:graphicData uri="http://schemas.openxmlformats.org/drawingml/2006/table">
            <a:tbl>
              <a:tblPr/>
              <a:tblGrid>
                <a:gridCol w="524160"/>
                <a:gridCol w="7611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es a bell (alarm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es a backspace in a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haracter Class or Replacement patte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es a tab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es a carriage retur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es a vertical tab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es a form fe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es a new l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52080" y="5877000"/>
            <a:ext cx="62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.B. Windows interprets the enter key as 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9000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aracter Escapes – Static Method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002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 member: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ublic static </a:t>
            </a:r>
            <a:r>
              <a:rPr b="1" lang="en-GB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tring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Escape(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string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st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);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scapes \, *, +, ?, |, {, [, (,), ^, $, ., #, and white spa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uture Proof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tch myMatch = Regex.Match(@"A:\carpenter\walrus"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.Escape(@"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\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")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:\carpenter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\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lrus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tch myMatch = Regex.Match(@"A:\carpenter\walrus", @"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\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\carpenter\walrus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1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gular Expressions from .Net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troduction to Regex Class and Ot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asic syntax inclu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iteral &amp; Metacharac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haracter Classes &amp; Shorthan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Quantifi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lter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omic Zero Width Asser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rouping\backreference\cap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vice and highlight out of scope top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7000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uantifier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002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antifiers determine the number of times the preced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-expression can occur and still be considered a mat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on Quantifier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640" y="3068640"/>
          <a:ext cx="8136000" cy="2371680"/>
        </p:xfrm>
        <a:graphic>
          <a:graphicData uri="http://schemas.openxmlformats.org/drawingml/2006/table">
            <a:tbl>
              <a:tblPr/>
              <a:tblGrid>
                <a:gridCol w="1152720"/>
                <a:gridCol w="6983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{n,m}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at least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but no more than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match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{n}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exactly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atch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{n,}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at least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match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zero or more matches; Equivalent to {0,}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one or more matches; Equivalent to {1,}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zero or one matches; Equivalent to {0,1}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336960" y="5877000"/>
            <a:ext cx="83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.B. group a repeated sequence using parenthesis e.g.  </a:t>
            </a: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(\+44)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39000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uantifiers – Examp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[a-zA-Z]{1,2}\d[0-9A-Za-z]? ?\d[A-Za-z]{2}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\Result 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te Rabbit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G1 1A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een of Hearts: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Eh10 2QQ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SW11ZZ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13th Duch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B there is a space between the two ‘?’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edit: Dave Sparks www.regxlib.c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8000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uantifiers – Examp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[a-zA-Z]{1,2}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\d[0-9A-Za-z]? ?\d[A-Za-z]{2}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\Result 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te Rabbit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 1A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een of Hearts: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E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0 2QQ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S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1ZZ- 13th Duch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uantifiers – Examp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[a-zA-Z]{1,2}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\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[0-9A-Za-z]? ?\d[A-Za-z]{2}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\Result 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te Rabbit G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1A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een of Hearts:Eh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0 2QQ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W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ZZ- 13th Duch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uantifiers – Examp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[a-zA-Z]{1,2}\d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[0-9A-Za-z]?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?\d[A-Za-z]{2}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\Result 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te Rabbit G1 1A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een of Hearts:Eh1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2QQ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W11ZZ- 13th Duch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\w is not used as it also matches an undersc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1 of SW11 is matched by the later \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uantifiers – Examp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[a-zA-Z]{1,2}\d[0-9A-Za-z]?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?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\d[A-Za-z]{2}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\Result 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te Rabbit G1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A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een of Hearts:Eh10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QQ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W11ZZ- 13th Duch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B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□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s a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uantifiers – Examp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[a-zA-Z]{1,2}\d[0-9A-Za-z]? ?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\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[A-Za-z]{2}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\Result 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te Rabbit G1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een of Hearts:Eh10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Q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W1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ZZ- 13th Duch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Quantifiers – Examp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[a-zA-Z]{1,2}\d[0-9A-Za-z]? ?\d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[A-Za-z]{2}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\Result 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te Rabbit G1 1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A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een of Hearts:Eh10 2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QQ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W11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ZZ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13th Duchess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om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line 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(?#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X-mode 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#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 (terminated by \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gexOptions.IgnorePatternWhite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 mindful how strings work with 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Regex myRegex = new Regex(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@"[a-zA-Z]{1,2}   # Post Code Area" 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@"\d[0-9A-Za-z]? # denotes Post Code District" 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@"\s?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# whitespace"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@"\d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# Postcode Sectors." 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@"[A-Za-z]{2}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# Unit Postcode"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              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RegexOptions.IgnorePatternWhitespace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ooks good, but doesn’t work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 Inline comment e.g.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"\s?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(?#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whitespace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r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8000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omm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wo different syntaxes: Inline 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(?#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X-mode 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#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gexOptions.IgnorePatternWhite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 mindful how strings work with 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Regex myRegex = new Regex(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@"[a-zA-Z]{1,2}   # Post Code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\d[0-9A-Za-z]? # denotes Post Code Distr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\s?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# whites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\d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# Postcode Secto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[A-Za-z]{2}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# Unit Postcode"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                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RegexOptions.IgnorePatternWhitespace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wline (\n) now included! – VB either append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&amp; chr(10) &amp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r use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(?#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at are Regular Expressions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werful, flexible, and efficient method for processing text\string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se large amounts of text to find specific character patt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ce found; can extract, edit, replace, or delete text substr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gular expressions is the term used to describe this powerful pattern language and the patterns themsel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so know as reg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9000"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lternation- |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tches any one of the terms separated by the | (vertical bar) character e.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iouser|Not so curiouse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parentheses to limit the scope e.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our|4)th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tches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fourt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day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4t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day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78000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tomic Zero-Width Assertion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002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1628640"/>
          <a:ext cx="8497800" cy="3697200"/>
        </p:xfrm>
        <a:graphic>
          <a:graphicData uri="http://schemas.openxmlformats.org/drawingml/2006/table">
            <a:tbl>
              <a:tblPr/>
              <a:tblGrid>
                <a:gridCol w="547560"/>
                <a:gridCol w="7950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^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 at the beginning of a line\string depending on Multiline o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 at the end of a line\string depending on Multiline o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 the beginning of the string (ignores the Multiline optio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 the end of the string or before \n at the end of the string (ignores the Multiline option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 must occur at the end of the string (ignores the Multiline option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 at the boundary between \w (alphanumeric) and \W (nonalphanumeric) charact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\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ch must not occur on a \b boundar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8000"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ret and Dolla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002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^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-Z]{1,2}\d[0-9A-Z]? \d[A-Z]{2}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gexOptions.Multi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‘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Changes the meaning of ^ and $ so they match at the beginning and end, respectively, of any line, and not just the beginning and end of the entire string. 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6000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ord Boundaries - \b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 - 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\b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You mean you can't #%&amp;?* take less,'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id the     Hatte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 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an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 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 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#%&amp;?*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ss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'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id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     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tter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Non Word Boundaries - \B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 - 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\B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You mean you can't #%&amp;?* take less,'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id the     Hatte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Y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 m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't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#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 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 | | | |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Group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se Grouping f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lternation: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(mousetraps|moon|memor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Quantifiers: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(\s)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ackreference – match a previousily matched t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ubstitution – insert the matched text in a replacement str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named Groups – 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nnamed Backreference construct: 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\1  \2  \3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nnamed Substitution construct: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$1  $2  $3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nnamed backreference examp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\b\w+)\s+\1\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twinkle twinkl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little bat!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Groups Continued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amed Groups: 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(?&lt;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med Substitution Contruct: 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${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med Backrefernce Construct: 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\k&lt;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(?&lt;word&gt;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\b\w+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\s+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\k&lt;word&gt;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\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ouping captures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n capturing groups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(?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…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Option.ExplicitCapture prevents capturing for unnamed grou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ubstitution – Examp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15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\S+)(.*\s)(\S+)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place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15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$3$2$1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15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y what you mean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15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mea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what you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say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73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7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ring myResult = Regex.Replace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ay what you mean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57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\S+)(.*\s)(\S+)”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”$3$2$1”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ass: Match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Captur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llection of captures matched by the capturing group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llection of groups matched by the regex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Inde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ger where the first character was fou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Leng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length of the captured substr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Succes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ool indicating whether the match is successfu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Valu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ptured substring from the input str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NextMatc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turns a new Match object for the next mat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Resul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turns the expansion of a passed replacement pattern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ass: Group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Captur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llection of captures matched by the capturing group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Inde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ger where the first character was fou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Leng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length of the captured subst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Succes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ool indicating whether the match is successfu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Valu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ptured substring from the input str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Flavours of Regex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ep – Global Regular Expression Pr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so Java, JScript, VB, VBScript, JavaScript C, C++, elisp, Perl, Python, Tcl, Ruby, PHP, sed, awk and ot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now .Net - ‘Perl compatible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0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lass: Captur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ger where the first character was fou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Leng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ength of the captured subst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ptured substring from the input str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Match Captures Collect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      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\d?\d\s(\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)\s(\d\d)+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wis Carol was born on: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18 January 183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Match Value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18 January 1832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Match Capture 0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18 January 1832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od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 r = new Regex(@"\d?\d\s(\w+)\s(\d\d)+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tch m = r.Match(@"Lewis Carol was born on: 18 January 1832."); </a:t>
            </a:r>
            <a:r>
              <a:rPr b="0" lang="en-GB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(int i = 0; i &lt; m.Groups.Count; i++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roup g = m.Groups[i]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sole.WriteLine("Group "+i+" = '" + g + "', Position = "+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g.Index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ptureCollection cc = g.Captur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(int j = 0; j &lt; cc.Count; j++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pture c = cc[j]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sole.WriteLine("Group Capture "+j+" = '" + c +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"', Position = "+c.Index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Group.Captur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      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\d?\d\s(\w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+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)\s(\d\d)+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wis Carol was born on: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18 January 183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0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18 January 1832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0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18 January 1832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1 = 'January', Position = 2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January', Position = 2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2 = '32', Position = 3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18', Position = 36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1 = '32', Position = 3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Group.Captur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      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d?\d\s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(\w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+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s(\d\d)+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wis Carol was born on: 18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Januar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1832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1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January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2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0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January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2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2 = '32', Position = 3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18', Position = 36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1 = '32', Position = 3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Group.Captur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      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d?\d\s(\w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+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)\s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(\d\d)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wis Carol was born on: 18 January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183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1 = 'January', Position = 2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January', Position = 2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2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32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3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0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18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36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1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32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3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nnamed Capture Dange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      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d?\d\s(\w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+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)\s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(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d\d)+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3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wis Carol was born on: 18 January 1832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1 = 'January', Position = 2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January', Position = 2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2 = ‘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1832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3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0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1832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36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3 = '32', Position = 3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Noncapturing group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d?\d\s(\w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+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)\s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?: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d\d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wis Carol was born on: 18 January 1832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1 = 'January', Position = 2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0 = 'January', Position = 2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Mixing Named &amp; Unnamed Captur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d?\d\s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(?&lt;month&gt;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w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+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s(\d\d)+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wis Carol was born on: 18 January 1832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Group Capture 0 = '18 January 1832', Position = 25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1 = '32', Position = 3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0 = '18', Position = 36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1 = '32', Position = 3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2 = '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January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', Position = 28'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Group Capture 0 = 'January', Position = 28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Named Groups Indexe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d?\d\s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(?&lt;month&gt;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w</a:t>
            </a: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+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\s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?&lt;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year</a:t>
            </a:r>
            <a:r>
              <a:rPr b="0" lang="pl-PL" sz="2400" spc="-1" strike="noStrike">
                <a:solidFill>
                  <a:srgbClr val="ffcc00"/>
                </a:solidFill>
                <a:latin typeface="Tahoma"/>
              </a:rPr>
              <a:t>&gt;</a:t>
            </a:r>
            <a:r>
              <a:rPr b="0" lang="pl-PL" sz="2400" spc="-1" strike="noStrike">
                <a:solidFill>
                  <a:srgbClr val="00ccff"/>
                </a:solidFill>
                <a:latin typeface="Tahoma"/>
              </a:rPr>
              <a:t>(\d\d)+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wis Carol was born on: 18 January 1832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Code: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Regex r = new Regex(@"\d?\d\s(?&lt;month&gt;\w+)\s(?&lt;year&gt;(\d\d)+)");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Match m = r.Match(@"Lewis Carol was born on: 18 January 1832.");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Console.WriteLine("Month = " + 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m.Groups["month"]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Console.WriteLine("Year = " + 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m.Groups["year"]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y use Regular Expressions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talk about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 of u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ML processing\HTTP header par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\data file par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id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sual Studio Find dialog bo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useful skill that can save you many hours of coding, but documentation leaves much to be des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4000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RegexOption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?imnsx-imnsx)  or (?imnsx-imnsx:  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2367000"/>
          <a:ext cx="8229600" cy="2722680"/>
        </p:xfrm>
        <a:graphic>
          <a:graphicData uri="http://schemas.openxmlformats.org/drawingml/2006/table">
            <a:tbl>
              <a:tblPr/>
              <a:tblGrid>
                <a:gridCol w="801720"/>
                <a:gridCol w="3025800"/>
                <a:gridCol w="4402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gnoreCa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cifies case-insensitive matching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ulti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nges the meaning of </a:t>
                      </a:r>
                      <a:r>
                        <a:rPr b="0" lang="en-US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^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and </a:t>
                      </a:r>
                      <a:r>
                        <a:rPr b="0" lang="en-US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$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licitCap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nnamed parentheses act as noncapturing group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le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uses dot (</a:t>
                      </a:r>
                      <a:r>
                        <a:rPr b="0" lang="en-US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to match \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gnorePatternWhitespa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iminates unescaped white space and enables commen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468360" y="5229360"/>
            <a:ext cx="8207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Example Regex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?i)curious(?-i).*Alice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Text: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CURIOUSER and curiouser!" cried Alice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gex – Literal &amp; Metacharac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racter Classes –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[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]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[^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racter Class Shorthands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\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\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\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\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 \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\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racter Escapes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\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- Regex.Escape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Quantifiers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{n,m}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?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*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ments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(?#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ternation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tomic Zero Width Assertions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^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$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\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ouping name\unnamed, Captu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gnposts for the Road Ahead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okahead\Lookbehi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eediness\Laziness\Backt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mis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ally rules when writing a regex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est, test, t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cument\Com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med groups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(?&lt;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&gt;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ere to Get More Informatio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stering Regular Expressions - Jeffrey E. F. Frie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’Reilly – ISBN 0-596-00289-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bsi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regxlib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ee Too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sellsbrothers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Introduction to the class: Regex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amespace: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ystem.Text.RegularExpression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.IsMatch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arge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pattern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00ccff"/>
                </a:solidFill>
                <a:latin typeface="Tahoma"/>
              </a:rPr>
              <a:t>option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returns b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.Replace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arge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pattern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replacement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00ccff"/>
                </a:solidFill>
                <a:latin typeface="Tahoma"/>
              </a:rPr>
              <a:t>option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returns the modified St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.Split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arge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pattern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00ccff"/>
                </a:solidFill>
                <a:latin typeface="Tahoma"/>
              </a:rPr>
              <a:t>option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returns string arr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.Match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arge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pattern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00ccff"/>
                </a:solidFill>
                <a:latin typeface="Tahoma"/>
              </a:rPr>
              <a:t>option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returns Match obje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gex.Matches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arge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pattern </a:t>
            </a:r>
            <a:r>
              <a:rPr b="0" lang="en-GB" sz="2000" spc="-1" strike="noStrike">
                <a:solidFill>
                  <a:srgbClr val="00cc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00ccff"/>
                </a:solidFill>
                <a:latin typeface="Tahoma"/>
              </a:rPr>
              <a:t>option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returns MatchColle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ffff"/>
                </a:solidFill>
                <a:latin typeface="Tahoma"/>
              </a:rPr>
              <a:t>The makings of a Regex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gular expressions consist of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iteral charact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xamples: </a:t>
            </a:r>
            <a:r>
              <a:rPr b="0" lang="en-GB" sz="1800" spc="-1" strike="noStrike">
                <a:solidFill>
                  <a:srgbClr val="00ccff"/>
                </a:solidFill>
                <a:latin typeface="Tahoma"/>
              </a:rPr>
              <a:t>A B C 1 2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ware literal characters are taken literally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etacharacters (aka Metasequences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pecial characters that gives regex its processing pow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xamples:  </a:t>
            </a:r>
            <a:r>
              <a:rPr b="0" lang="en-GB" sz="1800" spc="-1" strike="noStrike">
                <a:solidFill>
                  <a:srgbClr val="00ccff"/>
                </a:solidFill>
                <a:latin typeface="Tahoma"/>
              </a:rPr>
              <a:t>*  ?  \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ware have different meanings depending on th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ptions appli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2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Literal Characters – Example 1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15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15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Curiouser and curiouser!' cried Alice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515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'Curiouser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an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uriouser!' cried Alice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73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73840" indent="1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Regex can consist of just literal character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7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imes New Roman"/>
              </a:rPr>
              <a:t>MatchCollection myCol = Regex.Matches( @"Curiouser and curiouser", 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  <a:p>
            <a:pPr marL="350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GB" sz="2000" spc="-1" strike="noStrike">
                <a:solidFill>
                  <a:srgbClr val="00ccff"/>
                </a:solidFill>
                <a:latin typeface="Times New Roman"/>
              </a:rPr>
              <a:t>@"and", RegexOptions.None  ));</a:t>
            </a:r>
            <a:endParaRPr b="0" lang="en-US" sz="2000" spc="-1" strike="noStrike">
              <a:solidFill>
                <a:srgbClr val="00ccff"/>
              </a:solidFill>
              <a:latin typeface="Tahoma"/>
            </a:endParaRPr>
          </a:p>
        </p:txBody>
      </p:sp>
    </p:spTree>
  </p:cSld>
  <p:transition advTm="69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Literal Characters – Example 2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gex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r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Text: 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cat sat on the hearth, grinning from ear to ear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Tahoma"/>
              </a:rPr>
              <a:t>Result:</a:t>
            </a:r>
            <a:endParaRPr b="0" lang="en-US" sz="2400" spc="-1" strike="noStrike">
              <a:solidFill>
                <a:srgbClr val="00ccff"/>
              </a:solidFill>
              <a:latin typeface="Tahoma"/>
            </a:endParaRPr>
          </a:p>
          <a:p>
            <a:pPr lvl="1" marL="17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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cat sat on the h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ea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, grinning from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ea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ea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 concept of the English langua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push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20:06:29Z</dcterms:created>
  <dc:creator>Tim</dc:creator>
  <dc:description/>
  <dc:language>en-US</dc:language>
  <cp:lastModifiedBy>Tim</cp:lastModifiedBy>
  <dcterms:modified xsi:type="dcterms:W3CDTF">2003-04-02T23:24:02Z</dcterms:modified>
  <cp:revision>123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