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0CE-0E9E-44BF-A1DD-1CEBA609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AA9-92EF-4D17-AD12-B53A3C5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724-458E-4EE6-BCD7-13331BDC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15D-1725-4F01-A446-68D4ADFF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4CFF-458E-4E87-A6A1-0A7E3790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6018-E659-41EA-8D13-1E334A4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C6F-9C5D-40A5-A363-FB6515E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685-5DB8-4A56-9B5F-64E263E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3E8-E65C-4C85-8B21-BCDB41B1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EDFF-49F0-4CA4-97FE-824218DC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7AD-EB70-4DD1-BC5F-3B9E6AFC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FEB-4B57-45F1-9DE5-20271A6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BE1F-00DA-4D62-8B1A-96B46A71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86E-A369-4527-9D81-F22FE51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314-A76E-4E64-BC0A-6877CE0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5EA8-912F-4B87-98B9-9B492997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BE39-31EA-42B4-A526-3DF4935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2D7-FAC4-4349-AA02-99F6254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73F-1365-4A85-9B9E-0D6B4D49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55D-7E9B-405E-A6CC-A5D7476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1DB-663B-4D97-B60B-1356DFEE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64D-0F85-4865-BFF2-944385F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D98-F5BA-468D-8C3C-010D89E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39B-71D3-4804-8F59-D9872D12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856-AB48-49D8-A858-A7475849A09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4B1-9749-4509-8042-B47F6FD1BA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A84-CBF4-4D94-BF6D-D98B4BF5628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467-1148-4200-AA4F-571C5245C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elphi-jed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2320" y="304560"/>
            <a:ext cx="876132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rouble Shooting Bugs Improved with Jedi Power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447-08CE-4E1B-A37A-D22CE01FD02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F16864-1788-4631-8B15-934E21977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Humm… What is he talking about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one of those nasty bugs that has taken you ages to find but was so simple to f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troubles simulating the error and therefore trying to find the bug in order to fix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sounding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480-2140-456A-A611-4DFF0610F5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5B172-895D-494E-9F4A-D8048ED12FE3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ding and Fixing those Bugs of course!  Silly PowerPoint ;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i Code Library (J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-particular the JclDebug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B26-B9DA-40B3-A5C7-58EF755FC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06B88-6D37-49BB-8544-BB091ECFE1D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edi Code Library??  Pardon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have a common library of re-useab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were cleaver and actually did this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-Jedi is Open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More a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delphi-jedi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All The Code Free!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E0B-06CF-4E32-9454-9893F2D32F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E1B01-3A1D-41DE-8402-206F6EE702B4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JclDebug?   What's so specia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ain and time consumed tracking down som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clDebug provides useful routines for helping you fin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greatly reduce your pain tracking down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8C9-F8F8-46EA-9BE3-76589057AE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FBC90-2F17-4929-96D7-BA29E4800EC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Yeah Yeah Yeah – Prove I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B93-7C2D-4A25-914B-03995F71F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C4171-38F8-46C9-B3B8-465C1EE22407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.  Tracing problems…  Hours of searching through code, or trying to find the conditions that would exactly simulate the error the users are g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y, and ease your 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of this wonderfu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F9D-250E-4669-AFAE-2A0E440DBA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04063-81A1-40B3-9822-219C9389C35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End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this Presentation and Example Sourc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ilar approaches to help ease your lif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49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ttp://www.users.totalise.co.uk/~scott.price/articles/delphi/jcl/trouble-shooting-bugs/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C7F-18D8-4A2F-91E1-3A4B5BD86B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C6C07-537C-41EB-AF76-202314994289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Price</dc:creator>
  <dc:description/>
  <dc:language>en-US</dc:language>
  <cp:lastModifiedBy>Scott Price</cp:lastModifiedBy>
  <dcterms:modified xsi:type="dcterms:W3CDTF">2002-10-24T16:33:50Z</dcterms:modified>
  <cp:revision>14</cp:revision>
  <dc:subject>JclDebug</dc:subject>
  <dc:title>Trouble Shooting Bugs Improved with Jedi Power</dc:title>
</cp:coreProperties>
</file>