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.ckers.org/xs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pableobjects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lly Getting Started with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0960" y="5400360"/>
            <a:ext cx="86090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be a die-hard Delphi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 die-hard ECO L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9640" y="2473200"/>
            <a:ext cx="4152960" cy="166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140360"/>
            <a:ext cx="5900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 Black"/>
              </a:rPr>
              <a:t>http://www.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ECO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076120"/>
            <a:ext cx="9036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is not just an Object Relational Mapp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bject Persist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includes a built in subscrip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 can map it's data to numerous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s and this is relatively easily 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built in state machine mechanis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possibly best explained by the docu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come with the ECO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CO Pros &amp; C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360" y="1907640"/>
            <a:ext cx="953928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t of work done for you to make your life very much easier then normal database access, saves lots of tim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UML for easy communication and visu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based on top of the .NET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you to easily get up and ru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achines and callable objec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pace is a local cache, so uses memory and also is a cache of the data, so requires treatment appropri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OCL which is different to SQL and requires additional knowledge o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ot be considered the most efficient or academically correct database table structure or querying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ecure Your Site Soft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064960"/>
            <a:ext cx="8979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ross Site Scripting and JavaScript injection into Text Fields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a.ckers.org/xs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encode input that you're expect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you securely output data using En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%= Html.Encode(YourData) %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s this Example Availabl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0960" y="3060360"/>
            <a:ext cx="860904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will make this example available for UK D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code and presentation will be available in a zip archiv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I use ECO with the Examp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 trial version will work on models up to 12 classes for free, so download it and try it yourselves with more complex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apableobject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16160" y="1905120"/>
            <a:ext cx="80640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040" y="1909800"/>
            <a:ext cx="270036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lly Getting Started with EC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50960" y="4368960"/>
            <a:ext cx="860904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tt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cott@adecswe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CS (Norfolk)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vide custom/bespoke software development and training courses in select subjects to suit your specific needs or project fo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79640" y="1969920"/>
            <a:ext cx="5900760" cy="2241720"/>
            <a:chOff x="1979640" y="1969920"/>
            <a:chExt cx="5900760" cy="22417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879640" y="1969920"/>
              <a:ext cx="415296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979640" y="3637080"/>
              <a:ext cx="59007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4c4c4c"/>
                  </a:solidFill>
                  <a:latin typeface="Arial Black"/>
                </a:rPr>
                <a:t>http://www.adecsweb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Presentation and example Copyright © Scott Price (scott@adecsweb.com), ADECS (Norfolk) Limited (http://www.adecsweb.com).</dc:description>
  <cp:keywords>.NET ECO</cp:keywords>
  <dc:language>en-US</dc:language>
  <cp:lastModifiedBy/>
  <cp:revision>0</cp:revision>
  <dc:subject/>
  <dc:title>Really Getting Started with ECO</dc:title>
</cp:coreProperties>
</file>