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ha.ckers.org/xss.html" TargetMode="External"/><Relationship Id="rId2" Type="http://schemas.openxmlformats.org/officeDocument/2006/relationships/hyperlink" Target="http://blog.codeville.net/2008/09/01/prevent-cross-site-request-forgery-csrf-using-aspnet-mvcs-antiforgerytoken-helper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apableobjects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eblogs.asp.net/scottgu/" TargetMode="External"/><Relationship Id="rId2" Type="http://schemas.openxmlformats.org/officeDocument/2006/relationships/hyperlink" Target="http://www.hanselman.com/blog/" TargetMode="External"/><Relationship Id="rId3" Type="http://schemas.openxmlformats.org/officeDocument/2006/relationships/hyperlink" Target="http://haacked.com/" TargetMode="External"/><Relationship Id="rId4" Type="http://schemas.openxmlformats.org/officeDocument/2006/relationships/hyperlink" Target="http://weblogs.asp.net/stephenwalther/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sp.net/mvc/" TargetMode="External"/><Relationship Id="rId2" Type="http://schemas.openxmlformats.org/officeDocument/2006/relationships/hyperlink" Target="http://www.asp.net/learn/mvc-videos/#howdoi" TargetMode="External"/><Relationship Id="rId3" Type="http://schemas.openxmlformats.org/officeDocument/2006/relationships/hyperlink" Target="http://www.codeplex.com/aspnet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odeplex.com/Release/ProjectReleases.aspx?ProjectName=aspnet&amp;ReleaseId=18459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ASP.NET MVC Beta &amp; ECO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0960" y="5400360"/>
            <a:ext cx="860904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ott Pr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DECS (Norfolk) Lim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be a die-hard Delphi Develo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 die-hard ECO L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79640" y="2473200"/>
            <a:ext cx="4152960" cy="1667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79640" y="4140360"/>
            <a:ext cx="59007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 Black"/>
              </a:rPr>
              <a:t>http://www.adecsweb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The Model &amp; ECO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 is my chosen Business Model, which deals with any data persistence an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 are designed in UML, and then code is generated for you that controls your data retrieval and persistence, state machines, and even surfaces methods for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powerful features, including Subscriptions, State Machines, Object and Calculated Value Caching, Multiple Persistence Databases Supported to name only a f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The View(s)</a:t>
            </a: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8480" y="1938240"/>
            <a:ext cx="9336240" cy="55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 much potential here, being highly controllable by the developers in logical process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views can be anything, obviously initially we will often use it to generate .aspx type page outp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s very well with ASP.NET MVC Master Pages for base template, and content pages to provide focus on only that required in this specific 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just as well use this to output legacy HTML Versions/WAP compatible output/X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lling the view about strongly-typed data it might be receiving allows you compiler tested code, which will fail if there are errors. The compiler becomes friendly once again, even for (X)Html data outpu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ecure Your Site Softwa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2065320"/>
            <a:ext cx="897912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ware of Cross Site Scripting and JavaScript injection into Text Fields!!!!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ha.ckers.org/xs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encode input that you're expecting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ware of Cross Site Request Forgery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blog.codeville.net/2008/09/01/prevent-cross-site-request-forgery-csrf-using-aspnet-mvcs-antiforgerytoken-helper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you securely output data using Enco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%= Html.Encode(YourData) %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Testing Framework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ly easily pluggable testing framework choice during creation of a new ASP.NET MVC Web Ap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st of some of the options downloads is available on the CodePlex MVC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vailable by defaul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n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ownloadable extensio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BUn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ownloadable extensio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Un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ownloadable extensio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Is this Example Available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make this example available for UK D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code and presentation will be available in a zip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use ECO with the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 trial version will work on models up to 12 classes for free, so download it and try it yourselves with more complex tas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capableobject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Blogger's to Rea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Guth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eblogs.asp.net/scottg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Hansel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hanselman.com/blo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 Ha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haacked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hen Wal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eblogs.asp.net/stephenwalther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ASP.NET MVC Beta &amp; ECO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750960" y="4368960"/>
            <a:ext cx="8609040" cy="34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ott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scott@adecsweb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CS (Norfolk) Lim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provide custom/bespoke software development and training courses in select subjects to suit your specific needs or project foc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979640" y="1969920"/>
            <a:ext cx="5900760" cy="2241720"/>
            <a:chOff x="1979640" y="1969920"/>
            <a:chExt cx="5900760" cy="224172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2879640" y="1969920"/>
              <a:ext cx="415296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979640" y="3637080"/>
              <a:ext cx="59007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4c4c4c"/>
                  </a:solidFill>
                  <a:latin typeface="Arial Black"/>
                </a:rPr>
                <a:t>http://www.adecsweb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555120"/>
            <a:ext cx="918072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Microsoft ASP.NET &amp; Resourc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.NET MV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asp.net/mvc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ownload it from the link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asp.net/learn/mvc-videos/#howd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ovies and other tutorials availab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ePlex ASP.NET &amp; MV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codeplex.com/asp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elect MVC along the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You can download the source cod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55480" y="555480"/>
            <a:ext cx="89805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hat is Microsoft ASP.NET MVC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18920" y="2101320"/>
            <a:ext cx="8659800" cy="53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 fontScale="99000"/>
          </a:bodyPr>
          <a:p>
            <a:pPr marL="4273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omain-specific representation of t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against which the application oper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ndering of the appropriate information 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representation, e.g. GUI, XML Data Interchange, e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ro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ses and responds to events in yo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ftware, defining the way things interact wi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odel or vie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paration of responsibility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complexity and increase re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Let's see it working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ing a running VS2008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ly discuss some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site URL Format/Constr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of server processing, and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 data being displa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MVC Pros &amp; Con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0360" y="1907640"/>
            <a:ext cx="9539280" cy="53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ViewState or rebuild of component tree on posts back to the server, but simpilier Html controls values inst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ility to control respond to discrete verbs of HTT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ster then ASP.NET responses due to specific verb foc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arch Engine Friendly URL constructs &amp; high degree of user control in their appearance in this reg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eat control of output views, html/xml/whatev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y job specific focused code, making it easily testable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ViewState, so if you are used to ASP.NET and it's many controls, you may not be able to use some of them the way you are used 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ightly more coding to get some results whilst still in BE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Visual Studio Solution Content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 used in this 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.Eco.Web.Mv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MvcExample.Ad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MvcExample.Eco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MvcExample.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MvcExample.Mvc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MvcExample.MvcWebsite.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olution Required Component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979120" cy="50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.NET MVC Beta comprising assembl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Web.Ab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Web.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Web.Mv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.NET MVC Futures comprising assemb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.Web.Mv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codeplex.com/Release/ProjectReleases.aspx?ProjectName=aspnet&amp;ReleaseId=184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nit 2.4.8.* or gre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ino Mocks 3.4 or gre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 Version 4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Lets Go Through the VS Projec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 of an ASP.NET MVC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format of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the locations of the M, V &amp; C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the nam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shared aspect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quently Asked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 use Normal ASP.NET Pages as w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, with their associated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 use ASP.NET Web Services as w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, just like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The Controller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e controller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responsible for handling user requests, and bringing together the model and the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is works in ASP.NET MV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ing the things together to provide the desired result the user is ultimately interested in, whatever the view is for: XML/(X)HTML/EDI/some other output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Presentation and example Copyright © Scott Price (scott@adecsweb.com), ADECS (Norfolk) Limited (http://www.adecsweb.com).</dc:description>
  <cp:keywords>ASP.NET MVC ECO</cp:keywords>
  <dc:language>en-US</dc:language>
  <cp:lastModifiedBy/>
  <cp:revision>0</cp:revision>
  <dc:subject/>
  <dc:title>ASP.NET MVC Beta &amp; ECO</dc:title>
</cp:coreProperties>
</file>