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82F-57B6-454A-BD30-505B6272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44C-4891-4214-8530-FA2DFCA9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F84-C8FB-49D3-8312-B2789DC9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331-831E-434D-BB08-52798EB2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763C-86D4-49E2-927B-79D92889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A13A-2CD5-4074-AA1B-04242B11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6EBC-8AD2-47CC-96ED-6CB9E22C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51B8-214C-4F1A-8CDC-C3388E43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5702-B5FC-47E2-BCEE-9A40FB10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57CF-00C2-45D8-92A7-9649B679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4B76-BAC9-4E4F-97C7-4754F480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FF4-2BF4-44F0-A444-B9D2F542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0844-167F-4E39-9F66-BBB49CDF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0CA3-D145-4322-8245-AB08278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4280-31B7-4974-B568-F940B8EA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0445-69FA-430B-B5D6-C7163FCD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FD9A-4491-4CCB-8F74-0565DD0E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EA0-7CCA-4273-B3E7-B625BEC3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588-EA07-4B36-9255-2B168A9B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5BB-89CB-4AA4-82CC-9FD1B5D3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7E5-B74C-4C6F-B42F-89B54DC9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A44-1318-465E-9A1C-52C7D2EA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08D-9B02-4D4B-9584-7800537A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88C-1C42-44A7-9CBF-D9DB08FB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FE21-9F3F-476A-912D-0A9220275BB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AEB7-C530-47A9-BCF4-EDAEAC4A31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2009-7549-45A3-A889-3A6E6A493B6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6131-575E-4CBD-A500-D42A8E53F2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elphi-jedi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2320" y="304560"/>
            <a:ext cx="876132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Trouble Shooting Bugs Improved with Jedi Power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14800" y="35809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tt 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D7ED-8155-4611-A57A-76ECCCA4192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35C9D40-9AF3-48E8-986B-3FDBAC7D91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e End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wnload this Presentation and Example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similar approaches to help ease your life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ld and New Examples there, and feel free to contact me by emai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cott.price@totalise.co.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946-5EC7-42D4-802B-96ADA4AD73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E7BFE-3F0C-42EB-A192-1A0E7A1B9686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Humm… What is he talking about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had one of those nasty bugs that has taken you ages to find but was so simple to fi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had troubles simulating the error and therefore trying to find the bug in order to fix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sounding famili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393-F895-496C-96AA-F49A230403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C3521-998E-4002-82D7-D8E412A666EA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ding and Fixing those Bugs of course!  Silly PowerPoint ;-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di Code Library (J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-particular the JclDebug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97B-0AAA-4AC7-9EC4-8141547AE0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4F8AF-31C5-411C-BC74-922D7C462461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Jedi Code Library??  Pardon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hould have a common library of re-useab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eople were cleaver and actually did this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-Jedi is Open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More at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delphi-jedi.org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Get All The Code Free!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65C-7D5B-4849-BA63-D8A72E51B9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F0DA8-6D61-40C6-804F-9960BBE9ACF8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JclDebug?   What's so special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ain and time consumed tracking down some 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clDebug provides useful routines for helping you find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an greatly reduce your pain tracking down 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ck and Frame tracing options available to help boost you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9E9-E4E1-46C0-9166-50272209F7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768DD-69C1-443E-A6DF-21CDD7CC3B58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Yeah Yeah Yeah – Prove It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it work for GUI Applic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it work for Non-GUI Applic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758-BB41-4248-BD06-9947698787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DE4E4-3CEF-4F86-9E0F-641B70F7AB10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GUI Applica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Dialog example provided, or create your own object instances to handle un-handled ex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you to choose how to record this usefu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34A-AA1A-440B-8DD0-2215422E1D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6DA38-B9F1-4720-9D7D-582A879B2A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al Lif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.  Tracing problems…  Hours of searching through code, or trying to find the conditions that would exactly simulate the error the users are g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y, and ease your debu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se of this wonderfu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1AA-69DE-46A0-880C-4E7FDD7C60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8B70C-0A39-4247-9BFB-2C306FA36F17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Non-Visual Applica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I still get this useful information about excep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 get information telling me if there was an exception handler that processed this excep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4F6-EE7F-4ABF-886C-B1605B2D0F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F1A56-42EF-467F-BA0F-3045C279AF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Price</dc:creator>
  <dc:description/>
  <dc:language>en-US</dc:language>
  <cp:lastModifiedBy>Scott Price</cp:lastModifiedBy>
  <dcterms:modified xsi:type="dcterms:W3CDTF">2003-09-15T17:11:14Z</dcterms:modified>
  <cp:revision>18</cp:revision>
  <dc:subject>JclDebug</dc:subject>
  <dc:title>Trouble Shooting Bugs Improved with Jedi Power</dc:title>
</cp:coreProperties>
</file>