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0AF0-F01B-4F7F-8017-541C177C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9AE-F316-4E66-BAAC-4BC91CE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FFB-DC35-4CDE-A1AA-6100DDC3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F8D-F2F2-47C5-9FFF-C2FE5624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77ED-DD5E-4DD5-B26A-E80BC955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9211-223E-4EFD-8767-43731D8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F0C9-D778-421D-AAC0-C126BEC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B0D5-4635-42C3-A959-DDC82A4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0E6E-8199-48C4-8930-5891321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8123-A8A4-4A38-BF21-F8256445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D2FE-8DCD-4114-BBF2-B2EA8D9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D5B-193D-4189-8971-30ABD388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B0A-9E4E-4AF0-A445-857D8E21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8FC4-EF33-4F86-BA96-CFD423E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A127-397D-4926-880B-640EBB4C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1DF5-ED71-4CAD-B693-53CD61E5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934-0A5F-4026-9E49-0C2B9E59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324-72E8-4B06-8D06-623B56F9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A17-52A3-45EC-BF5D-B8E099A8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86E9-8B06-4FA8-9226-A17B31BB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9D6-1544-406B-96C9-38DCE87C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485-E605-4A95-873E-5DD362D5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1CD-7815-4697-B35F-D26628EA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B37-C508-4A06-9549-9A95F46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48E9-2141-4816-B321-56E98AB0B7F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C3FB-6F54-4A38-95AB-7C06174F5A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009E-4F07-4407-BE0D-A1C14B7D52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4062-A194-4C7F-81E9-CC7C6D16DC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elphi-jedi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2320" y="304560"/>
            <a:ext cx="8761320" cy="15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rouble Shooting Bugs Improved with Jedi Power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14800" y="35809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tt 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25E8-AE38-4CBF-91D3-87E9953D40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2AE80E6-609B-4F1F-A551-39D5EF4955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Humm… What is he talking about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one of those nasty bugs that has taken you ages to find but was so simple to fi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had troubles simulating the error and therefore trying to find the bug in order to fix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sounding famili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BE4-80DC-40CB-ACD4-AE4F68EAB7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FC2ED-4A7B-45A8-80B0-1C66F2626F79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opics of Discuss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nding and Fixing those Bugs of course!  Silly PowerPoint ;-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edi Code Library (Jc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-particular the JclDebug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EF9-1501-4FC8-B7BC-26F52931B6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FB659-6C87-42A9-958E-9BDAB6BC3DB9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edi Code Library??  Pardon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hould have a common library of re-useabl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eople were cleaver and actually did this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-Jedi is Open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More a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http://www.delphi-jedi.org/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Get All The Code Free!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370-086A-4631-AFFD-DDE3BD8E1F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189F0-1FBE-42E9-BFFD-082EC70BAFF3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Arial Narrow"/>
              </a:rPr>
              <a:t>JclDebug?   What's so special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ain and time consumed tracking down som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clDebug provides useful routines for helping you find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an greatly reduce your pain tracking down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515A-68CD-41A6-96CF-8135A828FC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1E6D-2C49-4963-BA3C-E7DF16E3EA5A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Yeah Yeah Yeah – Prove It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this t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ing information and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relates to your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437-4D63-4D3E-B616-F91EE34760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FE182-200F-4865-A0EE-45B6D7555E3B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al Lif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in.  Tracing problems…  Hours of searching through code, or trying to find the conditions that would exactly simulate the error the users are g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fy, and ease your 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se of this wonderfu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625-C672-4953-B18B-D75AD2DA4C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D0137-F299-401C-84B8-CBBE8DE9BBC6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End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this Presentation and Example Source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imilar approaches to help ease your lif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4920"/>
            <a:ext cx="9144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http://www.users.totalise.co.uk/~scott.price/articles/delphi/jcl/trouble-shooting-bugs/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di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49A-6909-4310-B864-78A02B29AC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D9864-1DAC-4FEA-A091-AF75B3B464EE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Price</dc:creator>
  <dc:description/>
  <dc:language>en-US</dc:language>
  <cp:lastModifiedBy>Scott Price</cp:lastModifiedBy>
  <dcterms:modified xsi:type="dcterms:W3CDTF">2002-10-24T16:33:50Z</dcterms:modified>
  <cp:revision>14</cp:revision>
  <dc:subject>JclDebug</dc:subject>
  <dc:title>Trouble Shooting Bugs Improved with Jedi Power</dc:title>
</cp:coreProperties>
</file>