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A740-1128-4731-9993-68362039B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65EB-82D9-4C5A-AC41-84C960920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D3E0-1F7A-4365-A2EE-F767F4747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844F-FFB1-47F6-B166-E42358F7C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DECD9-180F-4330-B580-7BBE60353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B2907-2F1F-4BB1-82C1-67710B3F1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B982C-C179-45AF-A630-CD5A13B06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E9C97-06EF-4550-BBD6-6DEBD6BCF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AF00F-8D0B-4CA3-B901-91C9AB20B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7058B-7EEC-4A33-9F89-60A72DD33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1BF3F-7B48-4545-88E9-3408C25BA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154A-4E68-4D63-ABCD-04FBDF98C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E2C17-64B1-4524-A496-7F384B428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5C46F-C371-4C28-A440-F6B21E0D0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011C8-8B64-4BD0-824F-BC70B4601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3EBF7-E028-41FB-A7F1-82AA93577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78E59-77A9-47F4-8BFD-5919A1041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2C2D-4C37-4B01-AC52-D03ECB53B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33EA-E6E1-42BA-A920-D91D52486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B59A-6B81-426B-A262-E39CD1DF5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0671-B570-4767-BB84-933187BF2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D679-5432-4371-B6A4-92A14B965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918F-8664-456C-A148-1B3F89A9D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33AE-8FDE-4DE1-8148-121B2C63B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B9620-225A-401C-A0B3-2076E8F5472C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AF1BD-E708-4A02-8023-7D864348765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C4CA7-D939-49F3-B0E2-435BDE8CAAAF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B5DC6-5436-460E-B5BB-B32FCA7B65E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2320" y="304560"/>
            <a:ext cx="8761320" cy="156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Arial"/>
                <a:ea typeface="Times New Roman"/>
              </a:rPr>
              <a:t>Passing Some</a:t>
            </a:r>
            <a:br>
              <a:rPr sz="6600"/>
            </a:br>
            <a:r>
              <a:rPr b="1" lang="en-US" sz="6600" spc="-1" strike="noStrike">
                <a:solidFill>
                  <a:srgbClr val="ffffcc"/>
                </a:solidFill>
                <a:latin typeface="Arial"/>
                <a:ea typeface="Times New Roman"/>
              </a:rPr>
              <a:t> Data Around</a:t>
            </a:r>
            <a:r>
              <a:rPr b="1" lang="en-US" sz="6600" spc="-1" strike="noStrike">
                <a:solidFill>
                  <a:srgbClr val="ffffcc"/>
                </a:solidFill>
                <a:latin typeface="Arial Narrow"/>
              </a:rPr>
              <a:t> 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14800" y="35809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ott Pr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ross-Process Data Throw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7BD12-B182-4DBF-B5C2-DD9BBB93DA3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D77E8C84-B3D8-4F1E-9341-15E8839A8E9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380880"/>
            <a:ext cx="60958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cc"/>
                </a:solidFill>
                <a:latin typeface="Arial Narrow"/>
              </a:rPr>
              <a:t>Humm… What is he talking about?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r had the need to pass data between running application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sure how to do i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ross-Process Data Throw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559D-7966-4279-9BB1-4840C6FCFB8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02B9A9-CD77-4DCA-9D59-F17A1D12DCB6}" type="datetime1">
              <a:rPr lang="en-US"/>
              <a:t>07/28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Topics of Discussion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M_CopyData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emory Mapping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M/ActiveX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ross-Process Data Throw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1E43-BB7A-4B09-A2D7-DC59D330C2A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CFB3A2-AD8B-4062-88F8-211B2042232C}" type="datetime1">
              <a:rPr lang="en-US"/>
              <a:t>07/28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cc"/>
                </a:solidFill>
                <a:latin typeface="Arial Narrow"/>
              </a:rPr>
              <a:t>WM_CopyData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ndard Windows Messaging system util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vailable to all applications that can handle mess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ld approach, often over-looked for newer 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ill works as inten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constraints to be aware o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ross-Process Data Throw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F068-648D-4419-A429-E97ACA10A10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59B4BE-8A5B-49AE-9346-34EB12B8445C}" type="datetime1">
              <a:rPr lang="en-US"/>
              <a:t>07/28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Memory Mapping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ory mapping??  Comes with route planner does i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ttle u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st means of transferring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constraints to be aware o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ross-Process Data Throw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E668-73DE-4A3A-8F9F-E6494F07090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A5DC2F-9998-4D38-89E2-F14150642E86}" type="datetime1">
              <a:rPr lang="en-US"/>
              <a:t>07/28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OM/ActiveX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M has a useful interface defined called IStream which can be passed as a parame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o not have to resort to using arrays of Varia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ice converters for IStream and TStream classes called TStreamAdap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ross-Process Data Throw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9062-4173-4885-8116-BCA5FE5C0BD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74E161-D05F-494F-AC65-C6110E47B61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Stream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xceptionally helpful when wanting to transfer large chunks of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an be used in all cases, but has to be converted to IStream for COM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asy and simple t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ome existing classes already take account of streams, so inher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ross-Process Data Throw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D121-11D7-4D80-BB43-47B374B38FE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D56986-01A6-46E5-9DB0-13783197477C}" type="datetime1">
              <a:rPr lang="en-US"/>
              <a:t>07/28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Real Life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times we have limits of the target system, and need to work with the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’t always choose the latest solution due to platform compati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oose what is most suitable, not just a popular op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ross-Process Data Throw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7074-D5A9-420D-9B97-19B312EF174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502BFC-ADF8-43A4-AA13-68D3FBFCE1DB}" type="datetime1">
              <a:rPr lang="en-US"/>
              <a:t>07/28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19160" y="837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The End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609588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wnload this Presentation and Example Source C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similar approaches where helpful to ease your life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ross-Process Data Throw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AB57-4CC2-49EE-BF8E-81A168999F6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DA29B7-AD02-4B0C-99FF-F12606A8C2AE}" type="datetime1">
              <a:rPr lang="en-US"/>
              <a:t>07/28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cott Price</dc:creator>
  <dc:description/>
  <dc:language>en-US</dc:language>
  <cp:lastModifiedBy>Scott Price</cp:lastModifiedBy>
  <dcterms:modified xsi:type="dcterms:W3CDTF">2003-04-06T17:20:19Z</dcterms:modified>
  <cp:revision>22</cp:revision>
  <dc:subject>JclDebug</dc:subject>
  <dc:title>Trouble Shooting Bugs Improved with Jedi Power</dc:title>
</cp:coreProperties>
</file>