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573360" y="755640"/>
            <a:ext cx="3078360" cy="23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89000" y="3203640"/>
            <a:ext cx="6480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ftr" idx="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anklin Gothic Medi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Franklin 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9F5D-7B4D-42CC-BCB7-29CBBD1B977B}" type="slidenum">
              <a:rPr b="0" lang="en-GB" sz="1200" spc="-1" strike="noStrike">
                <a:solidFill>
                  <a:srgbClr val="000000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532720"/>
            <a:ext cx="6858000" cy="611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8532720"/>
            <a:ext cx="6858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45000" y="8388360"/>
            <a:ext cx="1413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Logo 95"/>
                <a:ea typeface="Microsoft Logo 95"/>
              </a:rPr>
              <a:t>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11280"/>
            <a:ext cx="6858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54600" y="108000"/>
            <a:ext cx="11034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Franklin Gothic Medium"/>
              </a:rPr>
              <a:t>Page </a:t>
            </a:r>
            <a:fld id="{8D696ACA-DB65-4A5F-9D20-7AF183AB55B6}" type="slidenum">
              <a:rPr b="0" lang="en-GB" sz="12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3480" y="2894040"/>
            <a:ext cx="117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Medium"/>
              </a:rPr>
              <a:t>Slide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5360" y="108000"/>
            <a:ext cx="5040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Franklin Gothic Medium"/>
              </a:rPr>
              <a:t>Microsoft .NE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Franklin Gothic Book"/>
              </a:rPr>
              <a:t>Software for connecting information, people, systems and de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5520" y="84240"/>
            <a:ext cx="897120" cy="455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-18000" y="8604360"/>
            <a:ext cx="5409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Franklin Gothic Medium"/>
              </a:rPr>
              <a:t>© 2003 Microsoft Ltd.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Franklin Gothic Medium"/>
              </a:rPr>
              <a:t>Visit </a:t>
            </a:r>
            <a:r>
              <a:rPr b="0" i="1" sz="1000" spc="-1" strike="noStrike">
                <a:solidFill>
                  <a:srgbClr val="ffffff"/>
                </a:solidFill>
                <a:latin typeface="Franklin Gothic Medium"/>
              </a:rPr>
              <a:t>http://</a:t>
            </a:r>
            <a:r>
              <a:rPr b="0" i="1" lang="en-GB" sz="1000" spc="-1" strike="noStrike">
                <a:solidFill>
                  <a:srgbClr val="ffffff"/>
                </a:solidFill>
                <a:latin typeface="Franklin Gothic Medium"/>
              </a:rPr>
              <a:t>msdn.microsoft.com for more information about our developer tools and servic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D053-08FA-4DC1-8279-DF4296F573AD}" type="slidenum">
              <a:rPr b="0" lang="en-GB" sz="1200" spc="-1" strike="noStrike">
                <a:solidFill>
                  <a:srgbClr val="000000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anklin Gothic Medi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07AF-35D0-432F-97F3-FBF903274E32}" type="slidenum">
              <a:rPr b="0" lang="en-GB" sz="1200" spc="-1" strike="noStrike">
                <a:solidFill>
                  <a:srgbClr val="000000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anklin Gothic Medi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43D4-EAF2-4D96-A23A-ED2CEB2253D3}" type="slidenum">
              <a:rPr b="0" lang="en-GB" sz="1200" spc="-1" strike="noStrike">
                <a:solidFill>
                  <a:srgbClr val="000000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anklin Gothic Medi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3B6A-AEF2-4F7D-9F8A-8A973D1BD5B7}" type="slidenum">
              <a:rPr b="0" lang="en-GB" sz="1200" spc="-1" strike="noStrike">
                <a:solidFill>
                  <a:srgbClr val="000000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anklin Gothic Medi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353D-3EB4-4C99-BDA5-0DB3439F7B2E}" type="slidenum">
              <a:rPr b="0" lang="en-GB" sz="1200" spc="-1" strike="noStrike">
                <a:solidFill>
                  <a:srgbClr val="000000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anklin Gothic Medi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F86F-159F-4BEE-A524-DC77E86EDCCD}" type="slidenum">
              <a:rPr b="0" lang="en-GB" sz="1200" spc="-1" strike="noStrike">
                <a:solidFill>
                  <a:srgbClr val="000000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anklin Gothic Mediu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eb98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eb98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eb98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eb98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Click to edit the title text format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7080" indent="-3898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246320" indent="-397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579320" indent="-3315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890360" indent="-2970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890360" indent="-2970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890360" indent="-2970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4120" y="1115280"/>
            <a:ext cx="77724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eb98"/>
                </a:solidFill>
                <a:latin typeface="Franklin Gothic Book"/>
              </a:rPr>
              <a:t>Click to edit the outline text format</a:t>
            </a:r>
            <a:endParaRPr b="0" lang="en-US" sz="3600" spc="-1" strike="noStrike">
              <a:solidFill>
                <a:srgbClr val="fceb98"/>
              </a:solidFill>
              <a:latin typeface="Franklin Gothic Book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857160" algn="ctr">
              <a:lnSpc>
                <a:spcPct val="90000"/>
              </a:lnSpc>
              <a:spcBef>
                <a:spcPts val="901"/>
              </a:spcBef>
              <a:buClr>
                <a:srgbClr val="ffdd4f"/>
              </a:buClr>
              <a:buSzPct val="5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260360" algn="ctr">
              <a:lnSpc>
                <a:spcPct val="90000"/>
              </a:lnSpc>
              <a:spcBef>
                <a:spcPts val="751"/>
              </a:spcBef>
              <a:buClr>
                <a:srgbClr val="ffdd4f"/>
              </a:buClr>
              <a:buSzPct val="5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609560" algn="ctr">
              <a:lnSpc>
                <a:spcPct val="90000"/>
              </a:lnSpc>
              <a:spcBef>
                <a:spcPts val="751"/>
              </a:spcBef>
              <a:buClr>
                <a:srgbClr val="ffdd4f"/>
              </a:buClr>
              <a:buSzPct val="5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60956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60956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4120" y="1114920"/>
            <a:ext cx="77724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What’s New in </a:t>
            </a:r>
            <a:br>
              <a:rPr sz="4400"/>
            </a:b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SQL Server “Yukon”?</a:t>
            </a:r>
            <a:endParaRPr b="0" lang="en-US" sz="44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3760" y="3789000"/>
            <a:ext cx="786132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eb98"/>
                </a:solidFill>
                <a:latin typeface="Franklin Gothic Book"/>
              </a:rPr>
              <a:t>Simon Davies</a:t>
            </a:r>
            <a:endParaRPr b="0" lang="en-US" sz="3200" spc="-1" strike="noStrike">
              <a:solidFill>
                <a:srgbClr val="fceb98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eb98"/>
                </a:solidFill>
                <a:latin typeface="Franklin Gothic Book"/>
              </a:rPr>
              <a:t>sdavies@microsoft.com</a:t>
            </a:r>
            <a:endParaRPr b="0" lang="en-US" sz="3200" spc="-1" strike="noStrike">
              <a:solidFill>
                <a:srgbClr val="fceb98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eb98"/>
                </a:solidFill>
                <a:latin typeface="Franklin Gothic Book"/>
              </a:rPr>
              <a:t>Developer &amp; Platform Group</a:t>
            </a:r>
            <a:endParaRPr b="0" lang="en-US" sz="3200" spc="-1" strike="noStrike">
              <a:solidFill>
                <a:srgbClr val="fceb98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eb98"/>
                </a:solidFill>
                <a:latin typeface="Franklin Gothic Book"/>
              </a:rPr>
              <a:t>Microsoft Ltd.</a:t>
            </a:r>
            <a:endParaRPr b="0" lang="en-US" sz="3200" spc="-1" strike="noStrike">
              <a:solidFill>
                <a:srgbClr val="fceb98"/>
              </a:solidFill>
              <a:latin typeface="Franklin Gothic Boo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588000" y="5549760"/>
            <a:ext cx="2556000" cy="13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6944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XML Support</a:t>
            </a:r>
            <a:br>
              <a:rPr sz="3600"/>
            </a:b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Flexible Storage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01880" y="4751280"/>
          <a:ext cx="6095880" cy="145584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5920"/>
                <a:gridCol w="1016280"/>
                <a:gridCol w="1015920"/>
              </a:tblGrid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F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d445e"/>
                        </a:gs>
                        <a:gs pos="50000">
                          <a:srgbClr val="6294cd"/>
                        </a:gs>
                        <a:gs pos="100000">
                          <a:srgbClr val="2d44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L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d445e"/>
                        </a:gs>
                        <a:gs pos="50000">
                          <a:srgbClr val="6294cd"/>
                        </a:gs>
                        <a:gs pos="100000">
                          <a:srgbClr val="2d44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Add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d445e"/>
                        </a:gs>
                        <a:gs pos="50000">
                          <a:srgbClr val="6294cd"/>
                        </a:gs>
                        <a:gs pos="100000">
                          <a:srgbClr val="2d44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d445e"/>
                        </a:gs>
                        <a:gs pos="50000">
                          <a:srgbClr val="6294cd"/>
                        </a:gs>
                        <a:gs pos="100000">
                          <a:srgbClr val="2d44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Fa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d445e"/>
                        </a:gs>
                        <a:gs pos="50000">
                          <a:srgbClr val="6294cd"/>
                        </a:gs>
                        <a:gs pos="100000">
                          <a:srgbClr val="2d44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X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d445e"/>
                        </a:gs>
                        <a:gs pos="50000">
                          <a:srgbClr val="6294cd"/>
                        </a:gs>
                        <a:gs pos="100000">
                          <a:srgbClr val="2d445e"/>
                        </a:gs>
                      </a:gsLst>
                      <a:lin ang="54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7370640" y="3782880"/>
            <a:ext cx="14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Medium"/>
              </a:rPr>
              <a:t>XML Data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Franklin Gothic Medium"/>
              </a:rPr>
              <a:t>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171920" y="4527720"/>
            <a:ext cx="460440" cy="436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506920" y="1662120"/>
            <a:ext cx="2210040" cy="2789280"/>
            <a:chOff x="5506920" y="1662120"/>
            <a:chExt cx="2210040" cy="2789280"/>
          </a:xfrm>
        </p:grpSpPr>
        <p:sp>
          <p:nvSpPr>
            <p:cNvPr id="124" name=""/>
            <p:cNvSpPr/>
            <p:nvPr/>
          </p:nvSpPr>
          <p:spPr>
            <a:xfrm>
              <a:off x="5506920" y="1662120"/>
              <a:ext cx="2210040" cy="990720"/>
            </a:xfrm>
            <a:prstGeom prst="rect">
              <a:avLst/>
            </a:prstGeom>
            <a:gradFill rotWithShape="0">
              <a:gsLst>
                <a:gs pos="0">
                  <a:srgbClr val="002041"/>
                </a:gs>
                <a:gs pos="50000">
                  <a:srgbClr val="00478e">
                    <a:alpha val="80392"/>
                  </a:srgbClr>
                </a:gs>
                <a:gs pos="100000">
                  <a:srgbClr val="002041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Franklin Gothic Medium"/>
                </a:rPr>
                <a:t>XM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84960" y="2774880"/>
              <a:ext cx="457200" cy="1676520"/>
            </a:xfrm>
            <a:prstGeom prst="downArrow">
              <a:avLst>
                <a:gd name="adj1" fmla="val 50000"/>
                <a:gd name="adj2" fmla="val 91673"/>
              </a:avLst>
            </a:prstGeom>
            <a:gradFill rotWithShape="0">
              <a:gsLst>
                <a:gs pos="0">
                  <a:srgbClr val="ffdd4f"/>
                </a:gs>
                <a:gs pos="100000">
                  <a:srgbClr val="7565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676160" y="1993680"/>
            <a:ext cx="4583520" cy="2730600"/>
            <a:chOff x="1676160" y="1993680"/>
            <a:chExt cx="4583520" cy="2730600"/>
          </a:xfrm>
        </p:grpSpPr>
        <p:sp>
          <p:nvSpPr>
            <p:cNvPr id="127" name=""/>
            <p:cNvSpPr/>
            <p:nvPr/>
          </p:nvSpPr>
          <p:spPr>
            <a:xfrm rot="2700000">
              <a:off x="4354920" y="2008080"/>
              <a:ext cx="609480" cy="1371600"/>
            </a:xfrm>
            <a:prstGeom prst="downArrow">
              <a:avLst>
                <a:gd name="adj1" fmla="val 50000"/>
                <a:gd name="adj2" fmla="val 56261"/>
              </a:avLst>
            </a:prstGeom>
            <a:gradFill rotWithShape="0">
              <a:gsLst>
                <a:gs pos="0">
                  <a:srgbClr val="ffdd4f"/>
                </a:gs>
                <a:gs pos="100000">
                  <a:srgbClr val="75652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676160" y="3962520"/>
              <a:ext cx="1447560" cy="6858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525400" y="3886200"/>
              <a:ext cx="903240" cy="7891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428640" y="3989520"/>
              <a:ext cx="87480" cy="7347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81280" y="3886200"/>
              <a:ext cx="849600" cy="7891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86200" y="3886200"/>
              <a:ext cx="1459080" cy="7891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91120" y="3886200"/>
              <a:ext cx="2068560" cy="789120"/>
            </a:xfrm>
            <a:prstGeom prst="line">
              <a:avLst/>
            </a:prstGeom>
            <a:ln w="63360">
              <a:solidFill>
                <a:srgbClr val="ffdd4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78040" y="3303720"/>
              <a:ext cx="1981440" cy="685800"/>
            </a:xfrm>
            <a:prstGeom prst="rect">
              <a:avLst/>
            </a:prstGeom>
            <a:gradFill rotWithShape="0">
              <a:gsLst>
                <a:gs pos="0">
                  <a:srgbClr val="35592b"/>
                </a:gs>
                <a:gs pos="50000">
                  <a:srgbClr val="74c35f">
                    <a:alpha val="80392"/>
                  </a:srgbClr>
                </a:gs>
                <a:gs pos="100000">
                  <a:srgbClr val="35592b"/>
                </a:gs>
              </a:gsLst>
              <a:lin ang="13500000"/>
            </a:gradFill>
            <a:ln w="12600">
              <a:solidFill>
                <a:srgbClr val="74c3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Franklin Gothic Medium"/>
                </a:rPr>
                <a:t>XML Vie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XML Support</a:t>
            </a:r>
            <a:br>
              <a:rPr sz="3600"/>
            </a:b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Flexible Query and DML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01880" y="4259160"/>
          <a:ext cx="6095880" cy="145584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5920"/>
                <a:gridCol w="1016280"/>
                <a:gridCol w="1015920"/>
              </a:tblGrid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F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d445e"/>
                        </a:gs>
                        <a:gs pos="50000">
                          <a:srgbClr val="6294cd"/>
                        </a:gs>
                        <a:gs pos="100000">
                          <a:srgbClr val="2d44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L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d445e"/>
                        </a:gs>
                        <a:gs pos="50000">
                          <a:srgbClr val="6294cd"/>
                        </a:gs>
                        <a:gs pos="100000">
                          <a:srgbClr val="2d44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Add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d445e"/>
                        </a:gs>
                        <a:gs pos="50000">
                          <a:srgbClr val="6294cd"/>
                        </a:gs>
                        <a:gs pos="100000">
                          <a:srgbClr val="2d44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d445e"/>
                        </a:gs>
                        <a:gs pos="50000">
                          <a:srgbClr val="6294cd"/>
                        </a:gs>
                        <a:gs pos="100000">
                          <a:srgbClr val="2d44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Fa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d445e"/>
                        </a:gs>
                        <a:gs pos="50000">
                          <a:srgbClr val="6294cd"/>
                        </a:gs>
                        <a:gs pos="100000">
                          <a:srgbClr val="2d44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X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d445e"/>
                        </a:gs>
                        <a:gs pos="50000">
                          <a:srgbClr val="6294cd"/>
                        </a:gs>
                        <a:gs pos="100000">
                          <a:srgbClr val="2d445e"/>
                        </a:gs>
                      </a:gsLst>
                      <a:lin ang="54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33519"/>
                        </a:gs>
                        <a:gs pos="50000">
                          <a:srgbClr val="fa7438"/>
                        </a:gs>
                        <a:gs pos="100000">
                          <a:srgbClr val="73351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 rot="5400000">
            <a:off x="3439800" y="1439640"/>
            <a:ext cx="228600" cy="5105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602080" y="2125800"/>
            <a:ext cx="3769200" cy="1866240"/>
            <a:chOff x="2602080" y="2125800"/>
            <a:chExt cx="3769200" cy="1866240"/>
          </a:xfrm>
        </p:grpSpPr>
        <p:sp>
          <p:nvSpPr>
            <p:cNvPr id="139" name=""/>
            <p:cNvSpPr/>
            <p:nvPr/>
          </p:nvSpPr>
          <p:spPr>
            <a:xfrm>
              <a:off x="2602080" y="2125800"/>
              <a:ext cx="1904760" cy="609480"/>
            </a:xfrm>
            <a:prstGeom prst="rect">
              <a:avLst/>
            </a:prstGeom>
            <a:gradFill rotWithShape="0">
              <a:gsLst>
                <a:gs pos="0">
                  <a:srgbClr val="002041"/>
                </a:gs>
                <a:gs pos="50000">
                  <a:srgbClr val="00478e">
                    <a:alpha val="80392"/>
                  </a:srgbClr>
                </a:gs>
                <a:gs pos="100000">
                  <a:srgbClr val="002041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Franklin Gothic Medium"/>
                </a:rPr>
                <a:t>SQ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52680" y="2811600"/>
              <a:ext cx="457200" cy="838080"/>
            </a:xfrm>
            <a:prstGeom prst="downArrow">
              <a:avLst>
                <a:gd name="adj1" fmla="val 50000"/>
                <a:gd name="adj2" fmla="val 45827"/>
              </a:avLst>
            </a:prstGeom>
            <a:gradFill rotWithShape="0">
              <a:gsLst>
                <a:gs pos="0">
                  <a:srgbClr val="756524"/>
                </a:gs>
                <a:gs pos="50000">
                  <a:srgbClr val="ffdd4f"/>
                </a:gs>
                <a:gs pos="100000">
                  <a:srgbClr val="756524"/>
                </a:gs>
              </a:gsLst>
              <a:lin ang="5400000"/>
            </a:gradFill>
            <a:ln w="12600">
              <a:solidFill>
                <a:srgbClr val="fceb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048600">
              <a:off x="5202720" y="2346840"/>
              <a:ext cx="457200" cy="1915920"/>
            </a:xfrm>
            <a:prstGeom prst="downArrow">
              <a:avLst>
                <a:gd name="adj1" fmla="val 50000"/>
                <a:gd name="adj2" fmla="val 104764"/>
              </a:avLst>
            </a:prstGeom>
            <a:gradFill rotWithShape="0">
              <a:gsLst>
                <a:gs pos="0">
                  <a:srgbClr val="756524"/>
                </a:gs>
                <a:gs pos="50000">
                  <a:srgbClr val="ffdd4f"/>
                </a:gs>
                <a:gs pos="100000">
                  <a:srgbClr val="756524"/>
                </a:gs>
              </a:gsLst>
              <a:lin ang="8952000"/>
            </a:gradFill>
            <a:ln w="12600">
              <a:solidFill>
                <a:srgbClr val="fceb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59480" y="3390840"/>
            <a:ext cx="14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Medium"/>
              </a:rPr>
              <a:t>XML Data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Franklin Gothic Medium"/>
              </a:rPr>
              <a:t>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60760" y="4135320"/>
            <a:ext cx="460440" cy="43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34720" y="2125800"/>
            <a:ext cx="3720240" cy="1904760"/>
            <a:chOff x="3834720" y="2125800"/>
            <a:chExt cx="3720240" cy="1904760"/>
          </a:xfrm>
        </p:grpSpPr>
        <p:sp>
          <p:nvSpPr>
            <p:cNvPr id="145" name=""/>
            <p:cNvSpPr/>
            <p:nvPr/>
          </p:nvSpPr>
          <p:spPr>
            <a:xfrm>
              <a:off x="5649840" y="2125800"/>
              <a:ext cx="1905120" cy="609480"/>
            </a:xfrm>
            <a:prstGeom prst="rect">
              <a:avLst/>
            </a:prstGeom>
            <a:gradFill rotWithShape="0">
              <a:gsLst>
                <a:gs pos="0">
                  <a:srgbClr val="002041"/>
                </a:gs>
                <a:gs pos="50000">
                  <a:srgbClr val="00478e">
                    <a:alpha val="80392"/>
                  </a:srgbClr>
                </a:gs>
                <a:gs pos="100000">
                  <a:srgbClr val="002041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Franklin Gothic Medium"/>
                </a:rPr>
                <a:t>XQuer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35640" y="2811600"/>
              <a:ext cx="457200" cy="1218960"/>
            </a:xfrm>
            <a:prstGeom prst="downArrow">
              <a:avLst>
                <a:gd name="adj1" fmla="val 50000"/>
                <a:gd name="adj2" fmla="val 66654"/>
              </a:avLst>
            </a:prstGeom>
            <a:gradFill rotWithShape="0">
              <a:gsLst>
                <a:gs pos="0">
                  <a:srgbClr val="756524"/>
                </a:gs>
                <a:gs pos="50000">
                  <a:srgbClr val="ffdd4f"/>
                </a:gs>
                <a:gs pos="100000">
                  <a:srgbClr val="756524"/>
                </a:gs>
              </a:gsLst>
              <a:lin ang="5400000"/>
            </a:gradFill>
            <a:ln w="12600">
              <a:solidFill>
                <a:srgbClr val="fceb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rot="3551400">
              <a:off x="4541040" y="2348640"/>
              <a:ext cx="457200" cy="1905480"/>
            </a:xfrm>
            <a:prstGeom prst="downArrow">
              <a:avLst>
                <a:gd name="adj1" fmla="val 50000"/>
                <a:gd name="adj2" fmla="val 104193"/>
              </a:avLst>
            </a:prstGeom>
            <a:gradFill rotWithShape="0">
              <a:gsLst>
                <a:gs pos="0">
                  <a:srgbClr val="756524"/>
                </a:gs>
                <a:gs pos="50000">
                  <a:srgbClr val="ffdd4f"/>
                </a:gs>
                <a:gs pos="100000">
                  <a:srgbClr val="756524"/>
                </a:gs>
              </a:gsLst>
              <a:lin ang="8952000"/>
            </a:gradFill>
            <a:ln w="12600">
              <a:solidFill>
                <a:srgbClr val="fceb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XML Support</a:t>
            </a:r>
            <a:br>
              <a:rPr sz="3600"/>
            </a:b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Key Theme #2:  Interoperability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388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Yukon as an XML sourc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Accessible over HTTP and SOAP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Exposes all data as XM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Can be programmed just like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Web servic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Yukon as an XML store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Durable, recoverable, consisten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Mature management tool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Integration with existing relational data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XML Support</a:t>
            </a:r>
            <a:br>
              <a:rPr sz="3600"/>
            </a:b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Key New Features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4400" y="1904760"/>
            <a:ext cx="838836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8080" indent="-388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Native XML storage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17840" indent="-32796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XML data type and indexe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88080" indent="-388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XML query and data modification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17840" indent="-32796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XPath, XQuery, DM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88080" indent="-388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XML views on the database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17840" indent="-32796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Abstract the database as an XML source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88080" indent="-388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Typed and untyped XML data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17840" indent="-32796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XSD-based schema constraint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17840" indent="-32796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rade-off between flexibility and optimization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88080" indent="-388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Integrated support for Web Servic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17840" indent="-32796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HTTP/SOAP, WSD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88080" indent="-388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Rich XML APIs – inside and outside DB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17840" indent="-32796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eb98"/>
                </a:solidFill>
                <a:latin typeface="Franklin Gothic Book"/>
              </a:rPr>
              <a:t>XmlInfoSetReader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000" spc="-1" strike="noStrike">
                <a:solidFill>
                  <a:srgbClr val="fceb98"/>
                </a:solidFill>
                <a:latin typeface="Franklin Gothic Book"/>
              </a:rPr>
              <a:t>XQuery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 classes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2133720"/>
            <a:ext cx="8229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XML Data Type Suppo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114360" cy="161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701800" cy="2708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rcRect l="0" t="0" r="5037" b="0"/>
          <a:stretch/>
        </p:blipFill>
        <p:spPr>
          <a:xfrm>
            <a:off x="5724360" y="5589720"/>
            <a:ext cx="3202200" cy="1103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323a"/>
            </a:outerShdw>
          </a:effectLst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Relational Enhancements </a:t>
            </a:r>
            <a:br>
              <a:rPr sz="3600"/>
            </a:b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Key Theme:  Innovation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1480" indent="-411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Data types – </a:t>
            </a:r>
            <a:r>
              <a:rPr b="0" lang="en-US" sz="2400" spc="-1" strike="noStrike">
                <a:solidFill>
                  <a:srgbClr val="fceb98"/>
                </a:solidFill>
                <a:latin typeface="Franklin Gothic Book"/>
              </a:rPr>
              <a:t>VARCHAR(MAX)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400" spc="-1" strike="noStrike">
                <a:solidFill>
                  <a:srgbClr val="fceb98"/>
                </a:solidFill>
                <a:latin typeface="Franklin Gothic Book"/>
              </a:rPr>
              <a:t>DATE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400" spc="-1" strike="noStrike">
                <a:solidFill>
                  <a:srgbClr val="fceb98"/>
                </a:solidFill>
                <a:latin typeface="Franklin Gothic Book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400" spc="-1" strike="noStrike">
                <a:solidFill>
                  <a:srgbClr val="fceb98"/>
                </a:solidFill>
                <a:latin typeface="Franklin Gothic Book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Query enhancement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24320" indent="-3110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Recursive Queries (ANSI std)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24320" indent="-3110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New relational operators:  </a:t>
            </a:r>
            <a:r>
              <a:rPr b="0" lang="en-US" sz="2000" spc="-1" strike="noStrike">
                <a:solidFill>
                  <a:srgbClr val="fceb98"/>
                </a:solidFill>
                <a:latin typeface="Franklin Gothic Book"/>
              </a:rPr>
              <a:t>PIVOT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000" spc="-1" strike="noStrike">
                <a:solidFill>
                  <a:srgbClr val="fceb98"/>
                </a:solidFill>
                <a:latin typeface="Franklin Gothic Book"/>
              </a:rPr>
              <a:t>UNPIVOT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000" spc="-1" strike="noStrike">
                <a:solidFill>
                  <a:srgbClr val="fceb98"/>
                </a:solidFill>
                <a:latin typeface="Franklin Gothic Book"/>
              </a:rPr>
              <a:t>APPLY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Exception Handling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24320" indent="-3110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Handles transaction abort (catch)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tatement-level recompile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24320" indent="-3110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ewer recompiles, less costly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DDL Trigger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Queuing Primitiv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24320" indent="-3110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eb98"/>
                </a:solidFill>
                <a:latin typeface="Franklin Gothic Book"/>
              </a:rPr>
              <a:t>WAITFOR( SELECT | DELETE…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fceb98"/>
                </a:solidFill>
                <a:latin typeface="Franklin Gothic Book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000" spc="-1" strike="noStrike">
                <a:solidFill>
                  <a:srgbClr val="fceb98"/>
                </a:solidFill>
                <a:latin typeface="Franklin Gothic Book"/>
              </a:rPr>
              <a:t>UPDATE WITH OUTPU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ervice Broker, Event Notification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APIs And Languages</a:t>
            </a:r>
            <a:br>
              <a:rPr sz="3600"/>
            </a:b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Key Theme:  No Walls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8000" y="1905120"/>
            <a:ext cx="8388000" cy="45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82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Data can be programmed using relational, object, or XML API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4560" indent="-3603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eb98"/>
                </a:solidFill>
                <a:latin typeface="Franklin Gothic Book"/>
              </a:rPr>
              <a:t>DataSet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400" spc="-1" strike="noStrike">
                <a:solidFill>
                  <a:srgbClr val="fceb98"/>
                </a:solidFill>
                <a:latin typeface="Franklin Gothic Book"/>
              </a:rPr>
              <a:t>ObjectSpaces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400" spc="-1" strike="noStrike">
                <a:solidFill>
                  <a:srgbClr val="fceb98"/>
                </a:solidFill>
                <a:latin typeface="Franklin Gothic Book"/>
              </a:rPr>
              <a:t>XmlReader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82760" indent="-482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ame APIs available in-proc and on mid tier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4560" indent="-3603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In all three domain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82760" indent="-482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Can seamlessly view and query all database data as XML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4560" indent="-3603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Relational types and XML type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82760" indent="-482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Database logic can be invoked as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Web Servic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APIs And Languages</a:t>
            </a:r>
            <a:br>
              <a:rPr sz="3600"/>
            </a:b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API Enhancements:  ADO.NET V2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78000" y="1904760"/>
            <a:ext cx="838800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Multiple active result sets (MARS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Object Persistence FX (ObjectSpaces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Query notifications – for cache invalidatio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Parity with ADO (ADOX, etc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erver cursors (SqlResultSet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Asynchronous client acces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Bulk update, paging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User Defined Type (UDT) suppor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implification:  </a:t>
            </a:r>
            <a:r>
              <a:rPr b="0" lang="en-US" sz="2800" spc="-1" strike="noStrike">
                <a:solidFill>
                  <a:srgbClr val="fceb98"/>
                </a:solidFill>
                <a:latin typeface="Franklin Gothic Book"/>
              </a:rPr>
              <a:t>SqlDataTabl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Developer Tools</a:t>
            </a:r>
            <a:br>
              <a:rPr sz="3600"/>
            </a:b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Key Theme:  Developer Productivity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78000" y="1904760"/>
            <a:ext cx="83880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Visual Studio supports a new Yuk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Project system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1320" indent="-374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Easy to develop, debug and deploy .NET cod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for the database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Integrated debugging experience acros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mid-tier and database tier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1320" indent="-374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eamlessly step cross-language – TSQL and .NET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41320" indent="-3747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et breakpoints anywhere, inspect anything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Visual Studio project extensions for Business Intelligence project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SQL Server BI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65200" y="1665360"/>
            <a:ext cx="1316160" cy="4346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709720" y="1665360"/>
            <a:ext cx="3208320" cy="115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2709720" y="2732040"/>
            <a:ext cx="3208320" cy="1152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2709720" y="3819600"/>
            <a:ext cx="3208320" cy="1131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2709720" y="4888080"/>
            <a:ext cx="3208320" cy="1131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5846760" y="1665360"/>
            <a:ext cx="1316160" cy="4367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09720" y="2894400"/>
            <a:ext cx="3124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Analysis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OLAP and Data M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08200" y="3949920"/>
            <a:ext cx="332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09720" y="5018760"/>
            <a:ext cx="3124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SQL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Relational Eng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09720" y="198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Reporting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6213600" y="1957320"/>
            <a:ext cx="546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Management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0800000">
            <a:off x="1633320" y="1957320"/>
            <a:ext cx="911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BI Development Workbe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5600" y="5029200"/>
            <a:ext cx="2827080" cy="1239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7680" y="3363840"/>
            <a:ext cx="2849400" cy="12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5640" y="228240"/>
            <a:ext cx="8762760" cy="10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SQL Server “Yukon”</a:t>
            </a:r>
            <a:br>
              <a:rPr sz="2000"/>
            </a:br>
            <a:r>
              <a:rPr b="0" lang="en-US" sz="2000" spc="-1" strike="noStrike">
                <a:solidFill>
                  <a:srgbClr val="fceb98"/>
                </a:solidFill>
                <a:latin typeface="Franklin Gothic Medium"/>
              </a:rPr>
              <a:t>The scalable, secure, enterprise-class data management platform</a:t>
            </a:r>
            <a:endParaRPr b="0" lang="en-US" sz="2000" spc="-1" strike="noStrike">
              <a:solidFill>
                <a:srgbClr val="ffdd4f"/>
              </a:solidFill>
              <a:latin typeface="Franklin Gothic Medium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30280" y="1706400"/>
            <a:ext cx="2841480" cy="1243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629160" y="1676520"/>
            <a:ext cx="56181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30000"/>
              </a:lnSpc>
              <a:buClr>
                <a:srgbClr val="ffdd4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calability, availability, security advanc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9200" indent="-349200">
              <a:lnSpc>
                <a:spcPct val="130000"/>
              </a:lnSpc>
              <a:buClr>
                <a:srgbClr val="ffdd4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torage of all data types, forma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9200" indent="-349200">
              <a:lnSpc>
                <a:spcPct val="130000"/>
              </a:lnSpc>
              <a:buClr>
                <a:srgbClr val="ffdd4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  <a:ea typeface="Arial"/>
              </a:rPr>
              <a:t>Focus on ease-of-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29160" y="3375000"/>
            <a:ext cx="589572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30000"/>
              </a:lnSpc>
              <a:buClr>
                <a:srgbClr val="ffdd4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  <a:ea typeface="Arial"/>
              </a:rPr>
              <a:t>Leverage existing development skil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9200" indent="-349200">
              <a:lnSpc>
                <a:spcPct val="130000"/>
              </a:lnSpc>
              <a:buClr>
                <a:srgbClr val="ffdd4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hare data across any platfo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9200" indent="-349200">
              <a:lnSpc>
                <a:spcPct val="130000"/>
              </a:lnSpc>
              <a:buClr>
                <a:srgbClr val="ffdd4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  <a:ea typeface="Arial"/>
              </a:rPr>
              <a:t>Provide end-to-end development too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29160" y="5029200"/>
            <a:ext cx="5634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30000"/>
              </a:lnSpc>
              <a:buClr>
                <a:srgbClr val="ffdd4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calable, comprehensive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130000"/>
              </a:lnSpc>
              <a:buClr>
                <a:srgbClr val="ffdd4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  <a:ea typeface="Arial"/>
              </a:rPr>
              <a:t>Real time decision making too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130000"/>
              </a:lnSpc>
              <a:buClr>
                <a:srgbClr val="ffdd4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  <a:ea typeface="Arial"/>
              </a:rPr>
              <a:t>Extend information to employees,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0120" y="198108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Enterprise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4880" y="38084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Programm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8560" y="52959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Busine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Intellig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Data Transformation Service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74400" y="1905120"/>
            <a:ext cx="8388360" cy="437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Major investmen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New ETL pipelin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Complex data routing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cale and performanc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DW and BI Savvy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Rich transformation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Integrated with Analysis Servic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Enhanced designer and control flow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Analysis Service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37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Extended Cube Definitio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Integrating relational and OLAP view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aching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Bringing the best of MOLAP to ROLAP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Advanced Business Intelligenc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KPIs, MDX scripts, translations, currency…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Web service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Native XML/A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Data Mining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9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gnificant investmen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Important, new algorithm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Association rules, time series, regression trees, sequence clustering, neural nets, Naïve Bay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Embedded, integrated, complet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Reporting Service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Extending the Microsoft BI Platform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Embedding via Web service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Enterprise server abilitie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Deployment feature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Interactive and prin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Personalized delivery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Report as data sourc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Summary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8000" y="1414440"/>
            <a:ext cx="8388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Richer programming model in databas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31960" indent="-3654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Any .NET language, any .NET library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31960" indent="-3654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Tight integration with Visual Studio .NET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31960" indent="-3654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hare developer expertise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XML data model (server and client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31960" indent="-3654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Reuse rich database support for the XML world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Relational Enhancement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31960" indent="-3654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Many T-SQL extension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31960" indent="-3654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QL Server Service Broker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APIs:  Extend for XML and Relational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add Object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rcRect l="0" t="35449" r="0" b="36512"/>
          <a:stretch/>
        </p:blipFill>
        <p:spPr>
          <a:xfrm>
            <a:off x="1762200" y="2836800"/>
            <a:ext cx="5619600" cy="1182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6415200"/>
            <a:ext cx="1681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9000" y="6164280"/>
            <a:ext cx="861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  <a:ea typeface="Arial"/>
              </a:rPr>
              <a:t>© 2003 Microsoft Limited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Arial"/>
              </a:rPr>
              <a:t>This presentation is for informational purposes only. Microsoft makes no warranties, express or implied, in this summary</a:t>
            </a:r>
            <a:r>
              <a:rPr b="0" lang="en-US" sz="1200" spc="-1" strike="noStrike">
                <a:solidFill>
                  <a:srgbClr val="ffffff"/>
                </a:solidFill>
                <a:latin typeface="Franklin Gothic Book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Programmability Area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52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eb98"/>
                </a:solidFill>
                <a:latin typeface="Franklin Gothic Book"/>
              </a:rPr>
              <a:t>.NET Integration: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Convergence of database and mid-tier programming model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eb98"/>
                </a:solidFill>
                <a:latin typeface="Franklin Gothic Book"/>
              </a:rPr>
              <a:t>XML Support: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Data model evolution for storing semi-structured data/document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eb98"/>
                </a:solidFill>
                <a:latin typeface="Franklin Gothic Book"/>
              </a:rPr>
              <a:t>Relational Extensions: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T-SQL extensions plus innovative technologies such as SQL Server Event Notification and SQL Server Service Broker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eb98"/>
                </a:solidFill>
                <a:latin typeface="Franklin Gothic Book"/>
              </a:rPr>
              <a:t>APIs and Languages: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Modernising the data access programming environmen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eb98"/>
                </a:solidFill>
                <a:latin typeface="Franklin Gothic Book"/>
              </a:rPr>
              <a:t>Developer Tools: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Breakthrough integration between developer and database tool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.NET Integration</a:t>
            </a:r>
            <a:br>
              <a:rPr sz="3600"/>
            </a:b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Key Theme:  Choice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4400" y="1904760"/>
            <a:ext cx="7778520" cy="46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Choice of programming language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89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T-SQL, for data-intensive functions and procedur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89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.NET languages, for CPU-intensive functions and procedures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89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afe, scalable, modern execution environment inside database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Choice of where to run logic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89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Database, for logic that runs close to data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89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Mid-tier, for logic that scales out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89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ymmetric data access model – ADO.NET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.NET Integration</a:t>
            </a:r>
            <a:br>
              <a:rPr sz="4800"/>
            </a:b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Scenarios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6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Database logic that can be written in any .NET languag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Developer skill sets converge!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Rich programming model and tool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Engine Extensibility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Extend SQL type system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afe, scalable evolution for extende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tored procedure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Data access inside-process via ADO.NE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.NET Integration</a:t>
            </a:r>
            <a:br>
              <a:rPr sz="3600"/>
            </a:b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Key Features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8000" y="1905120"/>
            <a:ext cx="8388000" cy="46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94200" indent="-39420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Programming environment for Functions, Procedures, Trigger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94200" indent="-39420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User Defined Types, Aggregat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94200" indent="-39420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In-Proc Data Access (ADO.NET V2)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94200" indent="-39420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ymmetric data acces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0160" indent="-34416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Mid-tier/data tier deployment decision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94200" indent="-39420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0160" indent="-34416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Integration of SQL and CLR security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0160" indent="-34416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hree levels of code access security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069920" indent="-328320">
              <a:lnSpc>
                <a:spcPct val="90000"/>
              </a:lnSpc>
              <a:spcBef>
                <a:spcPts val="56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Safe, External-Access (verifiable), Unsafe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  <a:p>
            <a:pPr marL="394200" indent="-39420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Tight integration with Visual Studio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0160" indent="-34416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Authoring, debugging, deployment, profiling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4360" y="2133720"/>
            <a:ext cx="8229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4f"/>
                </a:solidFill>
                <a:latin typeface="Franklin Gothic Medium"/>
              </a:rPr>
              <a:t>.NET Integ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1143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2701800" cy="2708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rcRect l="0" t="0" r="5037" b="0"/>
          <a:stretch/>
        </p:blipFill>
        <p:spPr>
          <a:xfrm>
            <a:off x="5724360" y="5589720"/>
            <a:ext cx="3202200" cy="1103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323a"/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XML Support</a:t>
            </a:r>
            <a:br>
              <a:rPr sz="4800"/>
            </a:b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Scenarios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8000" y="1905120"/>
            <a:ext cx="8388000" cy="48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Data and Application Integratio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Platform-independent transport forma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E-business platform:  B2B, B2C, A2A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Distributed, loosely-coupled system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Document managemen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Query, update, index XML data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Messaging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HTTP/SOAP, Web Servic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855720" indent="-393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Messages are data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XML Support</a:t>
            </a:r>
            <a:br>
              <a:rPr sz="3600"/>
            </a:b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Key Theme #1:  Flexibility</a:t>
            </a:r>
            <a:endParaRPr b="0" lang="en-US" sz="36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388360" cy="42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5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XML gives you data model flexibility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tore structured data relationally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tore semi-structured data and documents as XML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Interoperability between the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wo model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Deep integration of XML insid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QL engin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09:43:31Z</dcterms:created>
  <dc:creator>Tim Sneath</dc:creator>
  <dc:description/>
  <dc:language>en-US</dc:language>
  <cp:lastModifiedBy> Simon Davies</cp:lastModifiedBy>
  <dcterms:modified xsi:type="dcterms:W3CDTF">2003-10-23T14:33:57Z</dcterms:modified>
  <cp:revision>8</cp:revision>
  <dc:subject/>
  <dc:title>What’s New in  SQL Server “Yukon”?</dc:title>
</cp:coreProperties>
</file>