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A5CF-8304-494C-B7B0-A1EAA26B0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2428-BD2C-4565-A6DD-B5B65C0C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87EE-887A-4D76-9E2D-4128C2316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A2F9-7C16-4E48-B0A8-73C6FE503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ED3E-E0B6-4264-91AC-14205AB20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7D44-5DA1-45A1-BF2F-27E1C86E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60D7-5A3F-4F9C-B95C-5977EE49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F06D-1D0C-414B-B773-0AA4292D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5AAE-5E07-475D-8749-1FF49A5C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CD62-B31A-4AA2-B4C7-4DF25E99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2C76-6338-4C39-A284-3B538616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CAE2-CDB5-4467-B1FE-96D96153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4DF6-68EE-4130-A8AC-0CB65B67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6951-258B-425A-A63D-BB6A2D46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E152-AF59-4B3C-98AD-44212AA0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83F0-A0B2-4EB7-B837-5269C971B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407C-6764-4226-867B-3542A6BDF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D55E-C6DC-4927-AD70-D7A9C10E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3236-9FA8-484F-B423-C196BAB4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3FDC-E64B-417F-9EE0-DA17DF98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BFCF-4351-4096-880F-0BF2C635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E1A0-D755-410C-BA37-8CE0DA15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981B-9D9F-4582-9550-5193EE7C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463B-40FF-49D1-A773-5A8E9AC5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B78F-71AE-4291-9287-787885A9A19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0CDD-B68C-4493-9E2F-D173051906F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sdn.microsoft.com/theshow/Episode017/default.asp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www.gotdotnet.com/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brackensoftware.co.uk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O.NE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y Rob Bracke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f Bracken Software Limit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ADO.NET Conne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nnection string contains the information necessary to establish a connection to a databas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nnection string can be passed as a parameter in the construct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nnection string can only be changed when the connection is clos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ADO.NET Connection (example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6" name=""/>
          <p:cNvSpPr/>
          <p:nvPr/>
        </p:nvSpPr>
        <p:spPr>
          <a:xfrm>
            <a:off x="762120" y="1752480"/>
            <a:ext cx="7924680" cy="48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Dim myConn as OleDBConnect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myConn = new OleDBConnection</a:t>
            </a:r>
            <a:r>
              <a:rPr b="0" lang="en-GB" sz="1600" spc="-1" strike="noStrike">
                <a:solidFill>
                  <a:srgbClr val="ff0000"/>
                </a:solidFill>
                <a:latin typeface="Arial Unicode MS"/>
              </a:rPr>
              <a:t>(</a:t>
            </a: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"</a:t>
            </a:r>
            <a:r>
              <a:rPr b="0" lang="en-GB" sz="1600" spc="-1" strike="noStrike">
                <a:solidFill>
                  <a:srgbClr val="ff0000"/>
                </a:solidFill>
                <a:latin typeface="Arial Unicode MS"/>
              </a:rPr>
              <a:t>Provider=Microsoft.Jet.OLEDB.4.0</a:t>
            </a: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;User ID=Admin;</a:t>
            </a:r>
            <a:r>
              <a:rPr b="0" lang="en-GB" sz="1600" spc="-1" strike="noStrike">
                <a:solidFill>
                  <a:srgbClr val="ff0000"/>
                </a:solidFill>
                <a:latin typeface="Arial Unicode MS"/>
              </a:rPr>
              <a:t>Data Source=C:\MYDB.MDB</a:t>
            </a: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;Mode=Share Deny None;Extended Properties="";Persist Security Info=False;Jet OLEDB:System database="";Jet OLEDB:Registry Path="";Jet OLEDB:Database Password="";Jet OLEDB:Engine Type=4;Jet OLEDB:Database Locking Mode=0;Jet OLEDB:Global Partial Bulk Ops=2;Jet OLEDB:Global Bulk Transactions=1;Jet OLEDB:New Database Password="";Jet OLEDB:Create System Database=False;Jet OLEDB:Encrypt Database=False;Jet OLEDB:Don't Copy Locale on Compact=False;Jet OLEDB:Compact Without Replica Repair=False;Jet OLEDB:SFP=False"</a:t>
            </a:r>
            <a:r>
              <a:rPr b="0" lang="en-GB" sz="1600" spc="-1" strike="noStrike">
                <a:solidFill>
                  <a:srgbClr val="ff0000"/>
                </a:solidFill>
                <a:latin typeface="Arial Unicode MS"/>
              </a:rPr>
              <a:t>)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tr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myConn.Ope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myConn.Clos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catch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MsgBox( “Couldn’t open database connection” 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end tr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ADO.NET DataAdapt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d to interface between a dataset &amp; a connec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ed to set up Select, Insert, Delete &amp; Update command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nds changes back to the databas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ADO.NET DataAdapter (example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0" name=""/>
          <p:cNvSpPr/>
          <p:nvPr/>
        </p:nvSpPr>
        <p:spPr>
          <a:xfrm>
            <a:off x="685800" y="1495440"/>
            <a:ext cx="7924680" cy="53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Dim myConn as OleDBConnection = new OleDBConnection( connectString )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Dim selText as string = “SELECT ID, Name, Address FROM Customers”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Dim myAdapter as OleDBDataAdapter = new OleDBAdapter( selText, myConn 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Dim tmpParam as OleDBParamete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myAdapter.MissingMappingAction = MissingMappingAction.PassThrough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myAdapter.MissingSchemaAction = MissingSchemaAction.AddWithKe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myAdapter.InsertCommand = new OleDBCommand(“INSERT INTO Customers </a:t>
            </a: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	</a:t>
            </a: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(Name, Address) VALUES (@Name, @Address)”, myConn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tmpParam = myAdapter.InsertCommand.Parameters.Add(@Name, </a:t>
            </a: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	</a:t>
            </a: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OleDBType.VarWChar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tmpParam.SourceColumn = “Name”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tmpParam.SourceVersion = DataRowVersion.Current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tmpParam = myAdapter.InsertCommand.Parameters.Add(@Address, </a:t>
            </a: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	</a:t>
            </a: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OleDBType.VarWChar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tmpParam.SourceColumn = “Address”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tmpParam.SourceVersion = DataRowVersion.Current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ADO.NET DataAdapter (example)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2" name=""/>
          <p:cNvSpPr/>
          <p:nvPr/>
        </p:nvSpPr>
        <p:spPr>
          <a:xfrm>
            <a:off x="762120" y="1542960"/>
            <a:ext cx="7924680" cy="53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myAdapter.UpdateCommand = new OleDBCommand(“UPDATE Customers SET </a:t>
            </a: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	</a:t>
            </a: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Name=@Name WHERE ID=@ID”, myConn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tmpParam = myAdapter.UpdateCommand.Parameters.Add(@Name, </a:t>
            </a: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	</a:t>
            </a: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OleDBType.VarWChar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tmpParam.SourceColumn = “Name”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tmpParam.SourceVersion = DataRowVersion.Current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tmpParam = myAdapter.UpdateCommand.Parameters.Add(@ID, </a:t>
            </a: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	</a:t>
            </a: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OleDBType.Integer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tmpParam.SourceColumn = “ID”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tmpParam.SourceVersion = DataRowVersion.Original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myAdapter.DeleteCommand = new OleDBCommand(“DELETE FROM Customers </a:t>
            </a: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	</a:t>
            </a: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WHERE ID=@ID”, myConn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tmpParam = myAdapter.UpdateCommand.Parameters.Add(@ID, </a:t>
            </a: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	</a:t>
            </a: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OleDBType.Integer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tmpParam.SourceColumn = “ID”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tmpParam.SourceVersion = DataRowVersion.Original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ADO.NET DataAdapter (example) (3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762120" y="1542960"/>
            <a:ext cx="7924680" cy="19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Dim myDataSet as DataSet = new DataSet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tr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  </a:t>
            </a: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myAdapter.Fill(myDataSet, “Customers”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catch e as Except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  </a:t>
            </a: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MsgBox(e.ToString()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end tr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ADO.NET DataSet (example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6" name=""/>
          <p:cNvSpPr/>
          <p:nvPr/>
        </p:nvSpPr>
        <p:spPr>
          <a:xfrm>
            <a:off x="762120" y="1523880"/>
            <a:ext cx="7924680" cy="24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Dim myDataRow as DataRow = myDataSet.Tables(0).Rows.Find(100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myDataRow(“Name”) = “Jones”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myDataRow = myDataSet.Tables(0).NewRow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myDataRow(“Name”) = “Brown”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myDataAdapter.Update(myDataSet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ADO.NET DataSet (example)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8" name=""/>
          <p:cNvSpPr/>
          <p:nvPr/>
        </p:nvSpPr>
        <p:spPr>
          <a:xfrm>
            <a:off x="762120" y="1523880"/>
            <a:ext cx="7924680" cy="51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ordersDataAdapter.Fill(myDataSet, “Orders”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Dim parentCol as DataColumn = myDataSet.Tables(“Customers”).Columns(“ID”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Dim childCol as DataColumn = myDataSet.Tables(“Orders”).Columns(“CustID”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Dim relCustOrd as new DataRelation(“CustomersOrders”, parentCol, childCol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myDataSet.Relations.Add(relCustOrd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Dim custRow as DataRow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Dim orderRow as DataRow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Dim customer as Custome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Dim order as Orde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for each custRow in myDataSet.Tables(“Customers”).Row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  </a:t>
            </a: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customer = new Customer(custRow(“ID”)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  </a:t>
            </a: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customers.Add(customer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  </a:t>
            </a: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for each orderRow in custRow.GetChildRows(relCustOrd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    </a:t>
            </a: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order = new Orde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    </a:t>
            </a: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customer.Orders.Add(order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  </a:t>
            </a: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next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Arial Unicode MS"/>
              </a:rPr>
              <a:t>next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ADO.NET MissingMappingA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It’s an enumeratio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Err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Igno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PassThrough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ADO.NET MissingSchemaA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It’s an enumeratio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Ad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AddWithKe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Err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Igno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y ADO.NET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2133720" y="4495680"/>
            <a:ext cx="1066680" cy="1219320"/>
          </a:xfrm>
          <a:prstGeom prst="flowChartMagneticDisk">
            <a:avLst/>
          </a:prstGeom>
          <a:noFill/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19320" y="3733920"/>
            <a:ext cx="2819160" cy="2716200"/>
          </a:xfrm>
          <a:prstGeom prst="ellipse">
            <a:avLst/>
          </a:prstGeom>
          <a:noFill/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14800" y="1676520"/>
            <a:ext cx="2666880" cy="2590560"/>
          </a:xfrm>
          <a:prstGeom prst="ellipse">
            <a:avLst/>
          </a:prstGeom>
          <a:noFill/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81680" y="4800600"/>
            <a:ext cx="1067040" cy="1219320"/>
          </a:xfrm>
          <a:prstGeom prst="flowChartMagneticDisk">
            <a:avLst/>
          </a:prstGeom>
          <a:noFill/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43600" y="4114800"/>
            <a:ext cx="2666880" cy="2568600"/>
          </a:xfrm>
          <a:prstGeom prst="ellipse">
            <a:avLst/>
          </a:prstGeom>
          <a:noFill/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2438280"/>
            <a:ext cx="1066680" cy="1219320"/>
          </a:xfrm>
          <a:prstGeom prst="flowChartMagneticDisk">
            <a:avLst/>
          </a:prstGeom>
          <a:noFill/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651280" y="2514600"/>
            <a:ext cx="978120" cy="533160"/>
            <a:chOff x="5651280" y="2514600"/>
            <a:chExt cx="978120" cy="533160"/>
          </a:xfrm>
        </p:grpSpPr>
        <p:sp>
          <p:nvSpPr>
            <p:cNvPr id="218" name=""/>
            <p:cNvSpPr/>
            <p:nvPr/>
          </p:nvSpPr>
          <p:spPr>
            <a:xfrm>
              <a:off x="6172200" y="2514600"/>
              <a:ext cx="457200" cy="3808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219" name=""/>
            <p:cNvCxnSpPr>
              <a:stCxn id="216" idx="4"/>
              <a:endCxn id="218" idx="1"/>
            </p:cNvCxnSpPr>
            <p:nvPr/>
          </p:nvCxnSpPr>
          <p:spPr>
            <a:xfrm flipV="1">
              <a:off x="5651280" y="2704320"/>
              <a:ext cx="508680" cy="34380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220" name=""/>
          <p:cNvGrpSpPr/>
          <p:nvPr/>
        </p:nvGrpSpPr>
        <p:grpSpPr>
          <a:xfrm>
            <a:off x="5105520" y="3657600"/>
            <a:ext cx="990360" cy="380880"/>
            <a:chOff x="5105520" y="3657600"/>
            <a:chExt cx="990360" cy="380880"/>
          </a:xfrm>
        </p:grpSpPr>
        <p:sp>
          <p:nvSpPr>
            <p:cNvPr id="221" name=""/>
            <p:cNvSpPr/>
            <p:nvPr/>
          </p:nvSpPr>
          <p:spPr>
            <a:xfrm>
              <a:off x="5638680" y="3657600"/>
              <a:ext cx="457200" cy="3808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222" name=""/>
            <p:cNvCxnSpPr>
              <a:stCxn id="216" idx="3"/>
              <a:endCxn id="221" idx="1"/>
            </p:cNvCxnSpPr>
            <p:nvPr/>
          </p:nvCxnSpPr>
          <p:spPr>
            <a:xfrm>
              <a:off x="5105520" y="3670200"/>
              <a:ext cx="521280" cy="17820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223" name=""/>
          <p:cNvGrpSpPr/>
          <p:nvPr/>
        </p:nvGrpSpPr>
        <p:grpSpPr>
          <a:xfrm>
            <a:off x="2438280" y="5029200"/>
            <a:ext cx="457200" cy="456480"/>
            <a:chOff x="2438280" y="5029200"/>
            <a:chExt cx="457200" cy="456480"/>
          </a:xfrm>
        </p:grpSpPr>
        <p:sp>
          <p:nvSpPr>
            <p:cNvPr id="224" name=""/>
            <p:cNvSpPr/>
            <p:nvPr/>
          </p:nvSpPr>
          <p:spPr>
            <a:xfrm>
              <a:off x="2438280" y="5029200"/>
              <a:ext cx="152640" cy="152280"/>
            </a:xfrm>
            <a:prstGeom prst="ellipse">
              <a:avLst/>
            </a:prstGeom>
            <a:noFill/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743200" y="5029200"/>
              <a:ext cx="152280" cy="152280"/>
            </a:xfrm>
            <a:prstGeom prst="ellipse">
              <a:avLst/>
            </a:prstGeom>
            <a:noFill/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2513520" y="5181120"/>
              <a:ext cx="3038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" y="9383"/>
                  </a:moveTo>
                  <a:arcTo wR="10800" hR="10800" stAng="-10347655" swAng="10347655"/>
                  <a:lnTo>
                    <a:pt x="10800" y="10800"/>
                  </a:lnTo>
                  <a:close/>
                </a:path>
                <a:path fill="none" w="21600" h="21600">
                  <a:moveTo>
                    <a:pt x="93" y="9383"/>
                  </a:moveTo>
                  <a:arcTo wR="10800" hR="10800" stAng="-10347655" swAng="10347655"/>
                </a:path>
              </a:pathLst>
            </a:custGeom>
            <a:noFill/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4876920" y="2971800"/>
            <a:ext cx="457200" cy="456480"/>
            <a:chOff x="4876920" y="2971800"/>
            <a:chExt cx="457200" cy="456480"/>
          </a:xfrm>
        </p:grpSpPr>
        <p:sp>
          <p:nvSpPr>
            <p:cNvPr id="228" name=""/>
            <p:cNvSpPr/>
            <p:nvPr/>
          </p:nvSpPr>
          <p:spPr>
            <a:xfrm>
              <a:off x="4876920" y="2971800"/>
              <a:ext cx="152280" cy="152280"/>
            </a:xfrm>
            <a:prstGeom prst="ellipse">
              <a:avLst/>
            </a:prstGeom>
            <a:noFill/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181480" y="2971800"/>
              <a:ext cx="152640" cy="152280"/>
            </a:xfrm>
            <a:prstGeom prst="ellipse">
              <a:avLst/>
            </a:prstGeom>
            <a:noFill/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4951800" y="3123720"/>
              <a:ext cx="3042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" y="9383"/>
                  </a:moveTo>
                  <a:arcTo wR="10800" hR="10800" stAng="-10347655" swAng="10347655"/>
                  <a:lnTo>
                    <a:pt x="10800" y="10800"/>
                  </a:lnTo>
                  <a:close/>
                </a:path>
                <a:path fill="none" w="21600" h="21600">
                  <a:moveTo>
                    <a:pt x="93" y="9383"/>
                  </a:moveTo>
                  <a:arcTo wR="10800" hR="10800" stAng="-10347655" swAng="10347655"/>
                </a:path>
              </a:pathLst>
            </a:custGeom>
            <a:noFill/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7086600" y="5334120"/>
            <a:ext cx="457200" cy="456480"/>
            <a:chOff x="7086600" y="5334120"/>
            <a:chExt cx="457200" cy="456480"/>
          </a:xfrm>
        </p:grpSpPr>
        <p:sp>
          <p:nvSpPr>
            <p:cNvPr id="232" name=""/>
            <p:cNvSpPr/>
            <p:nvPr/>
          </p:nvSpPr>
          <p:spPr>
            <a:xfrm>
              <a:off x="7086600" y="5334120"/>
              <a:ext cx="152280" cy="152280"/>
            </a:xfrm>
            <a:prstGeom prst="ellipse">
              <a:avLst/>
            </a:prstGeom>
            <a:noFill/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91520" y="5334120"/>
              <a:ext cx="152280" cy="152280"/>
            </a:xfrm>
            <a:prstGeom prst="ellipse">
              <a:avLst/>
            </a:prstGeom>
            <a:noFill/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7161840" y="5485320"/>
              <a:ext cx="3038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" y="9383"/>
                  </a:moveTo>
                  <a:arcTo wR="10800" hR="10800" stAng="-10347655" swAng="10347655"/>
                  <a:lnTo>
                    <a:pt x="10800" y="10800"/>
                  </a:lnTo>
                  <a:close/>
                </a:path>
                <a:path fill="none" w="21600" h="21600">
                  <a:moveTo>
                    <a:pt x="93" y="9383"/>
                  </a:moveTo>
                  <a:arcTo wR="10800" hR="10800" stAng="-10347655" swAng="10347655"/>
                </a:path>
              </a:pathLst>
            </a:custGeom>
            <a:noFill/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876920" y="2971800"/>
            <a:ext cx="457200" cy="456480"/>
            <a:chOff x="4876920" y="2971800"/>
            <a:chExt cx="457200" cy="456480"/>
          </a:xfrm>
        </p:grpSpPr>
        <p:sp>
          <p:nvSpPr>
            <p:cNvPr id="236" name=""/>
            <p:cNvSpPr/>
            <p:nvPr/>
          </p:nvSpPr>
          <p:spPr>
            <a:xfrm>
              <a:off x="4876920" y="2971800"/>
              <a:ext cx="152280" cy="152280"/>
            </a:xfrm>
            <a:prstGeom prst="ellipse">
              <a:avLst/>
            </a:prstGeom>
            <a:noFill/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181480" y="2971800"/>
              <a:ext cx="152640" cy="152280"/>
            </a:xfrm>
            <a:prstGeom prst="ellipse">
              <a:avLst/>
            </a:prstGeom>
            <a:noFill/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951800" y="3123720"/>
              <a:ext cx="3042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" y="9383"/>
                  </a:moveTo>
                  <a:arcTo wR="10800" hR="10800" stAng="-10347655" swAng="10347655"/>
                  <a:lnTo>
                    <a:pt x="10800" y="10800"/>
                  </a:lnTo>
                  <a:close/>
                </a:path>
                <a:path fill="none" w="21600" h="21600">
                  <a:moveTo>
                    <a:pt x="93" y="9383"/>
                  </a:moveTo>
                  <a:arcTo wR="10800" hR="10800" stAng="-10347655" swAng="10347655"/>
                </a:path>
              </a:pathLst>
            </a:custGeom>
            <a:noFill/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876920" y="2971800"/>
            <a:ext cx="457200" cy="612360"/>
            <a:chOff x="4876920" y="2971800"/>
            <a:chExt cx="457200" cy="612360"/>
          </a:xfrm>
        </p:grpSpPr>
        <p:sp>
          <p:nvSpPr>
            <p:cNvPr id="240" name=""/>
            <p:cNvSpPr/>
            <p:nvPr/>
          </p:nvSpPr>
          <p:spPr>
            <a:xfrm>
              <a:off x="4876920" y="2971800"/>
              <a:ext cx="152640" cy="152280"/>
            </a:xfrm>
            <a:prstGeom prst="ellipse">
              <a:avLst/>
            </a:prstGeom>
            <a:noFill/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81840" y="2971800"/>
              <a:ext cx="152280" cy="152280"/>
            </a:xfrm>
            <a:prstGeom prst="ellipse">
              <a:avLst/>
            </a:prstGeom>
            <a:noFill/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952520" y="3276360"/>
              <a:ext cx="381240" cy="30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9" y="9770"/>
                  </a:moveTo>
                  <a:arcTo wR="10800" hR="10800" stAng="-10471597" swAng="10330113"/>
                  <a:lnTo>
                    <a:pt x="10800" y="10800"/>
                  </a:lnTo>
                  <a:close/>
                </a:path>
                <a:path fill="none" w="21600" h="21600">
                  <a:moveTo>
                    <a:pt x="49" y="9770"/>
                  </a:moveTo>
                  <a:arcTo wR="10800" hR="10800" stAng="-10471597" swAng="10330113"/>
                </a:path>
              </a:pathLst>
            </a:custGeom>
            <a:noFill/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914400" y="1828800"/>
            <a:ext cx="1447920" cy="990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143000" y="1981080"/>
            <a:ext cx="60948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95280" y="2133720"/>
            <a:ext cx="60984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47920" y="2286000"/>
            <a:ext cx="6094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600200" y="2362320"/>
            <a:ext cx="304920" cy="406440"/>
            <a:chOff x="1600200" y="2362320"/>
            <a:chExt cx="304920" cy="406440"/>
          </a:xfrm>
        </p:grpSpPr>
        <p:sp>
          <p:nvSpPr>
            <p:cNvPr id="248" name=""/>
            <p:cNvSpPr/>
            <p:nvPr/>
          </p:nvSpPr>
          <p:spPr>
            <a:xfrm>
              <a:off x="1600200" y="2362320"/>
              <a:ext cx="101520" cy="101160"/>
            </a:xfrm>
            <a:prstGeom prst="ellipse">
              <a:avLst/>
            </a:prstGeom>
            <a:noFill/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803600" y="2362320"/>
              <a:ext cx="101520" cy="101160"/>
            </a:xfrm>
            <a:prstGeom prst="ellipse">
              <a:avLst/>
            </a:prstGeom>
            <a:noFill/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50600" y="2564640"/>
              <a:ext cx="253800" cy="20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9" y="9770"/>
                  </a:moveTo>
                  <a:arcTo wR="10800" hR="10800" stAng="-10471597" swAng="10330113"/>
                  <a:lnTo>
                    <a:pt x="10800" y="10800"/>
                  </a:lnTo>
                  <a:close/>
                </a:path>
                <a:path fill="none" w="21600" h="21600">
                  <a:moveTo>
                    <a:pt x="49" y="9770"/>
                  </a:moveTo>
                  <a:arcTo wR="10800" hR="10800" stAng="-10471597" swAng="10330113"/>
                </a:path>
              </a:pathLst>
            </a:custGeom>
            <a:noFill/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cxnSp>
        <p:nvCxnSpPr>
          <p:cNvPr id="251" name=""/>
          <p:cNvCxnSpPr>
            <a:stCxn id="246" idx="3"/>
            <a:endCxn id="213" idx="2"/>
          </p:cNvCxnSpPr>
          <p:nvPr/>
        </p:nvCxnSpPr>
        <p:spPr>
          <a:xfrm>
            <a:off x="2057400" y="2514600"/>
            <a:ext cx="2045520" cy="457920"/>
          </a:xfrm>
          <a:prstGeom prst="straightConnector1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</p:cxn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ADO.NET DataRowVers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It’s an enumeratio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Curr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Default (value depends on DataRow.RowState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Origin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Propos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ee the “DataRowVersion” documentation for more inf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ADO.NET Architectu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914400" y="1828800"/>
            <a:ext cx="4800600" cy="1600200"/>
            <a:chOff x="914400" y="1828800"/>
            <a:chExt cx="4800600" cy="1600200"/>
          </a:xfrm>
        </p:grpSpPr>
        <p:sp>
          <p:nvSpPr>
            <p:cNvPr id="537" name=""/>
            <p:cNvSpPr/>
            <p:nvPr/>
          </p:nvSpPr>
          <p:spPr>
            <a:xfrm>
              <a:off x="914400" y="1828800"/>
              <a:ext cx="1295280" cy="1600200"/>
            </a:xfrm>
            <a:prstGeom prst="flowChartMagneticDisk">
              <a:avLst/>
            </a:prstGeom>
            <a:noFill/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38" name=""/>
            <p:cNvGrpSpPr/>
            <p:nvPr/>
          </p:nvGrpSpPr>
          <p:grpSpPr>
            <a:xfrm>
              <a:off x="1295280" y="2590920"/>
              <a:ext cx="533160" cy="456480"/>
              <a:chOff x="1295280" y="2590920"/>
              <a:chExt cx="533160" cy="456480"/>
            </a:xfrm>
          </p:grpSpPr>
          <p:sp>
            <p:nvSpPr>
              <p:cNvPr id="539" name=""/>
              <p:cNvSpPr/>
              <p:nvPr/>
            </p:nvSpPr>
            <p:spPr>
              <a:xfrm>
                <a:off x="1295280" y="2590920"/>
                <a:ext cx="177840" cy="152280"/>
              </a:xfrm>
              <a:prstGeom prst="ellipse">
                <a:avLst/>
              </a:prstGeom>
              <a:noFill/>
              <a:ln w="190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650960" y="2590920"/>
                <a:ext cx="177480" cy="152280"/>
              </a:xfrm>
              <a:prstGeom prst="ellipse">
                <a:avLst/>
              </a:prstGeom>
              <a:noFill/>
              <a:ln w="190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V="1">
                <a:off x="1382760" y="2742840"/>
                <a:ext cx="3546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3" y="9383"/>
                    </a:moveTo>
                    <a:arcTo wR="10800" hR="10800" stAng="-10347655" swAng="1034765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3" y="9383"/>
                    </a:moveTo>
                    <a:arcTo wR="10800" hR="10800" stAng="-10347655" swAng="10347655"/>
                  </a:path>
                </a:pathLst>
              </a:custGeom>
              <a:noFill/>
              <a:ln w="190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542" name=""/>
            <p:cNvSpPr/>
            <p:nvPr/>
          </p:nvSpPr>
          <p:spPr>
            <a:xfrm>
              <a:off x="3124080" y="2362320"/>
              <a:ext cx="2590920" cy="825480"/>
            </a:xfrm>
            <a:prstGeom prst="rect">
              <a:avLst/>
            </a:prstGeom>
            <a:noFill/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40458c"/>
                  </a:solidFill>
                  <a:latin typeface="Tahoma"/>
                </a:rPr>
                <a:t>OleDBConnectio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543" name=""/>
            <p:cNvCxnSpPr>
              <a:stCxn id="542" idx="1"/>
              <a:endCxn id="537" idx="4"/>
            </p:cNvCxnSpPr>
            <p:nvPr/>
          </p:nvCxnSpPr>
          <p:spPr>
            <a:xfrm flipH="1">
              <a:off x="2221920" y="2603160"/>
              <a:ext cx="889560" cy="262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544" name=""/>
          <p:cNvGrpSpPr/>
          <p:nvPr/>
        </p:nvGrpSpPr>
        <p:grpSpPr>
          <a:xfrm>
            <a:off x="3886200" y="2857680"/>
            <a:ext cx="4267080" cy="2365920"/>
            <a:chOff x="3886200" y="2857680"/>
            <a:chExt cx="4267080" cy="2365920"/>
          </a:xfrm>
        </p:grpSpPr>
        <p:sp>
          <p:nvSpPr>
            <p:cNvPr id="545" name=""/>
            <p:cNvSpPr/>
            <p:nvPr/>
          </p:nvSpPr>
          <p:spPr>
            <a:xfrm>
              <a:off x="3886200" y="3886200"/>
              <a:ext cx="1600200" cy="825480"/>
            </a:xfrm>
            <a:prstGeom prst="rect">
              <a:avLst/>
            </a:prstGeom>
            <a:noFill/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Command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546" name=""/>
            <p:cNvCxnSpPr>
              <a:stCxn id="542" idx="2"/>
              <a:endCxn id="545" idx="0"/>
            </p:cNvCxnSpPr>
            <p:nvPr/>
          </p:nvCxnSpPr>
          <p:spPr>
            <a:xfrm>
              <a:off x="4419360" y="2857680"/>
              <a:ext cx="267120" cy="10166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sp>
          <p:nvSpPr>
            <p:cNvPr id="547" name=""/>
            <p:cNvSpPr/>
            <p:nvPr/>
          </p:nvSpPr>
          <p:spPr>
            <a:xfrm>
              <a:off x="6248520" y="3124080"/>
              <a:ext cx="1904760" cy="20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ahoma"/>
                </a:rPr>
                <a:t>SQLCommand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ahoma"/>
                </a:rPr>
                <a:t>OleDBCommand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ahoma"/>
                </a:rPr>
                <a:t>ODBCCommand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ahoma"/>
                </a:rPr>
                <a:t>OracleCommand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548" name=""/>
            <p:cNvCxnSpPr>
              <a:stCxn id="547" idx="1"/>
              <a:endCxn id="545" idx="3"/>
            </p:cNvCxnSpPr>
            <p:nvPr/>
          </p:nvCxnSpPr>
          <p:spPr>
            <a:xfrm flipH="1">
              <a:off x="5498640" y="3760920"/>
              <a:ext cx="750240" cy="36720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</p:grpSp>
      <p:grpSp>
        <p:nvGrpSpPr>
          <p:cNvPr id="549" name=""/>
          <p:cNvGrpSpPr/>
          <p:nvPr/>
        </p:nvGrpSpPr>
        <p:grpSpPr>
          <a:xfrm>
            <a:off x="4343400" y="4381200"/>
            <a:ext cx="4572000" cy="2747520"/>
            <a:chOff x="4343400" y="4381200"/>
            <a:chExt cx="4572000" cy="2747520"/>
          </a:xfrm>
        </p:grpSpPr>
        <p:sp>
          <p:nvSpPr>
            <p:cNvPr id="550" name=""/>
            <p:cNvSpPr/>
            <p:nvPr/>
          </p:nvSpPr>
          <p:spPr>
            <a:xfrm>
              <a:off x="4343400" y="5638680"/>
              <a:ext cx="1828800" cy="825480"/>
            </a:xfrm>
            <a:prstGeom prst="rect">
              <a:avLst/>
            </a:prstGeom>
            <a:noFill/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40458c"/>
                  </a:solidFill>
                  <a:latin typeface="Tahoma"/>
                </a:rPr>
                <a:t>DataReade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551" name=""/>
            <p:cNvCxnSpPr>
              <a:stCxn id="545" idx="2"/>
              <a:endCxn id="550" idx="0"/>
            </p:cNvCxnSpPr>
            <p:nvPr/>
          </p:nvCxnSpPr>
          <p:spPr>
            <a:xfrm>
              <a:off x="4686120" y="4381200"/>
              <a:ext cx="572040" cy="12452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sp>
          <p:nvSpPr>
            <p:cNvPr id="552" name=""/>
            <p:cNvSpPr/>
            <p:nvPr/>
          </p:nvSpPr>
          <p:spPr>
            <a:xfrm>
              <a:off x="6858000" y="5029200"/>
              <a:ext cx="2057400" cy="20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ahoma"/>
                </a:rPr>
                <a:t>SQLDataReade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ahoma"/>
                </a:rPr>
                <a:t>OleDBDataReade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ahoma"/>
                </a:rPr>
                <a:t>ODBCDataReade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ahoma"/>
                </a:rPr>
                <a:t>OracleDataReade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553" name=""/>
            <p:cNvCxnSpPr>
              <a:stCxn id="552" idx="1"/>
              <a:endCxn id="550" idx="3"/>
            </p:cNvCxnSpPr>
            <p:nvPr/>
          </p:nvCxnSpPr>
          <p:spPr>
            <a:xfrm flipH="1">
              <a:off x="6184440" y="5665680"/>
              <a:ext cx="673920" cy="2152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</p:grp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O.NET Comman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Used to execute SQL commands &amp; stored procedur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Can return one or more result sets, and/or output parameters, and/or a return value from a stored procedu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Often used with a DataRead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ADO.NET Command (example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7" name=""/>
          <p:cNvSpPr/>
          <p:nvPr/>
        </p:nvSpPr>
        <p:spPr>
          <a:xfrm>
            <a:off x="685800" y="1600200"/>
            <a:ext cx="8077320" cy="40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Dim myConn as new OleDBConnection( myConnString 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Dim myCommand as new OleDBCommand( “DELETE FROM Customers WHERE 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Name=Smith”, myConn 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Dim rowCount as Intege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tr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myConn.Open(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tr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rowCount = myCommand.ExecuteNonQuery(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MsgBox(rowCount.ToString() &amp; “ rows deleted”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finall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myConn.Close(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end tr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catch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MsgBox(“Couldn’t open the connection”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end tr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ADO.NET Command (example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685800" y="1752480"/>
            <a:ext cx="8077320" cy="40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Dim myConn as new OleDBConnection( myConnString 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Dim myCommand as new OleDBCommand( “SELECT COUNT(*) FROM Customers 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WHERE Name=Smith”, myConn 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Dim rowCount as Object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tr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myConn.Open(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tr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rowCount = myCommand.ExecuteScalar(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MsgBox(rowCount.ToString() &amp; “ customers named Smith”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finall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myConn.Close(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end tr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catch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MsgBox(“Couldn’t open the connection”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end tr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ADO.NET DataRead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rward-only result se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turns first row as soon as it’s availab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nly one row in memory at a tim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ay contain multiple result se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ADO.NET Command &amp; DataReader (example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3" name=""/>
          <p:cNvSpPr/>
          <p:nvPr/>
        </p:nvSpPr>
        <p:spPr>
          <a:xfrm>
            <a:off x="762120" y="1635120"/>
            <a:ext cx="8001000" cy="54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Dim myConn as new OleDBConnection( myConnString 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Dim myCommand as new OleDBCommand( “SELECT * FROM Customers”, myConn 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Dim myDataReader as OleDBDataReade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Dim customer as Custome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tr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myConn.Open(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myDataReader = myCommand.ExecuteReader(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do while (myDataReader.Read()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customer = customers.Add(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customer.ID = myDataReader.GetInt32(0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customer.Name = myDataReader(“Name”).ToString(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loop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myDataReader.Close(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if (myConn.State = ConnectionState.Open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myConn.Close(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end if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catch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MsgBox( “Couldn’t open connection” 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end tr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ADO.NET – DataSets &amp; XM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ReadXML() (overloaded) – read XML data &amp; schema into a datase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ReadXMLSchema() (overloaded) – set up a dataset from an XML schem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WriteXML() (overloaded) – write XML data &amp; (optionally) schema from a datase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WriteXMLSchema() (overloaded) – write the dataset structure as an XML schem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GetXML() – get the data as XML in a str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GetXMLSchema() – get the structure as XML in a str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40458c"/>
                </a:solidFill>
                <a:latin typeface="Tahoma"/>
              </a:rPr>
              <a:t>InferXMLSchema() – deduce the structure of XML data when no schema is availabl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ADO.NET – DataSets &amp; XML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A DataSet can be synchronised with an XMLDataDocumen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762120" y="3352680"/>
            <a:ext cx="80010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Dim myDataSet as new DataSet(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{Load the dataset here}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58c"/>
                </a:solidFill>
                <a:latin typeface="Tahoma"/>
              </a:rPr>
              <a:t>Dim XMLDoc as XMLDataDocument = new XMLDataDocument( myDataSet 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O.NET – More Inform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http://msdn.microsoft.com/theshow/Episode017/default.as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SDN librar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http://www.gotdotnet.com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 (search for ADO.NET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y ADO.NET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447920" y="2133720"/>
            <a:ext cx="6933960" cy="3809880"/>
            <a:chOff x="1447920" y="2133720"/>
            <a:chExt cx="6933960" cy="3809880"/>
          </a:xfrm>
        </p:grpSpPr>
        <p:sp>
          <p:nvSpPr>
            <p:cNvPr id="254" name=""/>
            <p:cNvSpPr/>
            <p:nvPr/>
          </p:nvSpPr>
          <p:spPr>
            <a:xfrm>
              <a:off x="5715000" y="3352680"/>
              <a:ext cx="2666880" cy="2590920"/>
            </a:xfrm>
            <a:prstGeom prst="ellipse">
              <a:avLst/>
            </a:prstGeom>
            <a:noFill/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172200" y="4114800"/>
              <a:ext cx="1066680" cy="1219320"/>
            </a:xfrm>
            <a:prstGeom prst="flowChartMagneticDisk">
              <a:avLst/>
            </a:prstGeom>
            <a:noFill/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7251480" y="4191120"/>
              <a:ext cx="978120" cy="532800"/>
              <a:chOff x="7251480" y="4191120"/>
              <a:chExt cx="978120" cy="532800"/>
            </a:xfrm>
          </p:grpSpPr>
          <p:sp>
            <p:nvSpPr>
              <p:cNvPr id="257" name=""/>
              <p:cNvSpPr/>
              <p:nvPr/>
            </p:nvSpPr>
            <p:spPr>
              <a:xfrm>
                <a:off x="7772400" y="4191120"/>
                <a:ext cx="457200" cy="38052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cxnSp>
            <p:nvCxnSpPr>
              <p:cNvPr id="258" name=""/>
              <p:cNvCxnSpPr>
                <a:stCxn id="255" idx="4"/>
                <a:endCxn id="257" idx="1"/>
              </p:cNvCxnSpPr>
              <p:nvPr/>
            </p:nvCxnSpPr>
            <p:spPr>
              <a:xfrm flipV="1">
                <a:off x="7251480" y="4380840"/>
                <a:ext cx="508680" cy="34344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grpSp>
          <p:nvGrpSpPr>
            <p:cNvPr id="259" name=""/>
            <p:cNvGrpSpPr/>
            <p:nvPr/>
          </p:nvGrpSpPr>
          <p:grpSpPr>
            <a:xfrm>
              <a:off x="6705720" y="5334120"/>
              <a:ext cx="990360" cy="380880"/>
              <a:chOff x="6705720" y="5334120"/>
              <a:chExt cx="990360" cy="380880"/>
            </a:xfrm>
          </p:grpSpPr>
          <p:sp>
            <p:nvSpPr>
              <p:cNvPr id="260" name=""/>
              <p:cNvSpPr/>
              <p:nvPr/>
            </p:nvSpPr>
            <p:spPr>
              <a:xfrm>
                <a:off x="7238880" y="5334120"/>
                <a:ext cx="457200" cy="3808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cxnSp>
            <p:nvCxnSpPr>
              <p:cNvPr id="261" name=""/>
              <p:cNvCxnSpPr>
                <a:stCxn id="255" idx="3"/>
                <a:endCxn id="260" idx="1"/>
              </p:cNvCxnSpPr>
              <p:nvPr/>
            </p:nvCxnSpPr>
            <p:spPr>
              <a:xfrm>
                <a:off x="6705720" y="5346720"/>
                <a:ext cx="521280" cy="17820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grpSp>
          <p:nvGrpSpPr>
            <p:cNvPr id="262" name=""/>
            <p:cNvGrpSpPr/>
            <p:nvPr/>
          </p:nvGrpSpPr>
          <p:grpSpPr>
            <a:xfrm>
              <a:off x="6477120" y="4648320"/>
              <a:ext cx="457200" cy="456480"/>
              <a:chOff x="6477120" y="4648320"/>
              <a:chExt cx="457200" cy="456480"/>
            </a:xfrm>
          </p:grpSpPr>
          <p:sp>
            <p:nvSpPr>
              <p:cNvPr id="263" name=""/>
              <p:cNvSpPr/>
              <p:nvPr/>
            </p:nvSpPr>
            <p:spPr>
              <a:xfrm>
                <a:off x="6477120" y="4648320"/>
                <a:ext cx="152280" cy="152280"/>
              </a:xfrm>
              <a:prstGeom prst="ellipse">
                <a:avLst/>
              </a:prstGeom>
              <a:noFill/>
              <a:ln w="190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781680" y="4648320"/>
                <a:ext cx="152640" cy="152280"/>
              </a:xfrm>
              <a:prstGeom prst="ellipse">
                <a:avLst/>
              </a:prstGeom>
              <a:noFill/>
              <a:ln w="190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6552000" y="4800240"/>
                <a:ext cx="3042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3" y="9383"/>
                    </a:moveTo>
                    <a:arcTo wR="10800" hR="10800" stAng="-10347655" swAng="1034765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3" y="9383"/>
                    </a:moveTo>
                    <a:arcTo wR="10800" hR="10800" stAng="-10347655" swAng="10347655"/>
                  </a:path>
                </a:pathLst>
              </a:custGeom>
              <a:noFill/>
              <a:ln w="190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1447920" y="2133720"/>
              <a:ext cx="1447560" cy="99036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676520" y="2286000"/>
              <a:ext cx="60948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828800" y="2438280"/>
              <a:ext cx="60948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981080" y="2590920"/>
              <a:ext cx="609840" cy="457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133720" y="2666880"/>
            <a:ext cx="3568680" cy="1981800"/>
            <a:chOff x="2133720" y="2666880"/>
            <a:chExt cx="3568680" cy="1981800"/>
          </a:xfrm>
        </p:grpSpPr>
        <p:grpSp>
          <p:nvGrpSpPr>
            <p:cNvPr id="271" name=""/>
            <p:cNvGrpSpPr/>
            <p:nvPr/>
          </p:nvGrpSpPr>
          <p:grpSpPr>
            <a:xfrm>
              <a:off x="2133720" y="2666880"/>
              <a:ext cx="304200" cy="406440"/>
              <a:chOff x="2133720" y="2666880"/>
              <a:chExt cx="304200" cy="406440"/>
            </a:xfrm>
          </p:grpSpPr>
          <p:sp>
            <p:nvSpPr>
              <p:cNvPr id="272" name=""/>
              <p:cNvSpPr/>
              <p:nvPr/>
            </p:nvSpPr>
            <p:spPr>
              <a:xfrm>
                <a:off x="2133720" y="2666880"/>
                <a:ext cx="101520" cy="101160"/>
              </a:xfrm>
              <a:prstGeom prst="ellipse">
                <a:avLst/>
              </a:prstGeom>
              <a:noFill/>
              <a:ln w="190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336760" y="2666880"/>
                <a:ext cx="101160" cy="101160"/>
              </a:xfrm>
              <a:prstGeom prst="ellipse">
                <a:avLst/>
              </a:prstGeom>
              <a:noFill/>
              <a:ln w="190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184120" y="2869200"/>
                <a:ext cx="253800" cy="20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9" y="9770"/>
                    </a:moveTo>
                    <a:arcTo wR="10800" hR="10800" stAng="-10471597" swAng="1033011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9" y="9770"/>
                    </a:moveTo>
                    <a:arcTo wR="10800" hR="10800" stAng="-10471597" swAng="10330113"/>
                  </a:path>
                </a:pathLst>
              </a:custGeom>
              <a:noFill/>
              <a:ln w="190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cxnSp>
          <p:nvCxnSpPr>
            <p:cNvPr id="275" name=""/>
            <p:cNvCxnSpPr>
              <a:stCxn id="269" idx="3"/>
              <a:endCxn id="254" idx="2"/>
            </p:cNvCxnSpPr>
            <p:nvPr/>
          </p:nvCxnSpPr>
          <p:spPr>
            <a:xfrm>
              <a:off x="2590560" y="2819520"/>
              <a:ext cx="3112200" cy="182952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276" name=""/>
          <p:cNvGrpSpPr/>
          <p:nvPr/>
        </p:nvGrpSpPr>
        <p:grpSpPr>
          <a:xfrm>
            <a:off x="2743200" y="2895480"/>
            <a:ext cx="1371600" cy="1130400"/>
            <a:chOff x="2743200" y="2895480"/>
            <a:chExt cx="1371600" cy="1130400"/>
          </a:xfrm>
        </p:grpSpPr>
        <p:sp>
          <p:nvSpPr>
            <p:cNvPr id="277" name=""/>
            <p:cNvSpPr/>
            <p:nvPr/>
          </p:nvSpPr>
          <p:spPr>
            <a:xfrm>
              <a:off x="2743200" y="2895480"/>
              <a:ext cx="1371600" cy="1066680"/>
            </a:xfrm>
            <a:prstGeom prst="horizontalScroll">
              <a:avLst>
                <a:gd name="adj" fmla="val 12500"/>
              </a:avLst>
            </a:prstGeom>
            <a:solidFill>
              <a:srgbClr val="ffffff"/>
            </a:solidFill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971800" y="3200400"/>
              <a:ext cx="99072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ODBC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cxnSp>
        <p:nvCxnSpPr>
          <p:cNvPr id="279" name=""/>
          <p:cNvCxnSpPr>
            <a:stCxn id="277" idx="3"/>
            <a:endCxn id="255" idx="2"/>
          </p:cNvCxnSpPr>
          <p:nvPr/>
        </p:nvCxnSpPr>
        <p:spPr>
          <a:xfrm>
            <a:off x="4127040" y="3429000"/>
            <a:ext cx="2032920" cy="1296000"/>
          </a:xfrm>
          <a:prstGeom prst="straightConnector1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0" name=""/>
          <p:cNvCxnSpPr>
            <a:stCxn id="269" idx="2"/>
            <a:endCxn id="277" idx="1"/>
          </p:cNvCxnSpPr>
          <p:nvPr/>
        </p:nvCxnSpPr>
        <p:spPr>
          <a:xfrm>
            <a:off x="2285640" y="3048120"/>
            <a:ext cx="445320" cy="381600"/>
          </a:xfrm>
          <a:prstGeom prst="straightConnector1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281" name=""/>
          <p:cNvGrpSpPr/>
          <p:nvPr/>
        </p:nvGrpSpPr>
        <p:grpSpPr>
          <a:xfrm>
            <a:off x="2133720" y="2666880"/>
            <a:ext cx="304200" cy="304200"/>
            <a:chOff x="2133720" y="2666880"/>
            <a:chExt cx="304200" cy="304200"/>
          </a:xfrm>
        </p:grpSpPr>
        <p:sp>
          <p:nvSpPr>
            <p:cNvPr id="282" name=""/>
            <p:cNvSpPr/>
            <p:nvPr/>
          </p:nvSpPr>
          <p:spPr>
            <a:xfrm>
              <a:off x="2133720" y="2666880"/>
              <a:ext cx="101520" cy="101520"/>
            </a:xfrm>
            <a:prstGeom prst="ellipse">
              <a:avLst/>
            </a:prstGeom>
            <a:noFill/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336760" y="2666880"/>
              <a:ext cx="101160" cy="101520"/>
            </a:xfrm>
            <a:prstGeom prst="ellipse">
              <a:avLst/>
            </a:prstGeom>
            <a:noFill/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2183760" y="2768040"/>
              <a:ext cx="202320" cy="20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" y="9383"/>
                  </a:moveTo>
                  <a:arcTo wR="10800" hR="10800" stAng="-10347655" swAng="10347655"/>
                  <a:lnTo>
                    <a:pt x="10800" y="10800"/>
                  </a:lnTo>
                  <a:close/>
                </a:path>
                <a:path fill="none" w="21600" h="21600">
                  <a:moveTo>
                    <a:pt x="93" y="9383"/>
                  </a:moveTo>
                  <a:arcTo wR="10800" hR="10800" stAng="-10347655" swAng="10347655"/>
                </a:path>
              </a:pathLst>
            </a:custGeom>
            <a:noFill/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914400" y="1828800"/>
            <a:ext cx="7620120" cy="28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Rob Bracke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Bracken Software Limited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www.brackensoftware.co.uk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ddg@brackensoftware.co.uk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y ADO.NET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447920" y="2133720"/>
            <a:ext cx="6933960" cy="3809880"/>
            <a:chOff x="1447920" y="2133720"/>
            <a:chExt cx="6933960" cy="3809880"/>
          </a:xfrm>
        </p:grpSpPr>
        <p:sp>
          <p:nvSpPr>
            <p:cNvPr id="287" name=""/>
            <p:cNvSpPr/>
            <p:nvPr/>
          </p:nvSpPr>
          <p:spPr>
            <a:xfrm>
              <a:off x="5715000" y="3352680"/>
              <a:ext cx="2666880" cy="2590920"/>
            </a:xfrm>
            <a:prstGeom prst="ellipse">
              <a:avLst/>
            </a:prstGeom>
            <a:noFill/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72200" y="4114800"/>
              <a:ext cx="1066680" cy="1219320"/>
            </a:xfrm>
            <a:prstGeom prst="flowChartMagneticDisk">
              <a:avLst/>
            </a:prstGeom>
            <a:noFill/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7251480" y="4191120"/>
              <a:ext cx="978120" cy="532800"/>
              <a:chOff x="7251480" y="4191120"/>
              <a:chExt cx="978120" cy="532800"/>
            </a:xfrm>
          </p:grpSpPr>
          <p:sp>
            <p:nvSpPr>
              <p:cNvPr id="290" name=""/>
              <p:cNvSpPr/>
              <p:nvPr/>
            </p:nvSpPr>
            <p:spPr>
              <a:xfrm>
                <a:off x="7772400" y="4191120"/>
                <a:ext cx="457200" cy="38052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cxnSp>
            <p:nvCxnSpPr>
              <p:cNvPr id="291" name=""/>
              <p:cNvCxnSpPr>
                <a:stCxn id="288" idx="4"/>
                <a:endCxn id="290" idx="1"/>
              </p:cNvCxnSpPr>
              <p:nvPr/>
            </p:nvCxnSpPr>
            <p:spPr>
              <a:xfrm flipV="1">
                <a:off x="7251480" y="4380840"/>
                <a:ext cx="508680" cy="34344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grpSp>
          <p:nvGrpSpPr>
            <p:cNvPr id="292" name=""/>
            <p:cNvGrpSpPr/>
            <p:nvPr/>
          </p:nvGrpSpPr>
          <p:grpSpPr>
            <a:xfrm>
              <a:off x="6705720" y="5334120"/>
              <a:ext cx="990360" cy="380880"/>
              <a:chOff x="6705720" y="5334120"/>
              <a:chExt cx="990360" cy="380880"/>
            </a:xfrm>
          </p:grpSpPr>
          <p:sp>
            <p:nvSpPr>
              <p:cNvPr id="293" name=""/>
              <p:cNvSpPr/>
              <p:nvPr/>
            </p:nvSpPr>
            <p:spPr>
              <a:xfrm>
                <a:off x="7238880" y="5334120"/>
                <a:ext cx="457200" cy="3808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cxnSp>
            <p:nvCxnSpPr>
              <p:cNvPr id="294" name=""/>
              <p:cNvCxnSpPr>
                <a:stCxn id="288" idx="3"/>
                <a:endCxn id="293" idx="1"/>
              </p:cNvCxnSpPr>
              <p:nvPr/>
            </p:nvCxnSpPr>
            <p:spPr>
              <a:xfrm>
                <a:off x="6705720" y="5346720"/>
                <a:ext cx="521280" cy="17820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grpSp>
          <p:nvGrpSpPr>
            <p:cNvPr id="295" name=""/>
            <p:cNvGrpSpPr/>
            <p:nvPr/>
          </p:nvGrpSpPr>
          <p:grpSpPr>
            <a:xfrm>
              <a:off x="6477120" y="4648320"/>
              <a:ext cx="457200" cy="456480"/>
              <a:chOff x="6477120" y="4648320"/>
              <a:chExt cx="457200" cy="456480"/>
            </a:xfrm>
          </p:grpSpPr>
          <p:sp>
            <p:nvSpPr>
              <p:cNvPr id="296" name=""/>
              <p:cNvSpPr/>
              <p:nvPr/>
            </p:nvSpPr>
            <p:spPr>
              <a:xfrm>
                <a:off x="6477120" y="4648320"/>
                <a:ext cx="152280" cy="152280"/>
              </a:xfrm>
              <a:prstGeom prst="ellipse">
                <a:avLst/>
              </a:prstGeom>
              <a:noFill/>
              <a:ln w="190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781680" y="4648320"/>
                <a:ext cx="152640" cy="152280"/>
              </a:xfrm>
              <a:prstGeom prst="ellipse">
                <a:avLst/>
              </a:prstGeom>
              <a:noFill/>
              <a:ln w="190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6552000" y="4800240"/>
                <a:ext cx="304200" cy="30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3" y="9383"/>
                    </a:moveTo>
                    <a:arcTo wR="10800" hR="10800" stAng="-10347655" swAng="1034765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3" y="9383"/>
                    </a:moveTo>
                    <a:arcTo wR="10800" hR="10800" stAng="-10347655" swAng="10347655"/>
                  </a:path>
                </a:pathLst>
              </a:custGeom>
              <a:noFill/>
              <a:ln w="190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1447920" y="2133720"/>
              <a:ext cx="2819160" cy="22860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971800" y="3352680"/>
              <a:ext cx="60948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124080" y="3505320"/>
              <a:ext cx="60984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76720" y="3657600"/>
              <a:ext cx="609480" cy="457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4267080" y="2133720"/>
              <a:ext cx="1371600" cy="1130400"/>
              <a:chOff x="4267080" y="2133720"/>
              <a:chExt cx="1371600" cy="1130400"/>
            </a:xfrm>
          </p:grpSpPr>
          <p:sp>
            <p:nvSpPr>
              <p:cNvPr id="304" name=""/>
              <p:cNvSpPr/>
              <p:nvPr/>
            </p:nvSpPr>
            <p:spPr>
              <a:xfrm>
                <a:off x="4267080" y="2133720"/>
                <a:ext cx="1371600" cy="1066680"/>
              </a:xfrm>
              <a:prstGeom prst="horizontalScroll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495680" y="2438640"/>
                <a:ext cx="990720" cy="825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ODBC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cxnSp>
          <p:nvCxnSpPr>
            <p:cNvPr id="306" name=""/>
            <p:cNvCxnSpPr>
              <a:stCxn id="302" idx="3"/>
              <a:endCxn id="304" idx="1"/>
            </p:cNvCxnSpPr>
            <p:nvPr/>
          </p:nvCxnSpPr>
          <p:spPr>
            <a:xfrm flipV="1">
              <a:off x="3885840" y="2666160"/>
              <a:ext cx="369000" cy="12200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07" name=""/>
            <p:cNvCxnSpPr>
              <a:stCxn id="304" idx="2"/>
              <a:endCxn id="288" idx="1"/>
            </p:cNvCxnSpPr>
            <p:nvPr/>
          </p:nvCxnSpPr>
          <p:spPr>
            <a:xfrm>
              <a:off x="4952520" y="3079800"/>
              <a:ext cx="1753560" cy="102312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308" name=""/>
            <p:cNvGrpSpPr/>
            <p:nvPr/>
          </p:nvGrpSpPr>
          <p:grpSpPr>
            <a:xfrm>
              <a:off x="3429000" y="3733920"/>
              <a:ext cx="304920" cy="303480"/>
              <a:chOff x="3429000" y="3733920"/>
              <a:chExt cx="304920" cy="303480"/>
            </a:xfrm>
          </p:grpSpPr>
          <p:sp>
            <p:nvSpPr>
              <p:cNvPr id="309" name=""/>
              <p:cNvSpPr/>
              <p:nvPr/>
            </p:nvSpPr>
            <p:spPr>
              <a:xfrm>
                <a:off x="3429000" y="3733920"/>
                <a:ext cx="101520" cy="101160"/>
              </a:xfrm>
              <a:prstGeom prst="ellipse">
                <a:avLst/>
              </a:prstGeom>
              <a:noFill/>
              <a:ln w="190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632400" y="3733920"/>
                <a:ext cx="101520" cy="101160"/>
              </a:xfrm>
              <a:prstGeom prst="ellipse">
                <a:avLst/>
              </a:prstGeom>
              <a:noFill/>
              <a:ln w="190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3479040" y="3835080"/>
                <a:ext cx="202320" cy="20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3" y="9383"/>
                    </a:moveTo>
                    <a:arcTo wR="10800" hR="10800" stAng="-10347655" swAng="1034765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3" y="9383"/>
                    </a:moveTo>
                    <a:arcTo wR="10800" hR="10800" stAng="-10347655" swAng="10347655"/>
                  </a:path>
                </a:pathLst>
              </a:custGeom>
              <a:noFill/>
              <a:ln w="190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2" name=""/>
          <p:cNvSpPr/>
          <p:nvPr/>
        </p:nvSpPr>
        <p:spPr>
          <a:xfrm>
            <a:off x="1752480" y="2590920"/>
            <a:ext cx="304920" cy="30456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81080" y="2743200"/>
            <a:ext cx="304920" cy="304920"/>
          </a:xfrm>
          <a:prstGeom prst="plus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133720" y="2514600"/>
            <a:ext cx="304560" cy="304920"/>
          </a:xfrm>
          <a:prstGeom prst="plus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52480" y="2895480"/>
            <a:ext cx="304920" cy="304920"/>
          </a:xfrm>
          <a:prstGeom prst="plus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981080" y="2286000"/>
            <a:ext cx="304920" cy="304920"/>
          </a:xfrm>
          <a:prstGeom prst="plus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437920" y="2514600"/>
            <a:ext cx="1816560" cy="406440"/>
            <a:chOff x="2437920" y="2514600"/>
            <a:chExt cx="1816560" cy="406440"/>
          </a:xfrm>
        </p:grpSpPr>
        <p:cxnSp>
          <p:nvCxnSpPr>
            <p:cNvPr id="318" name=""/>
            <p:cNvCxnSpPr>
              <a:stCxn id="314" idx="3"/>
              <a:endCxn id="304" idx="1"/>
            </p:cNvCxnSpPr>
            <p:nvPr/>
          </p:nvCxnSpPr>
          <p:spPr>
            <a:xfrm>
              <a:off x="2437920" y="2666520"/>
              <a:ext cx="1816920" cy="10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319" name=""/>
            <p:cNvGrpSpPr/>
            <p:nvPr/>
          </p:nvGrpSpPr>
          <p:grpSpPr>
            <a:xfrm>
              <a:off x="3048120" y="2514600"/>
              <a:ext cx="304200" cy="406440"/>
              <a:chOff x="3048120" y="2514600"/>
              <a:chExt cx="304200" cy="406440"/>
            </a:xfrm>
          </p:grpSpPr>
          <p:sp>
            <p:nvSpPr>
              <p:cNvPr id="320" name=""/>
              <p:cNvSpPr/>
              <p:nvPr/>
            </p:nvSpPr>
            <p:spPr>
              <a:xfrm>
                <a:off x="3048120" y="2514600"/>
                <a:ext cx="101520" cy="101160"/>
              </a:xfrm>
              <a:prstGeom prst="ellipse">
                <a:avLst/>
              </a:prstGeom>
              <a:noFill/>
              <a:ln w="190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251160" y="2514600"/>
                <a:ext cx="101160" cy="101160"/>
              </a:xfrm>
              <a:prstGeom prst="ellipse">
                <a:avLst/>
              </a:prstGeom>
              <a:noFill/>
              <a:ln w="190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098520" y="2716920"/>
                <a:ext cx="253800" cy="20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9" y="9770"/>
                    </a:moveTo>
                    <a:arcTo wR="10800" hR="10800" stAng="-10471597" swAng="1033011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9" y="9770"/>
                    </a:moveTo>
                    <a:arcTo wR="10800" hR="10800" stAng="-10471597" swAng="10330113"/>
                  </a:path>
                </a:pathLst>
              </a:custGeom>
              <a:noFill/>
              <a:ln w="190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3" name=""/>
          <p:cNvGrpSpPr/>
          <p:nvPr/>
        </p:nvGrpSpPr>
        <p:grpSpPr>
          <a:xfrm>
            <a:off x="1523880" y="3809880"/>
            <a:ext cx="990720" cy="731880"/>
            <a:chOff x="1523880" y="3809880"/>
            <a:chExt cx="990720" cy="731880"/>
          </a:xfrm>
        </p:grpSpPr>
        <p:sp>
          <p:nvSpPr>
            <p:cNvPr id="324" name=""/>
            <p:cNvSpPr/>
            <p:nvPr/>
          </p:nvSpPr>
          <p:spPr>
            <a:xfrm>
              <a:off x="1828800" y="4114800"/>
              <a:ext cx="304920" cy="304920"/>
            </a:xfrm>
            <a:prstGeom prst="plus">
              <a:avLst>
                <a:gd name="adj" fmla="val 25000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057400" y="3962520"/>
              <a:ext cx="304920" cy="304560"/>
            </a:xfrm>
            <a:prstGeom prst="plus">
              <a:avLst>
                <a:gd name="adj" fmla="val 25000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209680" y="4191120"/>
              <a:ext cx="304920" cy="304560"/>
            </a:xfrm>
            <a:prstGeom prst="plus">
              <a:avLst>
                <a:gd name="adj" fmla="val 25000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523880" y="3809880"/>
              <a:ext cx="6098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D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cxnSp>
        <p:nvCxnSpPr>
          <p:cNvPr id="328" name=""/>
          <p:cNvCxnSpPr>
            <a:stCxn id="313" idx="2"/>
            <a:endCxn id="325" idx="0"/>
          </p:cNvCxnSpPr>
          <p:nvPr/>
        </p:nvCxnSpPr>
        <p:spPr>
          <a:xfrm>
            <a:off x="2133360" y="3048120"/>
            <a:ext cx="76680" cy="915120"/>
          </a:xfrm>
          <a:prstGeom prst="straightConnector1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9" name=""/>
          <p:cNvCxnSpPr>
            <a:stCxn id="326" idx="2"/>
            <a:endCxn id="288" idx="2"/>
          </p:cNvCxnSpPr>
          <p:nvPr/>
        </p:nvCxnSpPr>
        <p:spPr>
          <a:xfrm>
            <a:off x="2362320" y="4495320"/>
            <a:ext cx="3798000" cy="229320"/>
          </a:xfrm>
          <a:prstGeom prst="straightConnector1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0" name=""/>
          <p:cNvGrpSpPr/>
          <p:nvPr/>
        </p:nvGrpSpPr>
        <p:grpSpPr>
          <a:xfrm>
            <a:off x="2057400" y="3352680"/>
            <a:ext cx="304920" cy="304200"/>
            <a:chOff x="2057400" y="3352680"/>
            <a:chExt cx="304920" cy="304200"/>
          </a:xfrm>
        </p:grpSpPr>
        <p:sp>
          <p:nvSpPr>
            <p:cNvPr id="331" name=""/>
            <p:cNvSpPr/>
            <p:nvPr/>
          </p:nvSpPr>
          <p:spPr>
            <a:xfrm>
              <a:off x="2057400" y="3352680"/>
              <a:ext cx="101520" cy="101520"/>
            </a:xfrm>
            <a:prstGeom prst="ellipse">
              <a:avLst/>
            </a:prstGeom>
            <a:noFill/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260800" y="3352680"/>
              <a:ext cx="101520" cy="101520"/>
            </a:xfrm>
            <a:prstGeom prst="ellipse">
              <a:avLst/>
            </a:prstGeom>
            <a:noFill/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2107440" y="3453840"/>
              <a:ext cx="202320" cy="20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" y="9383"/>
                  </a:moveTo>
                  <a:arcTo wR="10800" hR="10800" stAng="-10347655" swAng="10347655"/>
                  <a:lnTo>
                    <a:pt x="10800" y="10800"/>
                  </a:lnTo>
                  <a:close/>
                </a:path>
                <a:path fill="none" w="21600" h="21600">
                  <a:moveTo>
                    <a:pt x="93" y="9383"/>
                  </a:moveTo>
                  <a:arcTo wR="10800" hR="10800" stAng="-10347655" swAng="10347655"/>
                </a:path>
              </a:pathLst>
            </a:custGeom>
            <a:noFill/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685800" y="5486400"/>
            <a:ext cx="1295280" cy="1066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505320" y="5486400"/>
            <a:ext cx="1143000" cy="106668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24" idx="2"/>
            <a:endCxn id="334" idx="0"/>
          </p:cNvCxnSpPr>
          <p:nvPr/>
        </p:nvCxnSpPr>
        <p:spPr>
          <a:xfrm flipH="1">
            <a:off x="1332720" y="4419360"/>
            <a:ext cx="648360" cy="1067400"/>
          </a:xfrm>
          <a:prstGeom prst="straightConnector1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37" name=""/>
          <p:cNvCxnSpPr>
            <a:stCxn id="324" idx="2"/>
            <a:endCxn id="335" idx="0"/>
          </p:cNvCxnSpPr>
          <p:nvPr/>
        </p:nvCxnSpPr>
        <p:spPr>
          <a:xfrm>
            <a:off x="1980720" y="4419720"/>
            <a:ext cx="2096280" cy="1054800"/>
          </a:xfrm>
          <a:prstGeom prst="straightConnector1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</p:cxn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219320" y="1828800"/>
            <a:ext cx="2666880" cy="1828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Why ADO.NE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143000" y="1752480"/>
            <a:ext cx="7696080" cy="4800600"/>
            <a:chOff x="1143000" y="1752480"/>
            <a:chExt cx="7696080" cy="4800600"/>
          </a:xfrm>
        </p:grpSpPr>
        <p:grpSp>
          <p:nvGrpSpPr>
            <p:cNvPr id="341" name=""/>
            <p:cNvGrpSpPr/>
            <p:nvPr/>
          </p:nvGrpSpPr>
          <p:grpSpPr>
            <a:xfrm>
              <a:off x="6705720" y="4343400"/>
              <a:ext cx="2133360" cy="2073240"/>
              <a:chOff x="6705720" y="4343400"/>
              <a:chExt cx="2133360" cy="2073240"/>
            </a:xfrm>
          </p:grpSpPr>
          <p:sp>
            <p:nvSpPr>
              <p:cNvPr id="342" name=""/>
              <p:cNvSpPr/>
              <p:nvPr/>
            </p:nvSpPr>
            <p:spPr>
              <a:xfrm>
                <a:off x="6705720" y="4343400"/>
                <a:ext cx="2133360" cy="2073240"/>
              </a:xfrm>
              <a:prstGeom prst="ellipse">
                <a:avLst/>
              </a:prstGeom>
              <a:noFill/>
              <a:ln w="255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162560" y="5105520"/>
                <a:ext cx="853920" cy="976320"/>
              </a:xfrm>
              <a:prstGeom prst="flowChartMagneticDisk">
                <a:avLst/>
              </a:prstGeom>
              <a:noFill/>
              <a:ln w="255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229600" y="4800600"/>
                <a:ext cx="364680" cy="30492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cxnSp>
            <p:nvCxnSpPr>
              <p:cNvPr id="345" name=""/>
              <p:cNvCxnSpPr>
                <a:stCxn id="343" idx="1"/>
              </p:cNvCxnSpPr>
              <p:nvPr/>
            </p:nvCxnSpPr>
            <p:spPr>
              <a:xfrm flipV="1">
                <a:off x="7589520" y="4952880"/>
                <a:ext cx="598680" cy="14040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346" name=""/>
              <p:cNvSpPr/>
              <p:nvPr/>
            </p:nvSpPr>
            <p:spPr>
              <a:xfrm>
                <a:off x="8229600" y="5639040"/>
                <a:ext cx="364680" cy="30456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cxnSp>
            <p:nvCxnSpPr>
              <p:cNvPr id="347" name=""/>
              <p:cNvCxnSpPr>
                <a:stCxn id="343" idx="4"/>
                <a:endCxn id="346" idx="1"/>
              </p:cNvCxnSpPr>
              <p:nvPr/>
            </p:nvCxnSpPr>
            <p:spPr>
              <a:xfrm>
                <a:off x="8029080" y="5594040"/>
                <a:ext cx="187560" cy="19764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  <a:headEnd len="med" type="triangle" w="med"/>
                <a:tailEnd len="med" type="triangle" w="med"/>
              </a:ln>
            </p:spPr>
          </p:cxnSp>
          <p:grpSp>
            <p:nvGrpSpPr>
              <p:cNvPr id="348" name=""/>
              <p:cNvGrpSpPr/>
              <p:nvPr/>
            </p:nvGrpSpPr>
            <p:grpSpPr>
              <a:xfrm>
                <a:off x="7391160" y="5562720"/>
                <a:ext cx="364680" cy="363960"/>
                <a:chOff x="7391160" y="5562720"/>
                <a:chExt cx="364680" cy="36396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7391160" y="5562720"/>
                  <a:ext cx="121320" cy="121320"/>
                </a:xfrm>
                <a:prstGeom prst="ellipse">
                  <a:avLst/>
                </a:prstGeom>
                <a:noFill/>
                <a:ln w="1908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7634160" y="5562720"/>
                  <a:ext cx="121680" cy="121320"/>
                </a:xfrm>
                <a:prstGeom prst="ellipse">
                  <a:avLst/>
                </a:prstGeom>
                <a:noFill/>
                <a:ln w="1908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V="1">
                  <a:off x="7450920" y="5684040"/>
                  <a:ext cx="242640" cy="242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3" y="9383"/>
                      </a:moveTo>
                      <a:arcTo wR="10800" hR="10800" stAng="-10347655" swAng="1034765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3" y="9383"/>
                      </a:moveTo>
                      <a:arcTo wR="10800" hR="10800" stAng="-10347655" swAng="10347655"/>
                    </a:path>
                  </a:pathLst>
                </a:custGeom>
                <a:noFill/>
                <a:ln w="1908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2" name=""/>
            <p:cNvSpPr/>
            <p:nvPr/>
          </p:nvSpPr>
          <p:spPr>
            <a:xfrm>
              <a:off x="1143000" y="1752480"/>
              <a:ext cx="4876920" cy="26672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419720" y="3352680"/>
              <a:ext cx="60948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572000" y="3505320"/>
              <a:ext cx="60948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724280" y="3657600"/>
              <a:ext cx="609840" cy="457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6019920" y="2133720"/>
              <a:ext cx="1371600" cy="1130400"/>
              <a:chOff x="6019920" y="2133720"/>
              <a:chExt cx="1371600" cy="1130400"/>
            </a:xfrm>
          </p:grpSpPr>
          <p:sp>
            <p:nvSpPr>
              <p:cNvPr id="357" name=""/>
              <p:cNvSpPr/>
              <p:nvPr/>
            </p:nvSpPr>
            <p:spPr>
              <a:xfrm>
                <a:off x="6019920" y="2133720"/>
                <a:ext cx="1371600" cy="1066680"/>
              </a:xfrm>
              <a:prstGeom prst="horizontalScroll">
                <a:avLst>
                  <a:gd name="adj" fmla="val 12500"/>
                </a:avLst>
              </a:prstGeom>
              <a:solidFill>
                <a:srgbClr val="ffffff"/>
              </a:solidFill>
              <a:ln w="255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248520" y="2438640"/>
                <a:ext cx="990720" cy="825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ODBC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cxnSp>
          <p:nvCxnSpPr>
            <p:cNvPr id="359" name=""/>
            <p:cNvCxnSpPr>
              <a:stCxn id="355" idx="3"/>
              <a:endCxn id="357" idx="1"/>
            </p:cNvCxnSpPr>
            <p:nvPr/>
          </p:nvCxnSpPr>
          <p:spPr>
            <a:xfrm flipV="1">
              <a:off x="5333760" y="2666160"/>
              <a:ext cx="673200" cy="12200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60" name=""/>
            <p:cNvCxnSpPr>
              <a:stCxn id="357" idx="2"/>
              <a:endCxn id="343" idx="1"/>
            </p:cNvCxnSpPr>
            <p:nvPr/>
          </p:nvCxnSpPr>
          <p:spPr>
            <a:xfrm>
              <a:off x="6705720" y="3079440"/>
              <a:ext cx="884880" cy="201348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361" name=""/>
            <p:cNvGrpSpPr/>
            <p:nvPr/>
          </p:nvGrpSpPr>
          <p:grpSpPr>
            <a:xfrm>
              <a:off x="4876920" y="3733920"/>
              <a:ext cx="304200" cy="303480"/>
              <a:chOff x="4876920" y="3733920"/>
              <a:chExt cx="304200" cy="303480"/>
            </a:xfrm>
          </p:grpSpPr>
          <p:sp>
            <p:nvSpPr>
              <p:cNvPr id="362" name=""/>
              <p:cNvSpPr/>
              <p:nvPr/>
            </p:nvSpPr>
            <p:spPr>
              <a:xfrm>
                <a:off x="4876920" y="3733920"/>
                <a:ext cx="101520" cy="101160"/>
              </a:xfrm>
              <a:prstGeom prst="ellipse">
                <a:avLst/>
              </a:prstGeom>
              <a:noFill/>
              <a:ln w="190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079960" y="3733920"/>
                <a:ext cx="101160" cy="101160"/>
              </a:xfrm>
              <a:prstGeom prst="ellipse">
                <a:avLst/>
              </a:prstGeom>
              <a:noFill/>
              <a:ln w="190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4926960" y="3835080"/>
                <a:ext cx="202320" cy="20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3" y="9383"/>
                    </a:moveTo>
                    <a:arcTo wR="10800" hR="10800" stAng="-10347655" swAng="1034765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3" y="9383"/>
                    </a:moveTo>
                    <a:arcTo wR="10800" hR="10800" stAng="-10347655" swAng="10347655"/>
                  </a:path>
                </a:pathLst>
              </a:custGeom>
              <a:noFill/>
              <a:ln w="190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4267080" y="1752480"/>
              <a:ext cx="685800" cy="914400"/>
              <a:chOff x="4267080" y="1752480"/>
              <a:chExt cx="685800" cy="914400"/>
            </a:xfrm>
          </p:grpSpPr>
          <p:sp>
            <p:nvSpPr>
              <p:cNvPr id="366" name=""/>
              <p:cNvSpPr/>
              <p:nvPr/>
            </p:nvSpPr>
            <p:spPr>
              <a:xfrm>
                <a:off x="4267080" y="2057400"/>
                <a:ext cx="304920" cy="304920"/>
              </a:xfrm>
              <a:prstGeom prst="plus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495680" y="2209680"/>
                <a:ext cx="304920" cy="304920"/>
              </a:xfrm>
              <a:prstGeom prst="plus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647960" y="1981080"/>
                <a:ext cx="304920" cy="304920"/>
              </a:xfrm>
              <a:prstGeom prst="plus">
                <a:avLst>
                  <a:gd name="adj" fmla="val 25000"/>
                </a:avLst>
              </a:prstGeom>
              <a:solidFill>
                <a:srgbClr val="00ff00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267080" y="2362320"/>
                <a:ext cx="304920" cy="304560"/>
              </a:xfrm>
              <a:prstGeom prst="plus">
                <a:avLst>
                  <a:gd name="adj" fmla="val 25000"/>
                </a:avLst>
              </a:prstGeom>
              <a:solidFill>
                <a:srgbClr val="0000f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495680" y="1752480"/>
                <a:ext cx="304920" cy="304920"/>
              </a:xfrm>
              <a:prstGeom prst="plus">
                <a:avLst>
                  <a:gd name="adj" fmla="val 25000"/>
                </a:avLst>
              </a:prstGeom>
              <a:solidFill>
                <a:srgbClr val="ff00f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3124080" y="3809880"/>
              <a:ext cx="990720" cy="731880"/>
              <a:chOff x="3124080" y="3809880"/>
              <a:chExt cx="990720" cy="731880"/>
            </a:xfrm>
          </p:grpSpPr>
          <p:sp>
            <p:nvSpPr>
              <p:cNvPr id="372" name=""/>
              <p:cNvSpPr/>
              <p:nvPr/>
            </p:nvSpPr>
            <p:spPr>
              <a:xfrm>
                <a:off x="3429000" y="4114800"/>
                <a:ext cx="304920" cy="304920"/>
              </a:xfrm>
              <a:prstGeom prst="plus">
                <a:avLst>
                  <a:gd name="adj" fmla="val 25000"/>
                </a:avLst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657600" y="3962520"/>
                <a:ext cx="304920" cy="304560"/>
              </a:xfrm>
              <a:prstGeom prst="plus">
                <a:avLst>
                  <a:gd name="adj" fmla="val 25000"/>
                </a:avLst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809880" y="4191120"/>
                <a:ext cx="304920" cy="304560"/>
              </a:xfrm>
              <a:prstGeom prst="plus">
                <a:avLst>
                  <a:gd name="adj" fmla="val 25000"/>
                </a:avLst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124080" y="3809880"/>
                <a:ext cx="60984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ADO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cxnSp>
          <p:nvCxnSpPr>
            <p:cNvPr id="376" name=""/>
            <p:cNvCxnSpPr>
              <a:stCxn id="367" idx="2"/>
              <a:endCxn id="373" idx="0"/>
            </p:cNvCxnSpPr>
            <p:nvPr/>
          </p:nvCxnSpPr>
          <p:spPr>
            <a:xfrm flipH="1">
              <a:off x="3809160" y="2514600"/>
              <a:ext cx="839160" cy="14486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77" name=""/>
            <p:cNvCxnSpPr>
              <a:stCxn id="374" idx="2"/>
              <a:endCxn id="343" idx="2"/>
            </p:cNvCxnSpPr>
            <p:nvPr/>
          </p:nvCxnSpPr>
          <p:spPr>
            <a:xfrm>
              <a:off x="3962520" y="4495680"/>
              <a:ext cx="3188160" cy="10994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378" name=""/>
            <p:cNvGrpSpPr/>
            <p:nvPr/>
          </p:nvGrpSpPr>
          <p:grpSpPr>
            <a:xfrm>
              <a:off x="4267080" y="2819520"/>
              <a:ext cx="304920" cy="303480"/>
              <a:chOff x="4267080" y="2819520"/>
              <a:chExt cx="304920" cy="303480"/>
            </a:xfrm>
          </p:grpSpPr>
          <p:sp>
            <p:nvSpPr>
              <p:cNvPr id="379" name=""/>
              <p:cNvSpPr/>
              <p:nvPr/>
            </p:nvSpPr>
            <p:spPr>
              <a:xfrm>
                <a:off x="4267080" y="2819520"/>
                <a:ext cx="101520" cy="101160"/>
              </a:xfrm>
              <a:prstGeom prst="ellipse">
                <a:avLst/>
              </a:prstGeom>
              <a:noFill/>
              <a:ln w="190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470480" y="2819520"/>
                <a:ext cx="101520" cy="101160"/>
              </a:xfrm>
              <a:prstGeom prst="ellipse">
                <a:avLst/>
              </a:prstGeom>
              <a:noFill/>
              <a:ln w="190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4317120" y="2920680"/>
                <a:ext cx="202320" cy="20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3" y="9383"/>
                    </a:moveTo>
                    <a:arcTo wR="10800" hR="10800" stAng="-10347655" swAng="1034765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3" y="9383"/>
                    </a:moveTo>
                    <a:arcTo wR="10800" hR="10800" stAng="-10347655" swAng="10347655"/>
                  </a:path>
                </a:pathLst>
              </a:custGeom>
              <a:noFill/>
              <a:ln w="190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1295280" y="5486400"/>
              <a:ext cx="1295640" cy="1066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276720" y="5486400"/>
              <a:ext cx="1143000" cy="1066680"/>
            </a:xfrm>
            <a:prstGeom prst="verticalScroll">
              <a:avLst>
                <a:gd name="adj" fmla="val 12500"/>
              </a:avLst>
            </a:prstGeom>
            <a:noFill/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84" name=""/>
            <p:cNvCxnSpPr>
              <a:stCxn id="372" idx="2"/>
              <a:endCxn id="382" idx="0"/>
            </p:cNvCxnSpPr>
            <p:nvPr/>
          </p:nvCxnSpPr>
          <p:spPr>
            <a:xfrm flipH="1">
              <a:off x="1942920" y="4419360"/>
              <a:ext cx="1638720" cy="106740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85" name=""/>
            <p:cNvCxnSpPr>
              <a:stCxn id="372" idx="2"/>
              <a:endCxn id="383" idx="0"/>
            </p:cNvCxnSpPr>
            <p:nvPr/>
          </p:nvCxnSpPr>
          <p:spPr>
            <a:xfrm>
              <a:off x="3580920" y="4419720"/>
              <a:ext cx="267120" cy="105480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386" name=""/>
          <p:cNvGrpSpPr/>
          <p:nvPr/>
        </p:nvGrpSpPr>
        <p:grpSpPr>
          <a:xfrm>
            <a:off x="2895480" y="1981080"/>
            <a:ext cx="685800" cy="914400"/>
            <a:chOff x="2895480" y="1981080"/>
            <a:chExt cx="685800" cy="914400"/>
          </a:xfrm>
        </p:grpSpPr>
        <p:sp>
          <p:nvSpPr>
            <p:cNvPr id="387" name=""/>
            <p:cNvSpPr/>
            <p:nvPr/>
          </p:nvSpPr>
          <p:spPr>
            <a:xfrm>
              <a:off x="2895480" y="2286000"/>
              <a:ext cx="304920" cy="304560"/>
            </a:xfrm>
            <a:prstGeom prst="plus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124080" y="2438280"/>
              <a:ext cx="304920" cy="304920"/>
            </a:xfrm>
            <a:prstGeom prst="plus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76720" y="2209680"/>
              <a:ext cx="304560" cy="304920"/>
            </a:xfrm>
            <a:prstGeom prst="plus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95480" y="2590560"/>
              <a:ext cx="304920" cy="304920"/>
            </a:xfrm>
            <a:prstGeom prst="plus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124080" y="1981080"/>
              <a:ext cx="304920" cy="304920"/>
            </a:xfrm>
            <a:prstGeom prst="plus">
              <a:avLst>
                <a:gd name="adj" fmla="val 25000"/>
              </a:avLst>
            </a:prstGeom>
            <a:solidFill>
              <a:srgbClr val="ff00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352320" y="2437920"/>
            <a:ext cx="2654640" cy="406800"/>
            <a:chOff x="3352320" y="2437920"/>
            <a:chExt cx="2654640" cy="406800"/>
          </a:xfrm>
        </p:grpSpPr>
        <p:cxnSp>
          <p:nvCxnSpPr>
            <p:cNvPr id="393" name=""/>
            <p:cNvCxnSpPr/>
            <p:nvPr/>
          </p:nvCxnSpPr>
          <p:spPr>
            <a:xfrm>
              <a:off x="3352320" y="2437920"/>
              <a:ext cx="2655000" cy="22932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394" name=""/>
            <p:cNvGrpSpPr/>
            <p:nvPr/>
          </p:nvGrpSpPr>
          <p:grpSpPr>
            <a:xfrm>
              <a:off x="5181480" y="2438280"/>
              <a:ext cx="304920" cy="406440"/>
              <a:chOff x="5181480" y="2438280"/>
              <a:chExt cx="304920" cy="406440"/>
            </a:xfrm>
          </p:grpSpPr>
          <p:sp>
            <p:nvSpPr>
              <p:cNvPr id="395" name=""/>
              <p:cNvSpPr/>
              <p:nvPr/>
            </p:nvSpPr>
            <p:spPr>
              <a:xfrm>
                <a:off x="5181480" y="2438280"/>
                <a:ext cx="101520" cy="101160"/>
              </a:xfrm>
              <a:prstGeom prst="ellipse">
                <a:avLst/>
              </a:prstGeom>
              <a:noFill/>
              <a:ln w="190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384880" y="2438280"/>
                <a:ext cx="101520" cy="101160"/>
              </a:xfrm>
              <a:prstGeom prst="ellipse">
                <a:avLst/>
              </a:prstGeom>
              <a:noFill/>
              <a:ln w="190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231880" y="2640600"/>
                <a:ext cx="253800" cy="20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9" y="9770"/>
                    </a:moveTo>
                    <a:arcTo wR="10800" hR="10800" stAng="-10471597" swAng="1033011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9" y="9770"/>
                    </a:moveTo>
                    <a:arcTo wR="10800" hR="10800" stAng="-10471597" swAng="10330113"/>
                  </a:path>
                </a:pathLst>
              </a:custGeom>
              <a:noFill/>
              <a:ln w="190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8" name=""/>
          <p:cNvGrpSpPr/>
          <p:nvPr/>
        </p:nvGrpSpPr>
        <p:grpSpPr>
          <a:xfrm>
            <a:off x="3048120" y="2895480"/>
            <a:ext cx="762120" cy="1067400"/>
            <a:chOff x="3048120" y="2895480"/>
            <a:chExt cx="762120" cy="1067400"/>
          </a:xfrm>
        </p:grpSpPr>
        <p:cxnSp>
          <p:nvCxnSpPr>
            <p:cNvPr id="399" name=""/>
            <p:cNvCxnSpPr>
              <a:stCxn id="390" idx="2"/>
              <a:endCxn id="373" idx="0"/>
            </p:cNvCxnSpPr>
            <p:nvPr/>
          </p:nvCxnSpPr>
          <p:spPr>
            <a:xfrm>
              <a:off x="3048120" y="2895480"/>
              <a:ext cx="762480" cy="106776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400" name=""/>
            <p:cNvGrpSpPr/>
            <p:nvPr/>
          </p:nvGrpSpPr>
          <p:grpSpPr>
            <a:xfrm>
              <a:off x="3124080" y="3200400"/>
              <a:ext cx="304920" cy="406440"/>
              <a:chOff x="3124080" y="3200400"/>
              <a:chExt cx="304920" cy="406440"/>
            </a:xfrm>
          </p:grpSpPr>
          <p:sp>
            <p:nvSpPr>
              <p:cNvPr id="401" name=""/>
              <p:cNvSpPr/>
              <p:nvPr/>
            </p:nvSpPr>
            <p:spPr>
              <a:xfrm>
                <a:off x="3124080" y="3200400"/>
                <a:ext cx="101520" cy="101160"/>
              </a:xfrm>
              <a:prstGeom prst="ellipse">
                <a:avLst/>
              </a:prstGeom>
              <a:noFill/>
              <a:ln w="190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327480" y="3200400"/>
                <a:ext cx="101520" cy="101160"/>
              </a:xfrm>
              <a:prstGeom prst="ellipse">
                <a:avLst/>
              </a:prstGeom>
              <a:noFill/>
              <a:ln w="190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174480" y="3402720"/>
                <a:ext cx="253800" cy="20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9" y="9770"/>
                    </a:moveTo>
                    <a:arcTo wR="10800" hR="10800" stAng="-10471597" swAng="1033011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9" y="9770"/>
                    </a:moveTo>
                    <a:arcTo wR="10800" hR="10800" stAng="-10471597" swAng="10330113"/>
                  </a:path>
                </a:pathLst>
              </a:custGeom>
              <a:noFill/>
              <a:ln w="190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"/>
          <p:cNvGrpSpPr/>
          <p:nvPr/>
        </p:nvGrpSpPr>
        <p:grpSpPr>
          <a:xfrm>
            <a:off x="1295280" y="3048120"/>
            <a:ext cx="1295640" cy="731880"/>
            <a:chOff x="1295280" y="3048120"/>
            <a:chExt cx="1295640" cy="731880"/>
          </a:xfrm>
        </p:grpSpPr>
        <p:sp>
          <p:nvSpPr>
            <p:cNvPr id="405" name=""/>
            <p:cNvSpPr/>
            <p:nvPr/>
          </p:nvSpPr>
          <p:spPr>
            <a:xfrm>
              <a:off x="1600200" y="3353040"/>
              <a:ext cx="304920" cy="304920"/>
            </a:xfrm>
            <a:prstGeom prst="plus">
              <a:avLst>
                <a:gd name="adj" fmla="val 25000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828800" y="3200760"/>
              <a:ext cx="304920" cy="304560"/>
            </a:xfrm>
            <a:prstGeom prst="plus">
              <a:avLst>
                <a:gd name="adj" fmla="val 25000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81080" y="3429360"/>
              <a:ext cx="304920" cy="304560"/>
            </a:xfrm>
            <a:prstGeom prst="plus">
              <a:avLst>
                <a:gd name="adj" fmla="val 25000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295280" y="3048120"/>
              <a:ext cx="12956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DO.NET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22860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XM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647280" y="2438280"/>
            <a:ext cx="2248200" cy="2210040"/>
            <a:chOff x="647280" y="2438280"/>
            <a:chExt cx="2248200" cy="2210040"/>
          </a:xfrm>
        </p:grpSpPr>
        <p:grpSp>
          <p:nvGrpSpPr>
            <p:cNvPr id="411" name=""/>
            <p:cNvGrpSpPr/>
            <p:nvPr/>
          </p:nvGrpSpPr>
          <p:grpSpPr>
            <a:xfrm>
              <a:off x="1143000" y="2514600"/>
              <a:ext cx="990720" cy="960480"/>
              <a:chOff x="1143000" y="2514600"/>
              <a:chExt cx="990720" cy="960480"/>
            </a:xfrm>
          </p:grpSpPr>
          <p:sp>
            <p:nvSpPr>
              <p:cNvPr id="412" name=""/>
              <p:cNvSpPr/>
              <p:nvPr/>
            </p:nvSpPr>
            <p:spPr>
              <a:xfrm>
                <a:off x="1143000" y="2514600"/>
                <a:ext cx="990720" cy="762120"/>
              </a:xfrm>
              <a:prstGeom prst="verticalScroll">
                <a:avLst>
                  <a:gd name="adj" fmla="val 12500"/>
                </a:avLst>
              </a:prstGeom>
              <a:noFill/>
              <a:ln w="255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295280" y="2743200"/>
                <a:ext cx="68580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DOM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cxnSp>
          <p:nvCxnSpPr>
            <p:cNvPr id="414" name=""/>
            <p:cNvCxnSpPr>
              <a:stCxn id="387" idx="1"/>
              <a:endCxn id="412" idx="3"/>
            </p:cNvCxnSpPr>
            <p:nvPr/>
          </p:nvCxnSpPr>
          <p:spPr>
            <a:xfrm flipH="1">
              <a:off x="2050560" y="2438280"/>
              <a:ext cx="845280" cy="45792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415" name=""/>
            <p:cNvCxnSpPr>
              <a:stCxn id="412" idx="2"/>
              <a:endCxn id="409" idx="0"/>
            </p:cNvCxnSpPr>
            <p:nvPr/>
          </p:nvCxnSpPr>
          <p:spPr>
            <a:xfrm flipH="1">
              <a:off x="647280" y="3288960"/>
              <a:ext cx="991440" cy="135972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</p:cxnSp>
      </p:grpSp>
      <p:cxnSp>
        <p:nvCxnSpPr>
          <p:cNvPr id="416" name=""/>
          <p:cNvCxnSpPr>
            <a:stCxn id="405" idx="2"/>
            <a:endCxn id="409" idx="0"/>
          </p:cNvCxnSpPr>
          <p:nvPr/>
        </p:nvCxnSpPr>
        <p:spPr>
          <a:xfrm flipH="1">
            <a:off x="646920" y="3657600"/>
            <a:ext cx="1105560" cy="991440"/>
          </a:xfrm>
          <a:prstGeom prst="straightConnector1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17" name=""/>
          <p:cNvCxnSpPr>
            <a:stCxn id="405" idx="2"/>
            <a:endCxn id="382" idx="0"/>
          </p:cNvCxnSpPr>
          <p:nvPr/>
        </p:nvCxnSpPr>
        <p:spPr>
          <a:xfrm>
            <a:off x="1752480" y="3657600"/>
            <a:ext cx="191520" cy="1829520"/>
          </a:xfrm>
          <a:prstGeom prst="straightConnector1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18" name=""/>
          <p:cNvCxnSpPr>
            <a:stCxn id="407" idx="2"/>
            <a:endCxn id="383" idx="0"/>
          </p:cNvCxnSpPr>
          <p:nvPr/>
        </p:nvCxnSpPr>
        <p:spPr>
          <a:xfrm>
            <a:off x="2133720" y="3733560"/>
            <a:ext cx="1715040" cy="1740600"/>
          </a:xfrm>
          <a:prstGeom prst="straightConnector1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19" name=""/>
          <p:cNvCxnSpPr>
            <a:stCxn id="407" idx="3"/>
            <a:endCxn id="343" idx="2"/>
          </p:cNvCxnSpPr>
          <p:nvPr/>
        </p:nvCxnSpPr>
        <p:spPr>
          <a:xfrm>
            <a:off x="2285640" y="3581280"/>
            <a:ext cx="4864680" cy="2013840"/>
          </a:xfrm>
          <a:prstGeom prst="curvedConnector5">
            <a:avLst>
              <a:gd name="adj1" fmla="val 18627"/>
              <a:gd name="adj2" fmla="val 49991"/>
              <a:gd name="adj3" fmla="val 18627"/>
            </a:avLst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20" name=""/>
          <p:cNvCxnSpPr>
            <a:stCxn id="390" idx="1"/>
            <a:endCxn id="407" idx="3"/>
          </p:cNvCxnSpPr>
          <p:nvPr/>
        </p:nvCxnSpPr>
        <p:spPr>
          <a:xfrm flipH="1">
            <a:off x="2285280" y="2743200"/>
            <a:ext cx="610200" cy="838800"/>
          </a:xfrm>
          <a:prstGeom prst="straightConnector1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421" name=""/>
          <p:cNvGrpSpPr/>
          <p:nvPr/>
        </p:nvGrpSpPr>
        <p:grpSpPr>
          <a:xfrm>
            <a:off x="2590920" y="2971800"/>
            <a:ext cx="304200" cy="304200"/>
            <a:chOff x="2590920" y="2971800"/>
            <a:chExt cx="304200" cy="304200"/>
          </a:xfrm>
        </p:grpSpPr>
        <p:sp>
          <p:nvSpPr>
            <p:cNvPr id="422" name=""/>
            <p:cNvSpPr/>
            <p:nvPr/>
          </p:nvSpPr>
          <p:spPr>
            <a:xfrm>
              <a:off x="2590920" y="2971800"/>
              <a:ext cx="101520" cy="101520"/>
            </a:xfrm>
            <a:prstGeom prst="ellipse">
              <a:avLst/>
            </a:prstGeom>
            <a:noFill/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793960" y="2971800"/>
              <a:ext cx="101160" cy="101520"/>
            </a:xfrm>
            <a:prstGeom prst="ellipse">
              <a:avLst/>
            </a:prstGeom>
            <a:noFill/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2640960" y="3072960"/>
              <a:ext cx="202320" cy="20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" y="9383"/>
                  </a:moveTo>
                  <a:arcTo wR="10800" hR="10800" stAng="-10347655" swAng="10347655"/>
                  <a:lnTo>
                    <a:pt x="10800" y="10800"/>
                  </a:lnTo>
                  <a:close/>
                </a:path>
                <a:path fill="none" w="21600" h="21600">
                  <a:moveTo>
                    <a:pt x="93" y="9383"/>
                  </a:moveTo>
                  <a:arcTo wR="10800" hR="10800" stAng="-10347655" swAng="10347655"/>
                </a:path>
              </a:pathLst>
            </a:custGeom>
            <a:noFill/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ADO.NET – the DataSet (schema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1219320" y="1523880"/>
            <a:ext cx="7010280" cy="5105520"/>
            <a:chOff x="1219320" y="1523880"/>
            <a:chExt cx="7010280" cy="5105520"/>
          </a:xfrm>
        </p:grpSpPr>
        <p:sp>
          <p:nvSpPr>
            <p:cNvPr id="427" name=""/>
            <p:cNvSpPr/>
            <p:nvPr/>
          </p:nvSpPr>
          <p:spPr>
            <a:xfrm>
              <a:off x="1219320" y="1905120"/>
              <a:ext cx="7010280" cy="4724280"/>
            </a:xfrm>
            <a:prstGeom prst="rect">
              <a:avLst/>
            </a:prstGeom>
            <a:noFill/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219320" y="1523880"/>
              <a:ext cx="129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40458c"/>
                  </a:solidFill>
                  <a:latin typeface="Tahoma"/>
                </a:rPr>
                <a:t>DataSet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1447920" y="2057400"/>
            <a:ext cx="6400800" cy="459720"/>
          </a:xfrm>
          <a:prstGeom prst="rect">
            <a:avLst/>
          </a:prstGeom>
          <a:noFill/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DataTableCollec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447920" y="2514600"/>
            <a:ext cx="1600200" cy="1130040"/>
            <a:chOff x="1447920" y="2514600"/>
            <a:chExt cx="1600200" cy="1130040"/>
          </a:xfrm>
        </p:grpSpPr>
        <p:sp>
          <p:nvSpPr>
            <p:cNvPr id="431" name=""/>
            <p:cNvSpPr/>
            <p:nvPr/>
          </p:nvSpPr>
          <p:spPr>
            <a:xfrm>
              <a:off x="1447920" y="2819160"/>
              <a:ext cx="1600200" cy="825480"/>
            </a:xfrm>
            <a:prstGeom prst="rect">
              <a:avLst/>
            </a:prstGeom>
            <a:noFill/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40458c"/>
                  </a:solidFill>
                  <a:latin typeface="Tahoma"/>
                </a:rPr>
                <a:t>DataTabl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209680" y="2514600"/>
              <a:ext cx="0" cy="3045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3809880" y="2514600"/>
            <a:ext cx="1600200" cy="1130040"/>
            <a:chOff x="3809880" y="2514600"/>
            <a:chExt cx="1600200" cy="1130040"/>
          </a:xfrm>
        </p:grpSpPr>
        <p:sp>
          <p:nvSpPr>
            <p:cNvPr id="434" name=""/>
            <p:cNvSpPr/>
            <p:nvPr/>
          </p:nvSpPr>
          <p:spPr>
            <a:xfrm>
              <a:off x="3809880" y="2819160"/>
              <a:ext cx="1600200" cy="825480"/>
            </a:xfrm>
            <a:prstGeom prst="rect">
              <a:avLst/>
            </a:prstGeom>
            <a:noFill/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40458c"/>
                  </a:solidFill>
                  <a:latin typeface="Tahoma"/>
                </a:rPr>
                <a:t>DataTabl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571640" y="2514600"/>
              <a:ext cx="0" cy="3045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6248520" y="2514600"/>
            <a:ext cx="1600200" cy="1130040"/>
            <a:chOff x="6248520" y="2514600"/>
            <a:chExt cx="1600200" cy="1130040"/>
          </a:xfrm>
        </p:grpSpPr>
        <p:sp>
          <p:nvSpPr>
            <p:cNvPr id="437" name=""/>
            <p:cNvSpPr/>
            <p:nvPr/>
          </p:nvSpPr>
          <p:spPr>
            <a:xfrm>
              <a:off x="6248520" y="2819160"/>
              <a:ext cx="1600200" cy="825480"/>
            </a:xfrm>
            <a:prstGeom prst="rect">
              <a:avLst/>
            </a:prstGeom>
            <a:noFill/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40458c"/>
                  </a:solidFill>
                  <a:latin typeface="Tahoma"/>
                </a:rPr>
                <a:t>DataTabl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010280" y="2514600"/>
              <a:ext cx="0" cy="3045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1752480" y="3276720"/>
            <a:ext cx="5181840" cy="840960"/>
            <a:chOff x="1752480" y="3276720"/>
            <a:chExt cx="5181840" cy="840960"/>
          </a:xfrm>
        </p:grpSpPr>
        <p:sp>
          <p:nvSpPr>
            <p:cNvPr id="440" name=""/>
            <p:cNvSpPr/>
            <p:nvPr/>
          </p:nvSpPr>
          <p:spPr>
            <a:xfrm>
              <a:off x="1752480" y="3657960"/>
              <a:ext cx="5181840" cy="459720"/>
            </a:xfrm>
            <a:prstGeom prst="rect">
              <a:avLst/>
            </a:prstGeom>
            <a:noFill/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40458c"/>
                  </a:solidFill>
                  <a:latin typeface="Tahoma"/>
                </a:rPr>
                <a:t>DataColumnCollectio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66880" y="3276720"/>
              <a:ext cx="0" cy="3812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1752480" y="4114800"/>
            <a:ext cx="1905120" cy="1206360"/>
            <a:chOff x="1752480" y="4114800"/>
            <a:chExt cx="1905120" cy="1206360"/>
          </a:xfrm>
        </p:grpSpPr>
        <p:sp>
          <p:nvSpPr>
            <p:cNvPr id="443" name=""/>
            <p:cNvSpPr/>
            <p:nvPr/>
          </p:nvSpPr>
          <p:spPr>
            <a:xfrm>
              <a:off x="1752480" y="4495680"/>
              <a:ext cx="1905120" cy="825480"/>
            </a:xfrm>
            <a:prstGeom prst="rect">
              <a:avLst/>
            </a:prstGeom>
            <a:noFill/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40458c"/>
                  </a:solidFill>
                  <a:latin typeface="Tahoma"/>
                </a:rPr>
                <a:t>DataColum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743200" y="4114800"/>
              <a:ext cx="0" cy="3808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3809880" y="4114800"/>
            <a:ext cx="1905120" cy="1206360"/>
            <a:chOff x="3809880" y="4114800"/>
            <a:chExt cx="1905120" cy="1206360"/>
          </a:xfrm>
        </p:grpSpPr>
        <p:sp>
          <p:nvSpPr>
            <p:cNvPr id="446" name=""/>
            <p:cNvSpPr/>
            <p:nvPr/>
          </p:nvSpPr>
          <p:spPr>
            <a:xfrm>
              <a:off x="3809880" y="4495680"/>
              <a:ext cx="1905120" cy="825480"/>
            </a:xfrm>
            <a:prstGeom prst="rect">
              <a:avLst/>
            </a:prstGeom>
            <a:noFill/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40458c"/>
                  </a:solidFill>
                  <a:latin typeface="Tahoma"/>
                </a:rPr>
                <a:t>DataColum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00600" y="4114800"/>
              <a:ext cx="0" cy="3808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5867280" y="4114800"/>
            <a:ext cx="1905120" cy="1206360"/>
            <a:chOff x="5867280" y="4114800"/>
            <a:chExt cx="1905120" cy="1206360"/>
          </a:xfrm>
        </p:grpSpPr>
        <p:sp>
          <p:nvSpPr>
            <p:cNvPr id="449" name=""/>
            <p:cNvSpPr/>
            <p:nvPr/>
          </p:nvSpPr>
          <p:spPr>
            <a:xfrm>
              <a:off x="5867280" y="4495680"/>
              <a:ext cx="1905120" cy="825480"/>
            </a:xfrm>
            <a:prstGeom prst="rect">
              <a:avLst/>
            </a:prstGeom>
            <a:noFill/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40458c"/>
                  </a:solidFill>
                  <a:latin typeface="Tahoma"/>
                </a:rPr>
                <a:t>DataColum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858000" y="4114800"/>
              <a:ext cx="0" cy="3808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1447920" y="5257800"/>
            <a:ext cx="6400800" cy="459720"/>
          </a:xfrm>
          <a:prstGeom prst="rect">
            <a:avLst/>
          </a:prstGeom>
          <a:noFill/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DataRelationCollec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752480" y="5715000"/>
            <a:ext cx="2209680" cy="764640"/>
            <a:chOff x="1752480" y="5715000"/>
            <a:chExt cx="2209680" cy="764640"/>
          </a:xfrm>
        </p:grpSpPr>
        <p:sp>
          <p:nvSpPr>
            <p:cNvPr id="453" name=""/>
            <p:cNvSpPr/>
            <p:nvPr/>
          </p:nvSpPr>
          <p:spPr>
            <a:xfrm>
              <a:off x="1752480" y="6019920"/>
              <a:ext cx="2209680" cy="459720"/>
            </a:xfrm>
            <a:prstGeom prst="rect">
              <a:avLst/>
            </a:prstGeom>
            <a:noFill/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40458c"/>
                  </a:solidFill>
                  <a:latin typeface="Tahoma"/>
                </a:rPr>
                <a:t>DataRelatio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895480" y="5715000"/>
              <a:ext cx="0" cy="3049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5334120" y="5715000"/>
            <a:ext cx="2209680" cy="764640"/>
            <a:chOff x="5334120" y="5715000"/>
            <a:chExt cx="2209680" cy="764640"/>
          </a:xfrm>
        </p:grpSpPr>
        <p:sp>
          <p:nvSpPr>
            <p:cNvPr id="456" name=""/>
            <p:cNvSpPr/>
            <p:nvPr/>
          </p:nvSpPr>
          <p:spPr>
            <a:xfrm>
              <a:off x="5334120" y="6019920"/>
              <a:ext cx="2209680" cy="459720"/>
            </a:xfrm>
            <a:prstGeom prst="rect">
              <a:avLst/>
            </a:prstGeom>
            <a:noFill/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40458c"/>
                  </a:solidFill>
                  <a:latin typeface="Tahoma"/>
                </a:rPr>
                <a:t>DataRelation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477120" y="5715000"/>
              <a:ext cx="0" cy="3049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ADO.NET – the DataSet (schema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9" name=""/>
          <p:cNvSpPr/>
          <p:nvPr/>
        </p:nvSpPr>
        <p:spPr>
          <a:xfrm>
            <a:off x="762120" y="1752480"/>
            <a:ext cx="2666880" cy="825480"/>
          </a:xfrm>
          <a:prstGeom prst="rect">
            <a:avLst/>
          </a:prstGeom>
          <a:noFill/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able (DataTable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62120" y="2895480"/>
            <a:ext cx="3429000" cy="1191240"/>
          </a:xfrm>
          <a:prstGeom prst="rect">
            <a:avLst/>
          </a:prstGeom>
          <a:noFill/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Columns (DataColumnCollection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572000" y="2895480"/>
            <a:ext cx="3124080" cy="1191240"/>
          </a:xfrm>
          <a:prstGeom prst="rect">
            <a:avLst/>
          </a:prstGeom>
          <a:noFill/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Constraints (ConstraintCollection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791320" y="4343400"/>
            <a:ext cx="266688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ForeignKeyConstrain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UniqueConstrain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ahoma"/>
              </a:rPr>
              <a:t>UniqueConstraint as PK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63" name=""/>
          <p:cNvCxnSpPr>
            <a:stCxn id="459" idx="2"/>
            <a:endCxn id="460" idx="0"/>
          </p:cNvCxnSpPr>
          <p:nvPr/>
        </p:nvCxnSpPr>
        <p:spPr>
          <a:xfrm>
            <a:off x="2095560" y="2247840"/>
            <a:ext cx="381600" cy="6357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64" name=""/>
          <p:cNvCxnSpPr>
            <a:stCxn id="459" idx="2"/>
            <a:endCxn id="461" idx="0"/>
          </p:cNvCxnSpPr>
          <p:nvPr/>
        </p:nvCxnSpPr>
        <p:spPr>
          <a:xfrm>
            <a:off x="2095560" y="2247840"/>
            <a:ext cx="4039200" cy="6357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65" name=""/>
          <p:cNvCxnSpPr>
            <a:stCxn id="461" idx="2"/>
            <a:endCxn id="462" idx="0"/>
          </p:cNvCxnSpPr>
          <p:nvPr/>
        </p:nvCxnSpPr>
        <p:spPr>
          <a:xfrm>
            <a:off x="6134040" y="3755880"/>
            <a:ext cx="991440" cy="588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466" name=""/>
          <p:cNvSpPr/>
          <p:nvPr/>
        </p:nvSpPr>
        <p:spPr>
          <a:xfrm>
            <a:off x="609480" y="4343400"/>
            <a:ext cx="289584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ata column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alculated column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ggregate column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67" name=""/>
          <p:cNvCxnSpPr>
            <a:stCxn id="460" idx="2"/>
            <a:endCxn id="466" idx="0"/>
          </p:cNvCxnSpPr>
          <p:nvPr/>
        </p:nvCxnSpPr>
        <p:spPr>
          <a:xfrm flipH="1">
            <a:off x="2057040" y="3755880"/>
            <a:ext cx="419760" cy="588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ADO.NET – the DataSet (content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9" name=""/>
          <p:cNvSpPr/>
          <p:nvPr/>
        </p:nvSpPr>
        <p:spPr>
          <a:xfrm>
            <a:off x="838080" y="1676520"/>
            <a:ext cx="1295640" cy="825480"/>
          </a:xfrm>
          <a:prstGeom prst="rect">
            <a:avLst/>
          </a:prstGeom>
          <a:noFill/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DataSe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38080" y="2514600"/>
            <a:ext cx="4114800" cy="825480"/>
          </a:xfrm>
          <a:prstGeom prst="rect">
            <a:avLst/>
          </a:prstGeom>
          <a:noFill/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ables (DataTableCollection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85800" y="3505320"/>
            <a:ext cx="2666880" cy="825480"/>
          </a:xfrm>
          <a:prstGeom prst="rect">
            <a:avLst/>
          </a:prstGeom>
          <a:noFill/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able (DataTable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505320" y="3505320"/>
            <a:ext cx="2666880" cy="825480"/>
          </a:xfrm>
          <a:prstGeom prst="rect">
            <a:avLst/>
          </a:prstGeom>
          <a:noFill/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able (DataTable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248520" y="3505320"/>
            <a:ext cx="2666880" cy="825480"/>
          </a:xfrm>
          <a:prstGeom prst="rect">
            <a:avLst/>
          </a:prstGeom>
          <a:noFill/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able (DataTable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38080" y="4419720"/>
            <a:ext cx="3810240" cy="825480"/>
          </a:xfrm>
          <a:prstGeom prst="rect">
            <a:avLst/>
          </a:prstGeom>
          <a:noFill/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Rows (DataRowCollection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981080" y="5410080"/>
            <a:ext cx="23623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Row (DataRow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133720" y="5562720"/>
            <a:ext cx="23619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Row (DataRow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286000" y="5715000"/>
            <a:ext cx="23623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Row (DataRow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438280" y="5867280"/>
            <a:ext cx="23623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Row (DataRow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590920" y="6019920"/>
            <a:ext cx="23619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Row (DataRow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80" name=""/>
          <p:cNvCxnSpPr>
            <a:stCxn id="469" idx="2"/>
            <a:endCxn id="470" idx="0"/>
          </p:cNvCxnSpPr>
          <p:nvPr/>
        </p:nvCxnSpPr>
        <p:spPr>
          <a:xfrm>
            <a:off x="1485720" y="2171520"/>
            <a:ext cx="1410120" cy="3308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1" name=""/>
          <p:cNvCxnSpPr>
            <a:stCxn id="470" idx="2"/>
            <a:endCxn id="471" idx="0"/>
          </p:cNvCxnSpPr>
          <p:nvPr/>
        </p:nvCxnSpPr>
        <p:spPr>
          <a:xfrm flipH="1">
            <a:off x="2018880" y="3009960"/>
            <a:ext cx="876960" cy="4831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2" name=""/>
          <p:cNvCxnSpPr>
            <a:stCxn id="470" idx="2"/>
            <a:endCxn id="472" idx="0"/>
          </p:cNvCxnSpPr>
          <p:nvPr/>
        </p:nvCxnSpPr>
        <p:spPr>
          <a:xfrm>
            <a:off x="2895480" y="3009960"/>
            <a:ext cx="1944000" cy="4831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3" name=""/>
          <p:cNvCxnSpPr>
            <a:stCxn id="470" idx="2"/>
            <a:endCxn id="473" idx="0"/>
          </p:cNvCxnSpPr>
          <p:nvPr/>
        </p:nvCxnSpPr>
        <p:spPr>
          <a:xfrm>
            <a:off x="2895480" y="3009960"/>
            <a:ext cx="4687200" cy="4831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4" name=""/>
          <p:cNvCxnSpPr>
            <a:stCxn id="471" idx="2"/>
            <a:endCxn id="474" idx="0"/>
          </p:cNvCxnSpPr>
          <p:nvPr/>
        </p:nvCxnSpPr>
        <p:spPr>
          <a:xfrm>
            <a:off x="2018880" y="4000680"/>
            <a:ext cx="724680" cy="4068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5" name=""/>
          <p:cNvCxnSpPr>
            <a:stCxn id="474" idx="2"/>
            <a:endCxn id="475" idx="0"/>
          </p:cNvCxnSpPr>
          <p:nvPr/>
        </p:nvCxnSpPr>
        <p:spPr>
          <a:xfrm>
            <a:off x="2743200" y="4915080"/>
            <a:ext cx="419760" cy="4831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ADO.NET – loading the DataSe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914400" y="1828800"/>
            <a:ext cx="1295280" cy="1600200"/>
          </a:xfrm>
          <a:prstGeom prst="flowChartMagneticDisk">
            <a:avLst/>
          </a:prstGeom>
          <a:noFill/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238880" y="5943600"/>
            <a:ext cx="1295640" cy="825480"/>
          </a:xfrm>
          <a:prstGeom prst="rect">
            <a:avLst/>
          </a:prstGeom>
          <a:noFill/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DataSe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295280" y="2590920"/>
            <a:ext cx="533160" cy="456480"/>
            <a:chOff x="1295280" y="2590920"/>
            <a:chExt cx="533160" cy="456480"/>
          </a:xfrm>
        </p:grpSpPr>
        <p:sp>
          <p:nvSpPr>
            <p:cNvPr id="490" name=""/>
            <p:cNvSpPr/>
            <p:nvPr/>
          </p:nvSpPr>
          <p:spPr>
            <a:xfrm>
              <a:off x="1295280" y="2590920"/>
              <a:ext cx="177840" cy="152280"/>
            </a:xfrm>
            <a:prstGeom prst="ellipse">
              <a:avLst/>
            </a:prstGeom>
            <a:noFill/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50960" y="2590920"/>
              <a:ext cx="177480" cy="152280"/>
            </a:xfrm>
            <a:prstGeom prst="ellipse">
              <a:avLst/>
            </a:prstGeom>
            <a:noFill/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1382760" y="2742840"/>
              <a:ext cx="3546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" y="9383"/>
                  </a:moveTo>
                  <a:arcTo wR="10800" hR="10800" stAng="-10347655" swAng="10347655"/>
                  <a:lnTo>
                    <a:pt x="10800" y="10800"/>
                  </a:lnTo>
                  <a:close/>
                </a:path>
                <a:path fill="none" w="21600" h="21600">
                  <a:moveTo>
                    <a:pt x="93" y="9383"/>
                  </a:moveTo>
                  <a:arcTo wR="10800" hR="10800" stAng="-10347655" swAng="10347655"/>
                </a:path>
              </a:pathLst>
            </a:custGeom>
            <a:noFill/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295280" y="2590920"/>
            <a:ext cx="533520" cy="533160"/>
            <a:chOff x="1295280" y="2590920"/>
            <a:chExt cx="533520" cy="533160"/>
          </a:xfrm>
        </p:grpSpPr>
        <p:sp>
          <p:nvSpPr>
            <p:cNvPr id="494" name=""/>
            <p:cNvSpPr/>
            <p:nvPr/>
          </p:nvSpPr>
          <p:spPr>
            <a:xfrm>
              <a:off x="1295280" y="2590920"/>
              <a:ext cx="177840" cy="152280"/>
            </a:xfrm>
            <a:prstGeom prst="ellipse">
              <a:avLst/>
            </a:prstGeom>
            <a:noFill/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50960" y="2590920"/>
              <a:ext cx="177840" cy="152280"/>
            </a:xfrm>
            <a:prstGeom prst="ellipse">
              <a:avLst/>
            </a:prstGeom>
            <a:noFill/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488960" y="2895480"/>
              <a:ext cx="152280" cy="2286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1295280" y="2590920"/>
            <a:ext cx="533160" cy="456480"/>
            <a:chOff x="1295280" y="2590920"/>
            <a:chExt cx="533160" cy="456480"/>
          </a:xfrm>
        </p:grpSpPr>
        <p:sp>
          <p:nvSpPr>
            <p:cNvPr id="498" name=""/>
            <p:cNvSpPr/>
            <p:nvPr/>
          </p:nvSpPr>
          <p:spPr>
            <a:xfrm>
              <a:off x="1295280" y="2590920"/>
              <a:ext cx="177840" cy="152280"/>
            </a:xfrm>
            <a:prstGeom prst="ellipse">
              <a:avLst/>
            </a:prstGeom>
            <a:noFill/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50960" y="2590920"/>
              <a:ext cx="177480" cy="152280"/>
            </a:xfrm>
            <a:prstGeom prst="ellipse">
              <a:avLst/>
            </a:prstGeom>
            <a:noFill/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1382760" y="2742840"/>
              <a:ext cx="3546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" y="9383"/>
                  </a:moveTo>
                  <a:arcTo wR="10800" hR="10800" stAng="-10347655" swAng="10347655"/>
                  <a:lnTo>
                    <a:pt x="10800" y="10800"/>
                  </a:lnTo>
                  <a:close/>
                </a:path>
                <a:path fill="none" w="21600" h="21600">
                  <a:moveTo>
                    <a:pt x="93" y="9383"/>
                  </a:moveTo>
                  <a:arcTo wR="10800" hR="10800" stAng="-10347655" swAng="10347655"/>
                </a:path>
              </a:pathLst>
            </a:custGeom>
            <a:noFill/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2221920" y="1752480"/>
            <a:ext cx="5855400" cy="1825200"/>
            <a:chOff x="2221920" y="1752480"/>
            <a:chExt cx="5855400" cy="1825200"/>
          </a:xfrm>
        </p:grpSpPr>
        <p:grpSp>
          <p:nvGrpSpPr>
            <p:cNvPr id="502" name=""/>
            <p:cNvGrpSpPr/>
            <p:nvPr/>
          </p:nvGrpSpPr>
          <p:grpSpPr>
            <a:xfrm>
              <a:off x="2221920" y="2362320"/>
              <a:ext cx="2655000" cy="825480"/>
              <a:chOff x="2221920" y="2362320"/>
              <a:chExt cx="2655000" cy="825480"/>
            </a:xfrm>
          </p:grpSpPr>
          <p:sp>
            <p:nvSpPr>
              <p:cNvPr id="503" name=""/>
              <p:cNvSpPr/>
              <p:nvPr/>
            </p:nvSpPr>
            <p:spPr>
              <a:xfrm>
                <a:off x="3200400" y="2362320"/>
                <a:ext cx="1676520" cy="825480"/>
              </a:xfrm>
              <a:prstGeom prst="rect">
                <a:avLst/>
              </a:prstGeom>
              <a:noFill/>
              <a:ln w="255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connection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cxnSp>
            <p:nvCxnSpPr>
              <p:cNvPr id="504" name=""/>
              <p:cNvCxnSpPr>
                <a:stCxn id="503" idx="1"/>
                <a:endCxn id="487" idx="4"/>
              </p:cNvCxnSpPr>
              <p:nvPr/>
            </p:nvCxnSpPr>
            <p:spPr>
              <a:xfrm flipH="1">
                <a:off x="2221920" y="2603160"/>
                <a:ext cx="965880" cy="2628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505" name=""/>
            <p:cNvSpPr/>
            <p:nvPr/>
          </p:nvSpPr>
          <p:spPr>
            <a:xfrm>
              <a:off x="6019920" y="1752480"/>
              <a:ext cx="2057400" cy="182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ahoma"/>
                </a:rPr>
                <a:t>SQLConnectio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ahoma"/>
                </a:rPr>
                <a:t>OLEDBConnectio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ahoma"/>
                </a:rPr>
                <a:t>ODBCConnectio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ahoma"/>
                </a:rPr>
                <a:t>OracleConnectio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5" idx="1"/>
              <a:endCxn id="503" idx="3"/>
            </p:cNvCxnSpPr>
            <p:nvPr/>
          </p:nvCxnSpPr>
          <p:spPr>
            <a:xfrm flipH="1">
              <a:off x="4889160" y="2388960"/>
              <a:ext cx="1131120" cy="21492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</p:grpSp>
      <p:grpSp>
        <p:nvGrpSpPr>
          <p:cNvPr id="507" name=""/>
          <p:cNvGrpSpPr/>
          <p:nvPr/>
        </p:nvGrpSpPr>
        <p:grpSpPr>
          <a:xfrm>
            <a:off x="3809880" y="2857320"/>
            <a:ext cx="5105520" cy="2671200"/>
            <a:chOff x="3809880" y="2857320"/>
            <a:chExt cx="5105520" cy="2671200"/>
          </a:xfrm>
        </p:grpSpPr>
        <p:sp>
          <p:nvSpPr>
            <p:cNvPr id="508" name=""/>
            <p:cNvSpPr/>
            <p:nvPr/>
          </p:nvSpPr>
          <p:spPr>
            <a:xfrm>
              <a:off x="3809880" y="4114800"/>
              <a:ext cx="1981440" cy="825480"/>
            </a:xfrm>
            <a:prstGeom prst="rect">
              <a:avLst/>
            </a:prstGeom>
            <a:noFill/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40458c"/>
                  </a:solidFill>
                  <a:latin typeface="Tahoma"/>
                </a:rPr>
                <a:t>DataAdapte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509" name=""/>
            <p:cNvCxnSpPr>
              <a:stCxn id="503" idx="2"/>
              <a:endCxn id="508" idx="0"/>
            </p:cNvCxnSpPr>
            <p:nvPr/>
          </p:nvCxnSpPr>
          <p:spPr>
            <a:xfrm>
              <a:off x="4038120" y="2857320"/>
              <a:ext cx="762840" cy="12452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  <p:sp>
          <p:nvSpPr>
            <p:cNvPr id="510" name=""/>
            <p:cNvSpPr/>
            <p:nvPr/>
          </p:nvSpPr>
          <p:spPr>
            <a:xfrm>
              <a:off x="6781680" y="3429000"/>
              <a:ext cx="2133720" cy="20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ahoma"/>
                </a:rPr>
                <a:t>SQLDataAdapte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ahoma"/>
                </a:rPr>
                <a:t>OleDBDataAdapte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ahoma"/>
                </a:rPr>
                <a:t>ODBCDataAdapte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40458c"/>
                  </a:solidFill>
                  <a:latin typeface="Tahoma"/>
                </a:rPr>
                <a:t>OracleDataAdapte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511" name=""/>
            <p:cNvCxnSpPr>
              <a:stCxn id="510" idx="1"/>
              <a:endCxn id="508" idx="3"/>
            </p:cNvCxnSpPr>
            <p:nvPr/>
          </p:nvCxnSpPr>
          <p:spPr>
            <a:xfrm flipH="1">
              <a:off x="5803560" y="4065120"/>
              <a:ext cx="978480" cy="2912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</p:grpSp>
      <p:cxnSp>
        <p:nvCxnSpPr>
          <p:cNvPr id="512" name=""/>
          <p:cNvCxnSpPr>
            <a:stCxn id="508" idx="2"/>
            <a:endCxn id="488" idx="0"/>
          </p:cNvCxnSpPr>
          <p:nvPr/>
        </p:nvCxnSpPr>
        <p:spPr>
          <a:xfrm>
            <a:off x="4800240" y="4609800"/>
            <a:ext cx="3087000" cy="13212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08:40:32Z</dcterms:created>
  <dc:creator>rob</dc:creator>
  <dc:description/>
  <dc:language>en-US</dc:language>
  <cp:lastModifiedBy>rob</cp:lastModifiedBy>
  <dcterms:modified xsi:type="dcterms:W3CDTF">2003-09-28T12:51:46Z</dcterms:modified>
  <cp:revision>11</cp:revision>
  <dc:subject/>
  <dc:title>ADO.NET</dc:title>
</cp:coreProperties>
</file>