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6AD9-CC15-42AE-8FA0-BF7A3D46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 – 20+ years a developer with Delphi, SmartWare &amp; recently first web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used to give 3 or 4 talks a year (SMUG), but haven’t given one for the best part of 1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r user group needs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ject comes from a recommendation on an Embarcadero blog (Nick Hodges – Passing Though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ed like a good solution for some problems I have h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 am not doing much development at present – all support &amp; admin – not much chance to u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ing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 are allowed – welcome to contact me, email on the slides I’ll give to Joanna/B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m (read from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I said in the blurb it’s all about user interface for apps &amp; web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’s start with a question: When designing a new app/site how do you st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 &amp; paper – straight to IDE – mockup/prototyping tool – requirements capture tool – Vis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enda: What? – simple low-fidelity (in our case hand-drawn wire frame) example of your app/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? – Improve usability (explore diff designs in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to agreement early – a tool everyone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it with cl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ofessional than pen &amp;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 a prototype  - not nearly done, encourages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? – we will use Balsamiq Mockups – desktop 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st &amp; easy (approaches pen &amp; paper) – low fidelity – powerful (75+ controls, 150 icons, 50+ shortcuts)  - regular updates (bi-weekly) – extensions – integrated – open -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e up Mockups – Quick UI tour (can’t increase font size) – show hiding UI &amp; QuickAdd – intentionally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some samples – mytunez, boogle, mytube, 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ow presentation mode, markups (comment, scratch-out, red X) – BM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 our first mockup: Hello World – simplicity – linking (save first) +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complicated: – Delpie – start then switch to read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grid, Alt drag, icons, disabled + markup presentation if not don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b page: use a master page with an image show live refr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sues: master page is a workaround acknowledged as a weakness – working on component re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it too hand-drawn? – Balsamiq are producing a sharpe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of colour – maybe an issue with web site but want to keep it 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ion – myBalsamiq is co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nty of info on their site inc. some videos, online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t satisfaction support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 version : fully featured 7 days (extra bar at bottom) then disables print/save but can still import &amp; ex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ion BMML &amp; AIR if not done so 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b trial 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versions: Confluence, JIRA, XWiki, FogBug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ggest using with DropBox (file sharing in the clou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s – some more polished looking – generally a bit more complex – not looked too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mpany Balsamiq: if time &amp; not already mentioned, March 2008, micro ISV, 6 people , $2m turnover ($1.6m last year ext $400K) – aim to WOW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 licence to give away – need name &amp; email – I’d like a paragraph to go in my article for the group magaz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EA4-238A-4809-8704-C4E46EF8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F81-2DAA-4F16-9F96-43E19E42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E3A-5C5A-437D-930D-A0B52F3D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428-4181-4B65-94A4-7584948B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346D-789F-4704-9BC8-E9BE0402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9EDB-3FF4-4727-9FC0-485AF613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4D7B-623F-4AAB-8C19-9E676111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97E9-4D58-47D4-BB42-2A409D40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6D79-2AEB-4811-A9C2-406C8129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3A6-355D-4F84-BB38-1A3DDDC4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168-9504-4CC6-BC20-28EDD6F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43E-2BF5-4023-9CB3-B891A95A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5606-351E-45F5-B2E9-12B5EB0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CF51-40F2-4868-B107-84DC417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0241-0DAF-4C98-9916-43FA0C5B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29C3-77B5-4C28-A3C1-9FBDFA92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F688-2F00-444F-8C39-5A68777D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326-8638-4AFF-941F-EB54A9E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574-DA6E-4EA6-A2A7-B3E8607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ABF-BC00-402D-884C-6024F620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1ED-D625-4163-B7AB-362C1B0B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4DD0-13D4-4268-9538-0885915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A5B-4C06-45D8-948F-B2B498F8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730-FBAF-4EAE-B16A-D559E59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8D85-74D5-44EB-83A3-C7C739C4503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604-E3EF-498B-B8BA-90E5315E42A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alsamiq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360" y="981000"/>
            <a:ext cx="5940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Balsamiq Mockups</a:t>
            </a:r>
            <a:br>
              <a:rPr sz="5400"/>
            </a:br>
            <a:br>
              <a:rPr sz="28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64008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y Neil Parr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(nparrish@iosystech.co.uk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velopers Grou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crosoft, Victo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ednesday 19</a:t>
            </a:r>
            <a:r>
              <a:rPr b="0" lang="en-GB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May 20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im: To introduce the use of mockups in software design with Balsamiq Mock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mock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are they us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produc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Balsamiq Mockup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2420640"/>
            <a:ext cx="701064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ough sl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et’s get hands-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Contacts &amp;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lsamiq – </a:t>
            </a:r>
            <a:r>
              <a:rPr b="0" lang="en-GB" sz="2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www.balsamiq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, samples, videos, help, community tools &amp; sites (MockupsToGo, Mock4U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sktop version $79, free bi-weekly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sions for Confluence, JIRA, XWiki &amp; FogBu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lotz, FlairBuilder, MockFlow, MockupScre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rosoft SketchFlow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9:44:29Z</dcterms:created>
  <dc:creator>Neil Parrish</dc:creator>
  <dc:description/>
  <dc:language>en-US</dc:language>
  <cp:lastModifiedBy>Neil Parrish</cp:lastModifiedBy>
  <dcterms:modified xsi:type="dcterms:W3CDTF">2010-09-18T11:27:07Z</dcterms:modified>
  <cp:revision>6</cp:revision>
  <dc:subject/>
  <dc:title>Balsamiq Mockups</dc:title>
</cp:coreProperties>
</file>