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  <p:custShowLst>
    <p:custShow name="sans-serif" id="0">
      <p:sldLst>
        <p:sld r:id="rId2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838080" y="3662640"/>
            <a:ext cx="74678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366264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66264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63120" y="121896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88160" y="121896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838080" y="366264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63120" y="366264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88160" y="3662640"/>
            <a:ext cx="24044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644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218960"/>
            <a:ext cx="3644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152280" y="-360"/>
            <a:ext cx="9524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218960"/>
            <a:ext cx="3644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838080" y="366264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6442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66264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218960"/>
            <a:ext cx="364428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3662640"/>
            <a:ext cx="746784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318960" indent="-318960">
              <a:spcBef>
                <a:spcPts val="2251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318960" indent="-318960">
              <a:spcBef>
                <a:spcPts val="2251"/>
              </a:spcBef>
              <a:buClr>
                <a:srgbClr val="0099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3" marL="318960" indent="-318960">
              <a:spcBef>
                <a:spcPts val="2251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4" marL="318960" indent="-318960">
              <a:spcBef>
                <a:spcPts val="2251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5" marL="318960" indent="-318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6" marL="318960" indent="-318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6324480"/>
            <a:ext cx="9144000" cy="0"/>
          </a:xfrm>
          <a:prstGeom prst="line">
            <a:avLst/>
          </a:prstGeom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367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tro   Users   Tasks   Procedures   Structure   Online   Language   Indexing   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Mike Unwalla, TechScrib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685800" y="1806120"/>
            <a:ext cx="777240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How to write user document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Types of cont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467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Description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provides explan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Process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describes how a system wor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Procedur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tells someone how to do someth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Writing a proced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Level of detai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otes, cautions, warning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Level of detail in a proced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924680" cy="3075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Level of detail in a proced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To change the caption in the title ba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Run Regedit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Find the key that contains the current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cap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Change the key value to the new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  cap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Possible question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’s Reged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does run mean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run Regedit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’s a ke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’s a string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search for a ke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ow do I change a key valu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do I do after I’ve changed the key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hat happens if I make a mistake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tructure of a proced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Heading explains proced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ach step is one instruc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teps are numbered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ndition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f the light comes on, press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GB" sz="4000" spc="-1" strike="noStrike">
                <a:solidFill>
                  <a:srgbClr val="00cc00"/>
                </a:solidFill>
                <a:latin typeface="Wingdings"/>
                <a:ea typeface="Wingdings"/>
              </a:rPr>
              <a:t>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ess 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Reset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if the light comes on. </a:t>
            </a:r>
            <a:r>
              <a:rPr b="0" lang="en-GB" sz="4000" spc="-1" strike="noStrike">
                <a:solidFill>
                  <a:srgbClr val="ff5050"/>
                </a:solidFill>
                <a:latin typeface="Wingdings"/>
                <a:ea typeface="Wingdings"/>
              </a:rPr>
              <a:t>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Notes, cautions, warning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Not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gives additional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Caution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means loss of data is possib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Warning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means either is possibl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njury to peopl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amage to equipmen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6386400"/>
            <a:ext cx="13492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Procedu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tructuring the cont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724200" y="6402240"/>
            <a:ext cx="11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User guid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deals with work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Reference manual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explains feat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ifferent people need different document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ata entry clerk needs a user guid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ystems administrator needs a reference manual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tructuring the cont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rganising: known</a:t>
            </a:r>
            <a:r>
              <a:rPr b="0" lang="en-GB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nknow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rganisation of procedures (ISO 1063)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Group by task, not software structu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imple information first. Complex or infrequent lat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724200" y="6402240"/>
            <a:ext cx="11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IEEE standard user guide structur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837720"/>
            <a:ext cx="746784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dentification dat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able of conten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List of illustrat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formation on using the document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Concept of operat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formation on software comman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rror mess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Glossa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lated information sourc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dex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3724200" y="6402240"/>
            <a:ext cx="11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62120" y="990720"/>
            <a:ext cx="761976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r analys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ask analys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uidelines for writing procedur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ructuring the content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line documentation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ing language precisely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dexing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Review and resource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228600" y="0"/>
            <a:ext cx="93726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Displaying the conten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avigation aid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Headings and subheading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se </a:t>
            </a: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white spac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to improve readabil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724200" y="6402240"/>
            <a:ext cx="1162080" cy="273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Struc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Online document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6400800"/>
            <a:ext cx="80316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nline: design for screen viewing   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nline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lectronic (PDF, Word not onlin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ingle sourc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se features, but avoid gimmic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wo biggest design problems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Lost in hyperspa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Focus on structure, not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1295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00" h="21600">
                <a:moveTo>
                  <a:pt x="129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00" h="21600">
                <a:moveTo>
                  <a:pt x="10374" y="8224"/>
                </a:moveTo>
                <a:lnTo>
                  <a:pt x="14238" y="8224"/>
                </a:lnTo>
                <a:lnTo>
                  <a:pt x="14238" y="15221"/>
                </a:lnTo>
                <a:lnTo>
                  <a:pt x="15526" y="15221"/>
                </a:lnTo>
                <a:lnTo>
                  <a:pt x="15526" y="16144"/>
                </a:lnTo>
                <a:lnTo>
                  <a:pt x="10374" y="16144"/>
                </a:lnTo>
                <a:lnTo>
                  <a:pt x="10374" y="15221"/>
                </a:lnTo>
                <a:lnTo>
                  <a:pt x="11662" y="15221"/>
                </a:lnTo>
                <a:lnTo>
                  <a:pt x="11662" y="9129"/>
                </a:lnTo>
                <a:lnTo>
                  <a:pt x="10374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Context-sensitive help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Good for low-level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ot good for some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olution: additional topics for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void screen shots in procedural topic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6400800"/>
            <a:ext cx="80316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Paper/online mix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762120"/>
            <a:ext cx="77724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o definitive ru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aper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xtensive read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isaster recover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Material for novice computer us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Online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arely-needed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Reference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Field and dialog referen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6400800"/>
            <a:ext cx="80316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Guidelines: online documentation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ans-serif typefa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llow text and window resiz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llow text to flow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esign for low-specification machi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nclude an inde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3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1295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5900" h="21600">
                <a:moveTo>
                  <a:pt x="1295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5900" h="21600">
                <a:moveTo>
                  <a:pt x="10374" y="8224"/>
                </a:moveTo>
                <a:lnTo>
                  <a:pt x="14238" y="8224"/>
                </a:lnTo>
                <a:lnTo>
                  <a:pt x="14238" y="15221"/>
                </a:lnTo>
                <a:lnTo>
                  <a:pt x="15526" y="15221"/>
                </a:lnTo>
                <a:lnTo>
                  <a:pt x="15526" y="16144"/>
                </a:lnTo>
                <a:lnTo>
                  <a:pt x="10374" y="16144"/>
                </a:lnTo>
                <a:lnTo>
                  <a:pt x="10374" y="15221"/>
                </a:lnTo>
                <a:lnTo>
                  <a:pt x="11662" y="15221"/>
                </a:lnTo>
                <a:lnTo>
                  <a:pt x="11662" y="9129"/>
                </a:lnTo>
                <a:lnTo>
                  <a:pt x="10374" y="912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6400800"/>
            <a:ext cx="80316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Serif and sans-serif typefac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ans-serif, e.g. </a:t>
            </a:r>
            <a:r>
              <a:rPr b="0" lang="en-GB" sz="9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ahoma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erif, e.g. </a:t>
            </a:r>
            <a:r>
              <a:rPr b="0" lang="en-GB" sz="9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5400" spc="-1" strike="noStrike">
                <a:solidFill>
                  <a:srgbClr val="000000"/>
                </a:solidFill>
                <a:latin typeface="Times New Roman"/>
              </a:rPr>
              <a:t>imes Roman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876920" y="6400800"/>
            <a:ext cx="80316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On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Using language precisely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5715000" y="6386400"/>
            <a:ext cx="116208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Multiple interpretations</a:t>
            </a:r>
            <a:r>
              <a:rPr b="0" lang="en-GB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mbiguit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lain English helps, but…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ntrolled language is better (e.g. ASD-STE100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Glossary of terms: define early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Indexing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6886440" y="6400800"/>
            <a:ext cx="109080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dex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urpose: organises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hat to index? Depends on read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ignificance </a:t>
            </a:r>
            <a:r>
              <a:rPr b="1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ot name-spot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o not over index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Need an index for electronic documents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Indexing: wha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ll dialogs and screen sho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ncepts, ideas, processes, troubleshooting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sks and procedu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6886440" y="6400800"/>
            <a:ext cx="109080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dex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8001000" y="6400800"/>
            <a:ext cx="9349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772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troduction: typical problem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er analysi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ask analysi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Guidelines for writing procedur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Structuring the conten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line documentat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Using language precise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ndexing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What is user documentation?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Working definitio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Support material that helps people to use a software produc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ypically: user guides, online help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76320" y="6386400"/>
            <a:ext cx="6951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SO process and design checklists on www.techscribe.co.uk/ta/writing.htm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STC, www.istc.org.u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TC, www.stc.org, www.stcuk.org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Tahoma"/>
              </a:rPr>
              <a:t>Read Me First! A Style Guide for the Computer Industry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. Sun Technical Publications, 2003. ISBN 0-13-142899-3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400800"/>
            <a:ext cx="9349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Request for feedback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lease give me feedback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as the content what you expected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as it useful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How could it be improved?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Email: mike@techscribe.co.u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nonymous feedback: www.techscribe.co.u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400800"/>
            <a:ext cx="934920" cy="28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Re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Typical problem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ncorrect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Missing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nnecessary information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rrect information, but 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In wrong order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ser can’t find 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ser can’t understand i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386400"/>
            <a:ext cx="6951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Typical problems (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0010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mbiguous information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When the switch is pressed, the valve 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hould be closed.”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ess the switch. System will close the valve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lose the valve. Then press the switch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Verify that the valve is closed. If it is,</a:t>
            </a:r>
            <a:br>
              <a:rPr sz="3000"/>
            </a:b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press the switch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6386400"/>
            <a:ext cx="6951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What a tech writer doe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nalyse requirements, users, tas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Gather inform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Design document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reate documentation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386400"/>
            <a:ext cx="6951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Intr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User analy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nderstand needs of us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mplex relationship between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as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oftwar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wo skill dimensions (at least):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ubject matter expertis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5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omputing skill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"/>
          <p:cNvSpPr/>
          <p:nvPr/>
        </p:nvSpPr>
        <p:spPr>
          <a:xfrm>
            <a:off x="800280" y="6400800"/>
            <a:ext cx="72360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Task analysi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218960"/>
            <a:ext cx="74678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task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is a goal or an end resul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Typically, there is a hierarchy of task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GB" sz="3000" spc="-1" strike="noStrike">
                <a:solidFill>
                  <a:srgbClr val="3333ff"/>
                </a:solidFill>
                <a:latin typeface="Tahoma"/>
              </a:rPr>
              <a:t>procedure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is a list of instructions for a task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1623960" y="6400800"/>
            <a:ext cx="7239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152280" y="-360"/>
            <a:ext cx="952488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ahoma"/>
              </a:rPr>
              <a:t>Identifying tasks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7467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Observe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alk to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sk manag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ersonal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Existing documentation and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elate to know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1623960" y="6400800"/>
            <a:ext cx="7239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cc"/>
                </a:solidFill>
                <a:latin typeface="Tahoma"/>
              </a:rPr>
              <a:t>Tas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Unwalla</dc:creator>
  <dc:description/>
  <dc:language>en-US</dc:language>
  <cp:lastModifiedBy>M Unwalla</cp:lastModifiedBy>
  <dcterms:modified xsi:type="dcterms:W3CDTF">2005-09-21T07:01:08Z</dcterms:modified>
  <cp:revision>69</cp:revision>
  <dc:subject/>
  <dc:title>How to write user docum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