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.jpeg" ContentType="image/jpeg"/>
  <Override PartName="/ppt/media/image18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29.png" ContentType="image/pn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6.png" ContentType="image/png"/>
  <Override PartName="/ppt/media/image8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31.png" ContentType="image/png"/>
  <Override PartName="/ppt/media/image36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7.jpeg" ContentType="image/jpe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573360" y="755640"/>
            <a:ext cx="3078360" cy="23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89000" y="3203640"/>
            <a:ext cx="6480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6FC5-2190-439E-A561-C43483ADC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532720"/>
            <a:ext cx="6858000" cy="61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532720"/>
            <a:ext cx="6858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45000" y="8388360"/>
            <a:ext cx="1413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Logo 95"/>
                <a:ea typeface="Microsoft Logo 95"/>
              </a:rPr>
              <a:t>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11280"/>
            <a:ext cx="6858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54600" y="108000"/>
            <a:ext cx="11034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anklin Gothic Medium"/>
              </a:rPr>
              <a:t>Page </a:t>
            </a:r>
            <a:fld id="{A8452833-DEBC-4DCA-A62F-CAE39512120F}" type="slidenum">
              <a:rPr b="0" lang="en-GB" sz="12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3480" y="2894040"/>
            <a:ext cx="117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Medium"/>
              </a:rPr>
              <a:t>Slide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5360" y="108000"/>
            <a:ext cx="5040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Franklin Gothic Medium"/>
              </a:rPr>
              <a:t>Microsoft .NE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Franklin Gothic Book"/>
              </a:rPr>
              <a:t>Software for connecting information, people, systems and de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5520" y="84240"/>
            <a:ext cx="897120" cy="455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8000" y="8604360"/>
            <a:ext cx="540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Franklin Gothic Medium"/>
              </a:rPr>
              <a:t>© 2003 Microsoft Ltd.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Franklin Gothic Medium"/>
              </a:rPr>
              <a:t>Visit </a:t>
            </a:r>
            <a:r>
              <a:rPr b="0" i="1" sz="1000" spc="-1" strike="noStrike">
                <a:solidFill>
                  <a:srgbClr val="ffffff"/>
                </a:solidFill>
                <a:latin typeface="Franklin Gothic Medium"/>
              </a:rPr>
              <a:t>http://</a:t>
            </a:r>
            <a:r>
              <a:rPr b="0" i="1" lang="en-GB" sz="1000" spc="-1" strike="noStrike">
                <a:solidFill>
                  <a:srgbClr val="ffffff"/>
                </a:solidFill>
                <a:latin typeface="Franklin Gothic Medium"/>
              </a:rPr>
              <a:t>msdn.microsoft.com for more information about our developer tools and servic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E5FD-5836-442B-9859-753A06ED67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79760"/>
            <a:ext cx="5029200" cy="408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C508-C2CE-4BF4-9AB6-CCBAC330E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3573360" y="755640"/>
            <a:ext cx="3078360" cy="23083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189000" y="3203640"/>
            <a:ext cx="64800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46320" indent="-397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579320" indent="-3315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890360" indent="-297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890360" indent="-297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890360" indent="-297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4120" y="111528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6588000" y="5549760"/>
            <a:ext cx="2556000" cy="13082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eb98"/>
                </a:solidFill>
                <a:latin typeface="Franklin Gothic Book"/>
              </a:rPr>
              <a:t>Click to edit the outline text format</a:t>
            </a: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857160" algn="ctr">
              <a:lnSpc>
                <a:spcPct val="90000"/>
              </a:lnSpc>
              <a:spcBef>
                <a:spcPts val="901"/>
              </a:spcBef>
              <a:buClr>
                <a:srgbClr val="ffdd4f"/>
              </a:buClr>
              <a:buSzPct val="5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algn="ctr">
              <a:lnSpc>
                <a:spcPct val="90000"/>
              </a:lnSpc>
              <a:spcBef>
                <a:spcPts val="751"/>
              </a:spcBef>
              <a:buClr>
                <a:srgbClr val="ffdd4f"/>
              </a:buClr>
              <a:buSzPct val="5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609560" algn="ctr">
              <a:lnSpc>
                <a:spcPct val="90000"/>
              </a:lnSpc>
              <a:spcBef>
                <a:spcPts val="751"/>
              </a:spcBef>
              <a:buClr>
                <a:srgbClr val="ffdd4f"/>
              </a:buClr>
              <a:buSzPct val="5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60956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60956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wmf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9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hyperlink" Target="http://vertigosoftware.com/wrapper" TargetMode="External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8.png"/><Relationship Id="rId1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40.png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3.png"/><Relationship Id="rId11" Type="http://schemas.openxmlformats.org/officeDocument/2006/relationships/image" Target="../media/image53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12.png"/><Relationship Id="rId18" Type="http://schemas.openxmlformats.org/officeDocument/2006/relationships/image" Target="../media/image56.png"/><Relationship Id="rId19" Type="http://schemas.openxmlformats.org/officeDocument/2006/relationships/image" Target="../media/image57.png"/><Relationship Id="rId2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image" Target="../media/image59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49.png"/><Relationship Id="rId17" Type="http://schemas.openxmlformats.org/officeDocument/2006/relationships/image" Target="../media/image49.png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2.png"/><Relationship Id="rId5" Type="http://schemas.openxmlformats.org/officeDocument/2006/relationships/image" Target="../media/image62.png"/><Relationship Id="rId6" Type="http://schemas.openxmlformats.org/officeDocument/2006/relationships/image" Target="../media/image61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hyperlink" Target="http://www.microsoft.com/uk/msdn" TargetMode="External"/><Relationship Id="rId10" Type="http://schemas.openxmlformats.org/officeDocument/2006/relationships/hyperlink" Target="http://www.microsoft.com/uk/msdn" TargetMode="External"/><Relationship Id="rId11" Type="http://schemas.openxmlformats.org/officeDocument/2006/relationships/image" Target="../media/image63.png"/><Relationship Id="rId1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msdn.microsoft.com/office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hyperlink" Target="http://vertigosoftware.com/wrapper.htm" TargetMode="External"/><Relationship Id="rId11" Type="http://schemas.openxmlformats.org/officeDocument/2006/relationships/hyperlink" Target="http://vertigosoftware.com/wrapper.htm" TargetMode="External"/><Relationship Id="rId12" Type="http://schemas.openxmlformats.org/officeDocument/2006/relationships/hyperlink" Target="http://vertigosoftware.com/wrapper.htm" TargetMode="Externa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1.png"/><Relationship Id="rId5" Type="http://schemas.openxmlformats.org/officeDocument/2006/relationships/hyperlink" Target="http://www.microsoft.com/uk/msdn/postevents" TargetMode="External"/><Relationship Id="rId6" Type="http://schemas.openxmlformats.org/officeDocument/2006/relationships/hyperlink" Target="http://www.microsoft.com/uk/msdn/postevents" TargetMode="External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1.png"/><Relationship Id="rId10" Type="http://schemas.openxmlformats.org/officeDocument/2006/relationships/hyperlink" Target="http://www.microsoft.com/uk/msdn" TargetMode="External"/><Relationship Id="rId11" Type="http://schemas.openxmlformats.org/officeDocument/2006/relationships/image" Target="../media/image62.png"/><Relationship Id="rId12" Type="http://schemas.openxmlformats.org/officeDocument/2006/relationships/image" Target="../media/image61.png"/><Relationship Id="rId13" Type="http://schemas.openxmlformats.org/officeDocument/2006/relationships/hyperlink" Target="http://www.microsoft.com/uk/msdn/flash.aspx" TargetMode="External"/><Relationship Id="rId14" Type="http://schemas.openxmlformats.org/officeDocument/2006/relationships/hyperlink" Target="http://www.microsoft.com/uk/msdn/flash.aspx" TargetMode="External"/><Relationship Id="rId15" Type="http://schemas.openxmlformats.org/officeDocument/2006/relationships/image" Target="../media/image61.png"/><Relationship Id="rId16" Type="http://schemas.openxmlformats.org/officeDocument/2006/relationships/image" Target="../media/image62.png"/><Relationship Id="rId17" Type="http://schemas.openxmlformats.org/officeDocument/2006/relationships/hyperlink" Target="http://www.microsoft.com/vstudio/tryit" TargetMode="External"/><Relationship Id="rId18" Type="http://schemas.openxmlformats.org/officeDocument/2006/relationships/hyperlink" Target="http://www.microsoft.com/vstudio/tryit" TargetMode="External"/><Relationship Id="rId19" Type="http://schemas.openxmlformats.org/officeDocument/2006/relationships/image" Target="../media/image61.png"/><Relationship Id="rId20" Type="http://schemas.openxmlformats.org/officeDocument/2006/relationships/image" Target="../media/image62.png"/><Relationship Id="rId21" Type="http://schemas.openxmlformats.org/officeDocument/2006/relationships/hyperlink" Target="http://msdn.microsoft.com/express" TargetMode="External"/><Relationship Id="rId22" Type="http://schemas.openxmlformats.org/officeDocument/2006/relationships/hyperlink" Target="http://msdn.microsoft.com/express" TargetMode="External"/><Relationship Id="rId23" Type="http://schemas.openxmlformats.org/officeDocument/2006/relationships/hyperlink" Target="http://msdn.microsoft.com/express" TargetMode="External"/><Relationship Id="rId24" Type="http://schemas.openxmlformats.org/officeDocument/2006/relationships/image" Target="../media/image61.png"/><Relationship Id="rId25" Type="http://schemas.openxmlformats.org/officeDocument/2006/relationships/image" Target="../media/image62.png"/><Relationship Id="rId26" Type="http://schemas.openxmlformats.org/officeDocument/2006/relationships/hyperlink" Target="http://www.gotdotnet.com/" TargetMode="External"/><Relationship Id="rId27" Type="http://schemas.openxmlformats.org/officeDocument/2006/relationships/image" Target="../media/image62.png"/><Relationship Id="rId28" Type="http://schemas.openxmlformats.org/officeDocument/2006/relationships/hyperlink" Target="http://www.asp.net/" TargetMode="External"/><Relationship Id="rId29" Type="http://schemas.openxmlformats.org/officeDocument/2006/relationships/hyperlink" Target="http://www.asp.net/" TargetMode="External"/><Relationship Id="rId3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9520"/>
            <a:ext cx="7772400" cy="250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Managed Code Development</a:t>
            </a:r>
            <a:br>
              <a:rPr sz="4400"/>
            </a:b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Microsoft Office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3760" y="3789000"/>
            <a:ext cx="78613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b98"/>
                </a:solidFill>
                <a:latin typeface="Franklin Gothic Book"/>
              </a:rPr>
              <a:t>Mike Pelton</a:t>
            </a:r>
            <a:endParaRPr b="0" lang="en-US" sz="3200" spc="-1" strike="noStrike">
              <a:solidFill>
                <a:srgbClr val="fceb98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b98"/>
                </a:solidFill>
                <a:latin typeface="Franklin Gothic Book"/>
              </a:rPr>
              <a:t>mpelton@microsoft.com</a:t>
            </a:r>
            <a:endParaRPr b="0" lang="en-US" sz="3200" spc="-1" strike="noStrike">
              <a:solidFill>
                <a:srgbClr val="fceb98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b98"/>
                </a:solidFill>
                <a:latin typeface="Franklin Gothic Book"/>
              </a:rPr>
              <a:t>Developer &amp; Platform Group</a:t>
            </a:r>
            <a:endParaRPr b="0" lang="en-US" sz="3200" spc="-1" strike="noStrike">
              <a:solidFill>
                <a:srgbClr val="fceb98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b98"/>
                </a:solidFill>
                <a:latin typeface="Franklin Gothic Book"/>
              </a:rPr>
              <a:t>Microsoft Ltd.</a:t>
            </a:r>
            <a:endParaRPr b="0" lang="en-US" sz="3200" spc="-1" strike="noStrike">
              <a:solidFill>
                <a:srgbClr val="fceb98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dd4f"/>
                </a:solidFill>
                <a:latin typeface="Franklin Gothic Medium"/>
              </a:rPr>
              <a:t>Office 2003 Research Library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Searches information sources from within a documen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Returns rich content, forms, action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Open architecture via XML Web Servic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ranklin Gothic Book"/>
              </a:rPr>
              <a:t>Registration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Franklin Gothic Book"/>
              </a:rPr>
              <a:t>Query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 metho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 code on the cli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Integrated across Office 2003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ord, Excel, PowerPoint, Outlook, etc.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Book"/>
              </a:rPr>
              <a:t>A number of out-of-the-box servic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Dictionary, etc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1"/>
          <a:stretch/>
        </p:blipFill>
        <p:spPr>
          <a:xfrm>
            <a:off x="6629400" y="6140520"/>
            <a:ext cx="2514600" cy="7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Built-in Service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78000" y="1414440"/>
            <a:ext cx="8388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Local sources on the machin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Thesaurus and translatio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Office 2003 research servic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ictionary, encyclopedia, web search, stock quot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Book"/>
              </a:rPr>
              <a:t>Partner research servic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activa, eLibrary, Gale, WorldLingo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More are being add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harePoint Portal Server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Custom Service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78000" y="1414440"/>
            <a:ext cx="83880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an build custom research servic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evelopment language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platform neutra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ata agnostic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58920" indent="-401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If you can connect to it programmaticall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he research pane can talk to i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Based on established API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ocumented in Research Service SDK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Uses Web Services and published XML Schemas for communication between Office and your research servic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PowerEdge 2600 Front View"/>
          <p:cNvPicPr/>
          <p:nvPr/>
        </p:nvPicPr>
        <p:blipFill>
          <a:blip r:embed="rId2"/>
          <a:stretch/>
        </p:blipFill>
        <p:spPr>
          <a:xfrm>
            <a:off x="7478640" y="2095560"/>
            <a:ext cx="1143000" cy="20192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098480" y="40543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b98"/>
                </a:solidFill>
                <a:latin typeface="Arial"/>
                <a:ea typeface="Arial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00560" y="1870200"/>
            <a:ext cx="3510000" cy="0"/>
          </a:xfrm>
          <a:prstGeom prst="line">
            <a:avLst/>
          </a:prstGeom>
          <a:ln w="76320">
            <a:solidFill>
              <a:srgbClr val="fceb9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2760" y="1951200"/>
            <a:ext cx="22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eb98"/>
                </a:solidFill>
                <a:latin typeface="Arial"/>
                <a:ea typeface="Arial"/>
              </a:rPr>
              <a:t>Registration 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95520" y="2436840"/>
            <a:ext cx="3510000" cy="0"/>
          </a:xfrm>
          <a:prstGeom prst="line">
            <a:avLst/>
          </a:prstGeom>
          <a:ln w="76320">
            <a:solidFill>
              <a:srgbClr val="fceb9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87720" y="2517840"/>
            <a:ext cx="23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eb98"/>
                </a:solidFill>
                <a:latin typeface="Arial"/>
                <a:ea typeface="Arial"/>
              </a:rPr>
              <a:t>Registration Respon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3400" y="3538440"/>
            <a:ext cx="3510000" cy="0"/>
          </a:xfrm>
          <a:prstGeom prst="line">
            <a:avLst/>
          </a:prstGeom>
          <a:ln w="76320">
            <a:solidFill>
              <a:srgbClr val="ffdd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37120" y="3633840"/>
            <a:ext cx="19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d4f"/>
                </a:solidFill>
                <a:latin typeface="Arial"/>
                <a:ea typeface="Arial"/>
              </a:rPr>
              <a:t>Query 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38360" y="4105440"/>
            <a:ext cx="3510000" cy="0"/>
          </a:xfrm>
          <a:prstGeom prst="line">
            <a:avLst/>
          </a:prstGeom>
          <a:ln w="76320">
            <a:solidFill>
              <a:srgbClr val="ffdd4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8080" y="418608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d4f"/>
                </a:solidFill>
                <a:latin typeface="Arial"/>
                <a:ea typeface="Arial"/>
              </a:rPr>
              <a:t>Query Respon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77720" y="3898800"/>
            <a:ext cx="3843360" cy="2575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668160" y="3762360"/>
            <a:ext cx="3583080" cy="3127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836640" y="4106880"/>
            <a:ext cx="2970360" cy="1776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1498680" y="3860640"/>
            <a:ext cx="1325520" cy="2787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Web Service Calls</a:t>
            </a:r>
            <a:br>
              <a:rPr sz="4800"/>
            </a:br>
            <a:r>
              <a:rPr b="0" lang="en-US" sz="4000" spc="-1" strike="noStrike">
                <a:solidFill>
                  <a:srgbClr val="fceb98"/>
                </a:solidFill>
                <a:latin typeface="Franklin Gothic Medium"/>
              </a:rPr>
              <a:t>Registration and query</a:t>
            </a:r>
            <a:endParaRPr b="0" lang="en-US" sz="4000" spc="-1" strike="noStrike">
              <a:solidFill>
                <a:srgbClr val="ffdd4f"/>
              </a:solidFill>
              <a:latin typeface="Franklin Gothic Medium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36600" y="1614600"/>
            <a:ext cx="2774880" cy="2082600"/>
            <a:chOff x="336600" y="1614600"/>
            <a:chExt cx="2774880" cy="2082600"/>
          </a:xfrm>
        </p:grpSpPr>
        <p:sp>
          <p:nvSpPr>
            <p:cNvPr id="293" name=""/>
            <p:cNvSpPr/>
            <p:nvPr/>
          </p:nvSpPr>
          <p:spPr>
            <a:xfrm>
              <a:off x="336600" y="2444760"/>
              <a:ext cx="2625840" cy="1252440"/>
            </a:xfrm>
            <a:prstGeom prst="ellipse">
              <a:avLst/>
            </a:prstGeom>
            <a:gradFill rotWithShape="0">
              <a:gsLst>
                <a:gs pos="0">
                  <a:srgbClr val="fceb98"/>
                </a:gs>
                <a:gs pos="100000">
                  <a:srgbClr val="746c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7"/>
            <a:stretch/>
          </p:blipFill>
          <p:spPr>
            <a:xfrm>
              <a:off x="1749600" y="1614600"/>
              <a:ext cx="136188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8"/>
            <a:stretch/>
          </p:blipFill>
          <p:spPr>
            <a:xfrm>
              <a:off x="681120" y="2703600"/>
              <a:ext cx="19047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3400560" y="3138480"/>
            <a:ext cx="3593880" cy="1442880"/>
          </a:xfrm>
          <a:custGeom>
            <a:avLst/>
            <a:gdLst>
              <a:gd name="textAreaLeft" fmla="*/ 0 w 3593880"/>
              <a:gd name="textAreaRight" fmla="*/ 3594240 w 35938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ceb98">
                  <a:alpha val="70196"/>
                </a:srgbClr>
              </a:gs>
              <a:gs pos="100000">
                <a:srgbClr val="746c46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3423960" y="3594240"/>
            <a:ext cx="3593880" cy="1442880"/>
          </a:xfrm>
          <a:custGeom>
            <a:avLst/>
            <a:gdLst>
              <a:gd name="textAreaLeft" fmla="*/ 0 w 3593880"/>
              <a:gd name="textAreaRight" fmla="*/ 3594240 w 35938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ceb98">
                  <a:alpha val="70196"/>
                </a:srgbClr>
              </a:gs>
              <a:gs pos="100000">
                <a:srgbClr val="746c46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248436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A Simple Research Serv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942160" y="0"/>
            <a:ext cx="3201840" cy="11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A Better Way To Build Research Service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8000" y="1901880"/>
            <a:ext cx="838800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Research Services Object Model Wrapp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3920" indent="-3952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imple library that wraps up the researc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ervices plumbing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3920" indent="-3952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rovides strongly typed request and response objects for Registration() and Query(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3920" indent="-3952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Allows developer to focus on business logic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3920" indent="-3952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ource code availabl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35160" indent="-3794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Managed code written with C# &amp; .NET Framework 1.1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35160" indent="-3794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llows for extensibility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Smart Tags </a:t>
            </a:r>
            <a:r>
              <a:rPr b="0" lang="en-US" sz="4400" spc="-1" strike="noStrike">
                <a:solidFill>
                  <a:srgbClr val="ffdd4f"/>
                </a:solidFill>
                <a:latin typeface="Franklin Gothic Medium"/>
                <a:ea typeface="ＭＳ Ｐゴシック"/>
              </a:rPr>
              <a:t>v2</a:t>
            </a:r>
            <a:br>
              <a:rPr sz="44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  <a:ea typeface="ＭＳ Ｐゴシック"/>
              </a:rPr>
              <a:t>Innovations Across All Office Applications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1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Appear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 in more Office places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PowerPoint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Outlook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 &amp; Task Pan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Internet Explorer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with tool from SDK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nnovations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uto firing actions (to modify document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ascading menus &amp; dynamic menu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Pattern matching without writing cod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mart tags for XM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Tokenization – huge benefit for Asian languag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  <a:ea typeface="ＭＳ Ｐゴシック"/>
              </a:rPr>
              <a:t>Smart Doc</a:t>
            </a:r>
            <a:r>
              <a:rPr b="0" lang="en-US" sz="4800" spc="-1" strike="noStrike">
                <a:solidFill>
                  <a:srgbClr val="ffdd4f"/>
                </a:solidFill>
                <a:latin typeface="Franklin Gothic Medium"/>
                <a:ea typeface="굴림"/>
              </a:rPr>
              <a:t>uments Task Pane</a:t>
            </a:r>
            <a:br>
              <a:rPr sz="48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User </a:t>
            </a:r>
            <a:r>
              <a:rPr b="0" lang="en-US" sz="3600" spc="-1" strike="noStrike">
                <a:solidFill>
                  <a:srgbClr val="fceb98"/>
                </a:solidFill>
                <a:latin typeface="Franklin Gothic Medium"/>
                <a:ea typeface="ＭＳ Ｐゴシック"/>
              </a:rPr>
              <a:t>R</a:t>
            </a: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eactive</a:t>
            </a:r>
            <a:r>
              <a:rPr b="0" lang="en-US" sz="3600" spc="-1" strike="noStrike">
                <a:solidFill>
                  <a:srgbClr val="fceb98"/>
                </a:solidFill>
                <a:latin typeface="Franklin Gothic Medium"/>
                <a:ea typeface="ＭＳ Ｐゴシック"/>
              </a:rPr>
              <a:t> Guided</a:t>
            </a: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 </a:t>
            </a:r>
            <a:r>
              <a:rPr b="0" lang="en-US" sz="3600" spc="-1" strike="noStrike">
                <a:solidFill>
                  <a:srgbClr val="fceb98"/>
                </a:solidFill>
                <a:latin typeface="Franklin Gothic Medium"/>
                <a:ea typeface="ＭＳ Ｐゴシック"/>
              </a:rPr>
              <a:t>S</a:t>
            </a: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olutions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9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llows the user through the documen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Tightly integrated with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XML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굴림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chema mapping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Provides contextual content, actions &amp; help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ustomizable 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through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 VB6 or VS.NE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굴림"/>
              </a:rPr>
              <a:t>Extension of the Smart Tags 2.0 API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  <a:ea typeface="굴림"/>
              </a:rPr>
              <a:t>Secure auto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ployment &amp; 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pdat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Highly secure, manifest-described deploym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Document only contains the URL of the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manifes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entralized versioning and self-maintaining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248436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A Simple Smart Docu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942160" y="0"/>
            <a:ext cx="3201840" cy="11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57200" y="248436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Other Smart Docu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942160" y="0"/>
            <a:ext cx="3201840" cy="11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9040" y="5746320"/>
            <a:ext cx="8994600" cy="91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marL="4557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mart clients are easily deployed and managed client applications that provide an adaptive and interactive experience by leveraging local resources and intelligently connecting to distributed data sources.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17760" y="-239760"/>
            <a:ext cx="6235200" cy="6235560"/>
            <a:chOff x="1517760" y="-239760"/>
            <a:chExt cx="6235200" cy="6235560"/>
          </a:xfrm>
        </p:grpSpPr>
        <p:grpSp>
          <p:nvGrpSpPr>
            <p:cNvPr id="95" name=""/>
            <p:cNvGrpSpPr/>
            <p:nvPr/>
          </p:nvGrpSpPr>
          <p:grpSpPr>
            <a:xfrm>
              <a:off x="1517760" y="-239760"/>
              <a:ext cx="6235200" cy="6235560"/>
              <a:chOff x="1517760" y="-239760"/>
              <a:chExt cx="6235200" cy="62355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1517760" y="-239760"/>
                <a:ext cx="6235200" cy="6235560"/>
                <a:chOff x="1517760" y="-239760"/>
                <a:chExt cx="6235200" cy="623556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17760" y="-239760"/>
                  <a:ext cx="6235200" cy="623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>
                  <a:off x="1980360" y="214560"/>
                  <a:ext cx="5309280" cy="5326560"/>
                </a:xfrm>
                <a:prstGeom prst="ellipse">
                  <a:avLst/>
                </a:prstGeom>
                <a:blipFill rotWithShape="0">
                  <a:blip r:embed="rId3">
                    <a:alphaModFix amt="80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30320" y="2264040"/>
                <a:ext cx="1809360" cy="1228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" name=""/>
            <p:cNvGrpSpPr/>
            <p:nvPr/>
          </p:nvGrpSpPr>
          <p:grpSpPr>
            <a:xfrm>
              <a:off x="3872880" y="357480"/>
              <a:ext cx="1451880" cy="1366560"/>
              <a:chOff x="3872880" y="357480"/>
              <a:chExt cx="1451880" cy="1366560"/>
            </a:xfrm>
          </p:grpSpPr>
          <p:pic>
            <p:nvPicPr>
              <p:cNvPr id="1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12800" y="357480"/>
                <a:ext cx="52020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3872880" y="990720"/>
                <a:ext cx="14518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b Services &amp;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ffline/Onlin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upport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044960" y="4192560"/>
              <a:ext cx="1104120" cy="1204200"/>
              <a:chOff x="4044960" y="4192560"/>
              <a:chExt cx="1104120" cy="12042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25480" y="4192560"/>
                <a:ext cx="37296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4044960" y="4876560"/>
                <a:ext cx="1104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evic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aptabilit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-152280" y="658800"/>
            <a:ext cx="4940280" cy="4940280"/>
            <a:chOff x="-152280" y="658800"/>
            <a:chExt cx="4940280" cy="494028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-152280" y="658800"/>
              <a:ext cx="4940280" cy="494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"/>
            <p:cNvGrpSpPr/>
            <p:nvPr/>
          </p:nvGrpSpPr>
          <p:grpSpPr>
            <a:xfrm>
              <a:off x="202320" y="2297160"/>
              <a:ext cx="884880" cy="1258200"/>
              <a:chOff x="202320" y="2297160"/>
              <a:chExt cx="884880" cy="12582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333720" y="2297160"/>
                <a:ext cx="659880" cy="753480"/>
                <a:chOff x="333720" y="2297160"/>
                <a:chExt cx="659880" cy="75348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90960" y="2297160"/>
                  <a:ext cx="516600" cy="617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77000" y="2399400"/>
                  <a:ext cx="516600" cy="617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33720" y="2433240"/>
                  <a:ext cx="516600" cy="617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3" name=""/>
              <p:cNvSpPr/>
              <p:nvPr/>
            </p:nvSpPr>
            <p:spPr>
              <a:xfrm>
                <a:off x="202320" y="3035160"/>
                <a:ext cx="884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ough 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eplo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085040" y="1135080"/>
              <a:ext cx="884880" cy="1188720"/>
              <a:chOff x="1085040" y="1135080"/>
              <a:chExt cx="884880" cy="1188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085040" y="1803600"/>
                <a:ext cx="884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v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ootpri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76560" y="1135080"/>
                <a:ext cx="507960" cy="673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" descr=""/>
            <p:cNvPicPr/>
            <p:nvPr/>
          </p:nvPicPr>
          <p:blipFill>
            <a:blip r:embed="rId12"/>
            <a:stretch/>
          </p:blipFill>
          <p:spPr>
            <a:xfrm>
              <a:off x="1266840" y="2435400"/>
              <a:ext cx="18097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990000" y="3699000"/>
              <a:ext cx="863640" cy="1197720"/>
              <a:chOff x="990000" y="3699000"/>
              <a:chExt cx="863640" cy="1197720"/>
            </a:xfrm>
          </p:grpSpPr>
          <p:sp>
            <p:nvSpPr>
              <p:cNvPr id="119" name=""/>
              <p:cNvSpPr/>
              <p:nvPr/>
            </p:nvSpPr>
            <p:spPr>
              <a:xfrm>
                <a:off x="990000" y="458964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LL Hel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21040" y="3699000"/>
                <a:ext cx="647640" cy="976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" name=""/>
          <p:cNvGrpSpPr/>
          <p:nvPr/>
        </p:nvGrpSpPr>
        <p:grpSpPr>
          <a:xfrm>
            <a:off x="4381560" y="658800"/>
            <a:ext cx="4940280" cy="4940280"/>
            <a:chOff x="4381560" y="658800"/>
            <a:chExt cx="4940280" cy="4940280"/>
          </a:xfrm>
        </p:grpSpPr>
        <p:pic>
          <p:nvPicPr>
            <p:cNvPr id="122" name="" descr=""/>
            <p:cNvPicPr/>
            <p:nvPr/>
          </p:nvPicPr>
          <p:blipFill>
            <a:blip r:embed="rId14"/>
            <a:stretch/>
          </p:blipFill>
          <p:spPr>
            <a:xfrm>
              <a:off x="4381560" y="658800"/>
              <a:ext cx="4940280" cy="494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6993720" y="1239840"/>
              <a:ext cx="1181880" cy="1134720"/>
              <a:chOff x="6993720" y="1239840"/>
              <a:chExt cx="1181880" cy="1134720"/>
            </a:xfrm>
          </p:grpSpPr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229520" y="1239840"/>
                <a:ext cx="74592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6993720" y="1854360"/>
                <a:ext cx="1181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ependenc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866720" y="2376720"/>
              <a:ext cx="1073880" cy="1217520"/>
              <a:chOff x="7866720" y="2376720"/>
              <a:chExt cx="1073880" cy="1217520"/>
            </a:xfrm>
          </p:grpSpPr>
          <p:pic>
            <p:nvPicPr>
              <p:cNvPr id="12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67960" y="2376720"/>
                <a:ext cx="615960" cy="121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7866720" y="3035520"/>
                <a:ext cx="107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oor Us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xperienc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975000" y="3672360"/>
              <a:ext cx="1092240" cy="1463400"/>
              <a:chOff x="6975000" y="3672360"/>
              <a:chExt cx="1092240" cy="14634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7092720" y="3672360"/>
                <a:ext cx="935640" cy="784080"/>
                <a:chOff x="7092720" y="3672360"/>
                <a:chExt cx="935640" cy="784080"/>
              </a:xfrm>
            </p:grpSpPr>
            <p:pic>
              <p:nvPicPr>
                <p:cNvPr id="13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092720" y="3718800"/>
                  <a:ext cx="550800" cy="58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18"/>
                <a:stretch/>
              </p:blipFill>
              <p:spPr>
                <a:xfrm rot="652800">
                  <a:off x="7495560" y="3710160"/>
                  <a:ext cx="469800" cy="708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3" name=""/>
              <p:cNvSpPr/>
              <p:nvPr/>
            </p:nvSpPr>
            <p:spPr>
              <a:xfrm>
                <a:off x="6975000" y="4402440"/>
                <a:ext cx="1092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Rich U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ompl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o Develo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34" name="" descr=""/>
            <p:cNvPicPr/>
            <p:nvPr/>
          </p:nvPicPr>
          <p:blipFill>
            <a:blip r:embed="rId19"/>
            <a:stretch/>
          </p:blipFill>
          <p:spPr>
            <a:xfrm>
              <a:off x="6054840" y="2397240"/>
              <a:ext cx="1809720" cy="122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2253240" y="1160640"/>
            <a:ext cx="1073880" cy="1162800"/>
            <a:chOff x="2253240" y="1160640"/>
            <a:chExt cx="1073880" cy="1162800"/>
          </a:xfrm>
        </p:grpSpPr>
        <p:pic>
          <p:nvPicPr>
            <p:cNvPr id="136" name="" descr=""/>
            <p:cNvPicPr/>
            <p:nvPr/>
          </p:nvPicPr>
          <p:blipFill>
            <a:blip r:embed="rId20"/>
            <a:stretch/>
          </p:blipFill>
          <p:spPr>
            <a:xfrm>
              <a:off x="2411280" y="1160640"/>
              <a:ext cx="7448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53240" y="1803240"/>
              <a:ext cx="107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ich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erien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139560" y="2176560"/>
            <a:ext cx="1105920" cy="1379160"/>
            <a:chOff x="3139560" y="2176560"/>
            <a:chExt cx="1105920" cy="1379160"/>
          </a:xfrm>
        </p:grpSpPr>
        <p:pic>
          <p:nvPicPr>
            <p:cNvPr id="139" name="" descr=""/>
            <p:cNvPicPr/>
            <p:nvPr/>
          </p:nvPicPr>
          <p:blipFill>
            <a:blip r:embed="rId21"/>
            <a:stretch/>
          </p:blipFill>
          <p:spPr>
            <a:xfrm>
              <a:off x="3300480" y="2176560"/>
              <a:ext cx="83160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139560" y="3035520"/>
              <a:ext cx="110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velop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ductiv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386440" y="3763800"/>
            <a:ext cx="1113480" cy="1080360"/>
            <a:chOff x="2386440" y="3763800"/>
            <a:chExt cx="1113480" cy="1080360"/>
          </a:xfrm>
        </p:grpSpPr>
        <p:pic>
          <p:nvPicPr>
            <p:cNvPr id="142" name="" descr=""/>
            <p:cNvPicPr/>
            <p:nvPr/>
          </p:nvPicPr>
          <p:blipFill>
            <a:blip r:embed="rId22"/>
            <a:srcRect l="0" t="0" r="0" b="46155"/>
            <a:stretch/>
          </p:blipFill>
          <p:spPr>
            <a:xfrm>
              <a:off x="2485800" y="3763800"/>
              <a:ext cx="87012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386440" y="45370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spons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824440" y="1017720"/>
            <a:ext cx="809640" cy="1344240"/>
            <a:chOff x="5824440" y="1017720"/>
            <a:chExt cx="809640" cy="1344240"/>
          </a:xfrm>
        </p:grpSpPr>
        <p:pic>
          <p:nvPicPr>
            <p:cNvPr id="145" name="" descr=""/>
            <p:cNvPicPr/>
            <p:nvPr/>
          </p:nvPicPr>
          <p:blipFill>
            <a:blip r:embed="rId23"/>
            <a:stretch/>
          </p:blipFill>
          <p:spPr>
            <a:xfrm>
              <a:off x="5824440" y="1017720"/>
              <a:ext cx="80964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878800" y="184176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ro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ac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754880" y="2268360"/>
            <a:ext cx="1252080" cy="1287000"/>
            <a:chOff x="4754880" y="2268360"/>
            <a:chExt cx="1252080" cy="1287000"/>
          </a:xfrm>
        </p:grpSpPr>
        <p:pic>
          <p:nvPicPr>
            <p:cNvPr id="148" name="" descr=""/>
            <p:cNvPicPr/>
            <p:nvPr/>
          </p:nvPicPr>
          <p:blipFill>
            <a:blip r:embed="rId24"/>
            <a:stretch/>
          </p:blipFill>
          <p:spPr>
            <a:xfrm>
              <a:off x="5064480" y="2268360"/>
              <a:ext cx="653760" cy="7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754880" y="303516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sy 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685840" y="3718080"/>
            <a:ext cx="1131840" cy="1216800"/>
            <a:chOff x="5685840" y="3718080"/>
            <a:chExt cx="1131840" cy="1216800"/>
          </a:xfrm>
        </p:grpSpPr>
        <p:pic>
          <p:nvPicPr>
            <p:cNvPr id="151" name="" descr=""/>
            <p:cNvPicPr/>
            <p:nvPr/>
          </p:nvPicPr>
          <p:blipFill>
            <a:blip r:embed="rId25"/>
            <a:stretch/>
          </p:blipFill>
          <p:spPr>
            <a:xfrm>
              <a:off x="5997600" y="3718080"/>
              <a:ext cx="65196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685840" y="4414680"/>
              <a:ext cx="113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se o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ploy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-0.05138 -0.03148 E">
                                      <p:cBhvr>
                                        <p:cTn id="4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111E-006 L 0.10694 1.11111E-006 E">
                                      <p:cBhvr>
                                        <p:cTn id="4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-0.07083 1.11111E-006 E">
                                      <p:cBhvr>
                                        <p:cTn id="4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05833 1.85185E-006 E">
                                      <p:cBhvr>
                                        <p:cTn id="4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-0.12083 4.07407E-006 E">
                                      <p:cBhvr>
                                        <p:cTn id="4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05139 -0.05 E">
                                      <p:cBhvr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d4f"/>
                </a:solidFill>
                <a:latin typeface="Franklin Gothic Medium"/>
              </a:rPr>
              <a:t>Vertigo Managed Smart Document Wrapper</a:t>
            </a:r>
            <a:r>
              <a:rPr b="0" lang="en-US" sz="3200" spc="-1" strike="noStrike">
                <a:solidFill>
                  <a:srgbClr val="ffdd4f"/>
                </a:solidFill>
                <a:latin typeface="Franklin Gothic Medium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dd4f"/>
                </a:solidFill>
                <a:latin typeface="Franklin Gothic Medium"/>
              </a:rPr>
              <a:t>Smart Documents In .NET</a:t>
            </a:r>
            <a:endParaRPr b="0" lang="en-US" sz="32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78000" y="1242720"/>
            <a:ext cx="8388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ree, full source, and unsupport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4c35f"/>
                </a:solidFill>
                <a:uFillTx/>
                <a:latin typeface="Franklin Gothic Book"/>
                <a:hlinkClick r:id="rId4"/>
              </a:rPr>
              <a:t>http://vertigosoftware.com/wrapper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Great FAQ!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Installs new .NET Smart Document project types in Visual Studio.NET 2003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VB.NET, C#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Word, Exc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Wraps the ISmartDocument interface in a way familiar to .NET developer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Object oriented, “event” driven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XML config file defines controls, event handler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Hides the low level “plumbing”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3"/>
          <a:stretch/>
        </p:blipFill>
        <p:spPr>
          <a:xfrm>
            <a:off x="252360" y="1233360"/>
            <a:ext cx="495360" cy="561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4"/>
          <a:stretch/>
        </p:blipFill>
        <p:spPr>
          <a:xfrm>
            <a:off x="252360" y="2590920"/>
            <a:ext cx="495360" cy="5619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5"/>
          <a:stretch/>
        </p:blipFill>
        <p:spPr>
          <a:xfrm>
            <a:off x="252360" y="4390920"/>
            <a:ext cx="4953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0240" y="1619280"/>
            <a:ext cx="8380440" cy="52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Our strategic tool for developing Office solution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Currently supports building document-centric solutions for Word and Excel 2003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VSTO makes Office development approachable to the profession develop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rovides all the productivity of Visual Studio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rovides all the power of the .NET Framework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Leverages the skills of .NET developer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VSTO solutions are secure and easy to deploy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Based on .NET Code Access Security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Online ClickOnce deployment mod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90240" y="22824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Visual Studio Tools for the Microsoft Office System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1"/>
          <a:stretch/>
        </p:blipFill>
        <p:spPr>
          <a:xfrm>
            <a:off x="6573960" y="6027840"/>
            <a:ext cx="2514600" cy="7174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2"/>
          <a:stretch/>
        </p:blipFill>
        <p:spPr>
          <a:xfrm>
            <a:off x="6881760" y="412920"/>
            <a:ext cx="2133720" cy="11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0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f"/>
                </a:solidFill>
                <a:latin typeface="Franklin Gothic Medium"/>
                <a:ea typeface="굴림"/>
              </a:rPr>
              <a:t>XML in Word &amp; Excel 2003</a:t>
            </a:r>
            <a:br>
              <a:rPr sz="4000"/>
            </a:br>
            <a:r>
              <a:rPr b="0" lang="en-US" sz="3200" spc="-1" strike="noStrike">
                <a:solidFill>
                  <a:srgbClr val="fceb98"/>
                </a:solidFill>
                <a:latin typeface="Franklin Gothic Medium"/>
              </a:rPr>
              <a:t>Custom</a:t>
            </a:r>
            <a:r>
              <a:rPr b="0" lang="en-US" sz="3200" spc="-1" strike="noStrike">
                <a:solidFill>
                  <a:srgbClr val="fceb98"/>
                </a:solidFill>
                <a:latin typeface="Franklin Gothic Medium"/>
                <a:ea typeface="ＭＳ Ｐゴシック"/>
              </a:rPr>
              <a:t>er D</a:t>
            </a:r>
            <a:r>
              <a:rPr b="0" lang="en-US" sz="3200" spc="-1" strike="noStrike">
                <a:solidFill>
                  <a:srgbClr val="fceb98"/>
                </a:solidFill>
                <a:latin typeface="Franklin Gothic Medium"/>
              </a:rPr>
              <a:t>efined XML Schema Mapping</a:t>
            </a:r>
            <a:endParaRPr b="0" lang="en-US" sz="32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60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ork with data in a format that makes sens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Visually relate XML elements to document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art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Open or save j</a:t>
            </a: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ust the data you need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pply XSLT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data in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ut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out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pu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ubmit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directly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to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a w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eb servic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ully supports the W3C XSD standard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But users do not have to know XM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Word also supports full fidelity WordM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pps can produce or consume Word document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239400"/>
            <a:ext cx="87375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f"/>
                </a:solidFill>
                <a:latin typeface="Franklin Gothic Medium"/>
              </a:rPr>
              <a:t>Solution Benefits With XML Documents 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818240" y="3006720"/>
            <a:ext cx="4324680" cy="3300480"/>
            <a:chOff x="4818240" y="3006720"/>
            <a:chExt cx="4324680" cy="3300480"/>
          </a:xfrm>
        </p:grpSpPr>
        <p:sp>
          <p:nvSpPr>
            <p:cNvPr id="329" name=""/>
            <p:cNvSpPr/>
            <p:nvPr/>
          </p:nvSpPr>
          <p:spPr>
            <a:xfrm>
              <a:off x="7819920" y="3006720"/>
              <a:ext cx="1141560" cy="94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9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9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9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Frag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9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Im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78480" y="4863960"/>
              <a:ext cx="1231920" cy="14432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eb7c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Documents"/>
            <p:cNvSpPr/>
            <p:nvPr/>
          </p:nvSpPr>
          <p:spPr>
            <a:xfrm>
              <a:off x="6512040" y="5261040"/>
              <a:ext cx="882360" cy="91116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18240" y="3735360"/>
              <a:ext cx="1366560" cy="1303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19920" y="3714840"/>
              <a:ext cx="5770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sa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07080" y="3684600"/>
              <a:ext cx="955800" cy="1379520"/>
            </a:xfrm>
            <a:custGeom>
              <a:avLst/>
              <a:gdLst>
                <a:gd name="textAreaLeft" fmla="*/ 167040 w 955800"/>
                <a:gd name="textAreaRight" fmla="*/ 693000 w 955800"/>
                <a:gd name="textAreaTop" fmla="*/ 184680 h 1379520"/>
                <a:gd name="textAreaBottom" fmla="*/ 1194840 h 137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6294cd"/>
                </a:gs>
                <a:gs pos="100000">
                  <a:srgbClr val="a0bee0"/>
                </a:gs>
              </a:gsLst>
              <a:lin ang="5400000"/>
            </a:gradFill>
            <a:ln w="12600">
              <a:solidFill>
                <a:srgbClr val="6294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89840" y="4341960"/>
              <a:ext cx="436320" cy="382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51000" y="4070520"/>
              <a:ext cx="159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Searching &amp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Repurpos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Cont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91720" y="3274920"/>
              <a:ext cx="6958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34400" y="3305160"/>
              <a:ext cx="7246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Resul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65920" y="3006720"/>
              <a:ext cx="88920" cy="9414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24480 h 941400"/>
                <a:gd name="textAreaBottom" fmla="*/ 91692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701240" y="1179360"/>
            <a:ext cx="3952440" cy="2057400"/>
            <a:chOff x="4701240" y="1179360"/>
            <a:chExt cx="3952440" cy="2057400"/>
          </a:xfrm>
        </p:grpSpPr>
        <p:grpSp>
          <p:nvGrpSpPr>
            <p:cNvPr id="341" name=""/>
            <p:cNvGrpSpPr/>
            <p:nvPr/>
          </p:nvGrpSpPr>
          <p:grpSpPr>
            <a:xfrm>
              <a:off x="6905520" y="1587600"/>
              <a:ext cx="1460520" cy="1050480"/>
              <a:chOff x="6905520" y="1587600"/>
              <a:chExt cx="1460520" cy="1050480"/>
            </a:xfrm>
          </p:grpSpPr>
          <p:sp>
            <p:nvSpPr>
              <p:cNvPr id="342" name="Gear"/>
              <p:cNvSpPr/>
              <p:nvPr/>
            </p:nvSpPr>
            <p:spPr>
              <a:xfrm>
                <a:off x="7715160" y="1587600"/>
                <a:ext cx="650880" cy="4816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05520" y="1785960"/>
                <a:ext cx="777960" cy="57600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10240" y="1998360"/>
                <a:ext cx="864720" cy="63972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4902120" y="1179360"/>
              <a:ext cx="436680" cy="382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64000" y="1189080"/>
              <a:ext cx="32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Business Process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863960" y="2405160"/>
              <a:ext cx="2125800" cy="831600"/>
            </a:xfrm>
            <a:prstGeom prst="line">
              <a:avLst/>
            </a:prstGeom>
            <a:ln w="38160">
              <a:solidFill>
                <a:srgbClr val="deded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01240" y="2470320"/>
              <a:ext cx="8848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edede"/>
                  </a:solidFill>
                  <a:latin typeface="Arial"/>
                </a:rPr>
                <a:t>Effic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edede"/>
                  </a:solidFill>
                  <a:latin typeface="Arial"/>
                </a:rPr>
                <a:t>cap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42720" y="1868400"/>
              <a:ext cx="11606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edede"/>
                  </a:solidFill>
                  <a:latin typeface="Arial"/>
                </a:rPr>
                <a:t>Validated</a:t>
              </a:r>
              <a:br>
                <a:rPr sz="1400"/>
              </a:br>
              <a:r>
                <a:rPr b="1" lang="en-US" sz="1400" spc="-1" strike="noStrike">
                  <a:solidFill>
                    <a:srgbClr val="dedede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3120" y="1324080"/>
            <a:ext cx="4016160" cy="1911960"/>
            <a:chOff x="303120" y="1324080"/>
            <a:chExt cx="4016160" cy="1911960"/>
          </a:xfrm>
        </p:grpSpPr>
        <p:sp>
          <p:nvSpPr>
            <p:cNvPr id="351" name=""/>
            <p:cNvSpPr/>
            <p:nvPr/>
          </p:nvSpPr>
          <p:spPr>
            <a:xfrm>
              <a:off x="303120" y="1984320"/>
              <a:ext cx="425520" cy="542880"/>
            </a:xfrm>
            <a:prstGeom prst="can">
              <a:avLst>
                <a:gd name="adj" fmla="val 25000"/>
              </a:avLst>
            </a:prstGeom>
            <a:solidFill>
              <a:srgbClr val="f9ff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5600" y="1719360"/>
              <a:ext cx="667440" cy="11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9769"/>
                </a:path>
              </a:pathLst>
            </a:custGeom>
            <a:noFill/>
            <a:ln w="12600">
              <a:solidFill>
                <a:srgbClr val="f9f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0200" y="1936800"/>
              <a:ext cx="24940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f0d"/>
                  </a:solidFill>
                  <a:latin typeface="Arial"/>
                </a:rPr>
                <a:t>Web servi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f0d"/>
                  </a:solidFill>
                  <a:latin typeface="Arial"/>
                </a:rPr>
                <a:t>(loose coupled connection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54240" y="2486160"/>
              <a:ext cx="2060640" cy="393480"/>
            </a:xfrm>
            <a:prstGeom prst="line">
              <a:avLst/>
            </a:prstGeom>
            <a:ln w="38160">
              <a:solidFill>
                <a:srgbClr val="f9ff0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34040" y="2705040"/>
              <a:ext cx="12153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f0d"/>
                  </a:solidFill>
                  <a:latin typeface="Arial"/>
                </a:rPr>
                <a:t>+ format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2840" y="1324080"/>
              <a:ext cx="436680" cy="382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90920" y="1347840"/>
              <a:ext cx="26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Improved Data Ac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50400" y="2928960"/>
              <a:ext cx="1812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f0d"/>
                  </a:solidFill>
                  <a:latin typeface="Arial"/>
                </a:rPr>
                <a:t>+ intelligent receip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90440" y="3483000"/>
            <a:ext cx="3395880" cy="2185560"/>
            <a:chOff x="190440" y="3483000"/>
            <a:chExt cx="3395880" cy="2185560"/>
          </a:xfrm>
        </p:grpSpPr>
        <p:grpSp>
          <p:nvGrpSpPr>
            <p:cNvPr id="360" name=""/>
            <p:cNvGrpSpPr/>
            <p:nvPr/>
          </p:nvGrpSpPr>
          <p:grpSpPr>
            <a:xfrm>
              <a:off x="190440" y="4546440"/>
              <a:ext cx="563400" cy="1122120"/>
              <a:chOff x="190440" y="4546440"/>
              <a:chExt cx="563400" cy="1122120"/>
            </a:xfrm>
          </p:grpSpPr>
          <p:sp>
            <p:nvSpPr>
              <p:cNvPr id="361" name=""/>
              <p:cNvSpPr/>
              <p:nvPr/>
            </p:nvSpPr>
            <p:spPr>
              <a:xfrm>
                <a:off x="334800" y="4546440"/>
                <a:ext cx="419040" cy="607680"/>
              </a:xfrm>
              <a:prstGeom prst="can">
                <a:avLst>
                  <a:gd name="adj" fmla="val 25000"/>
                </a:avLst>
              </a:prstGeom>
              <a:solidFill>
                <a:srgbClr val="1fcf6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2160" y="4799520"/>
                <a:ext cx="419040" cy="607680"/>
              </a:xfrm>
              <a:prstGeom prst="can">
                <a:avLst>
                  <a:gd name="adj" fmla="val 25000"/>
                </a:avLst>
              </a:prstGeom>
              <a:solidFill>
                <a:srgbClr val="1fcf6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0440" y="5060880"/>
                <a:ext cx="419040" cy="607680"/>
              </a:xfrm>
              <a:prstGeom prst="can">
                <a:avLst>
                  <a:gd name="adj" fmla="val 25000"/>
                </a:avLst>
              </a:prstGeom>
              <a:solidFill>
                <a:srgbClr val="1fcf6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2028960" y="4746600"/>
              <a:ext cx="407880" cy="515880"/>
              <a:chOff x="2028960" y="4746600"/>
              <a:chExt cx="407880" cy="515880"/>
            </a:xfrm>
          </p:grpSpPr>
          <p:sp>
            <p:nvSpPr>
              <p:cNvPr id="365" name=""/>
              <p:cNvSpPr/>
              <p:nvPr/>
            </p:nvSpPr>
            <p:spPr>
              <a:xfrm>
                <a:off x="2028960" y="4746600"/>
                <a:ext cx="407880" cy="515880"/>
              </a:xfrm>
              <a:prstGeom prst="foldedCorner">
                <a:avLst>
                  <a:gd name="adj" fmla="val 12500"/>
                </a:avLst>
              </a:prstGeom>
              <a:solidFill>
                <a:srgbClr val="9df1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156400" y="4824000"/>
                <a:ext cx="19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92680" y="4888440"/>
                <a:ext cx="254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952880"/>
                <a:ext cx="254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92680" y="5016960"/>
                <a:ext cx="254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92680" y="5081400"/>
                <a:ext cx="254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92680" y="5145840"/>
                <a:ext cx="254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rot="376200">
              <a:off x="864720" y="4800600"/>
              <a:ext cx="758880" cy="125280"/>
            </a:xfrm>
            <a:prstGeom prst="rightArrow">
              <a:avLst>
                <a:gd name="adj1" fmla="val 50000"/>
                <a:gd name="adj2" fmla="val 15143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1fcf6f"/>
                </a:gs>
              </a:gsLst>
              <a:lin ang="10422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76320" y="4430880"/>
              <a:ext cx="685800" cy="9651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1fc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741760" y="3917880"/>
              <a:ext cx="844560" cy="650880"/>
            </a:xfrm>
            <a:prstGeom prst="line">
              <a:avLst/>
            </a:prstGeom>
            <a:ln w="38160">
              <a:solidFill>
                <a:srgbClr val="1fcf6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599800">
              <a:off x="867960" y="5183280"/>
              <a:ext cx="758880" cy="125280"/>
            </a:xfrm>
            <a:prstGeom prst="rightArrow">
              <a:avLst>
                <a:gd name="adj1" fmla="val 50000"/>
                <a:gd name="adj2" fmla="val 15143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1fcf6f"/>
                </a:gs>
              </a:gsLst>
              <a:lin ang="11802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6720" y="3483000"/>
              <a:ext cx="436680" cy="382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000" y="3506760"/>
              <a:ext cx="24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Document Assemb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64080" y="4414680"/>
              <a:ext cx="5464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df1c3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7400" y="5359320"/>
              <a:ext cx="106164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df1c3"/>
                  </a:solidFill>
                  <a:latin typeface="Arial"/>
                </a:rPr>
                <a:t>format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71640" y="3916440"/>
            <a:ext cx="4375080" cy="2733120"/>
            <a:chOff x="971640" y="3916440"/>
            <a:chExt cx="4375080" cy="2733120"/>
          </a:xfrm>
        </p:grpSpPr>
        <p:sp>
          <p:nvSpPr>
            <p:cNvPr id="381" name=""/>
            <p:cNvSpPr/>
            <p:nvPr/>
          </p:nvSpPr>
          <p:spPr>
            <a:xfrm>
              <a:off x="2980440" y="5700600"/>
              <a:ext cx="15660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b7c35"/>
                  </a:solidFill>
                  <a:latin typeface="Arial"/>
                </a:rPr>
                <a:t>Context-specif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b7c35"/>
                  </a:solidFill>
                  <a:latin typeface="Arial"/>
                </a:rPr>
                <a:t>assistan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51280" y="5985000"/>
              <a:ext cx="1709640" cy="11160"/>
            </a:xfrm>
            <a:prstGeom prst="line">
              <a:avLst/>
            </a:prstGeom>
            <a:ln w="38160">
              <a:solidFill>
                <a:srgbClr val="eb7c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948040" y="3916440"/>
              <a:ext cx="1023840" cy="2074680"/>
            </a:xfrm>
            <a:prstGeom prst="line">
              <a:avLst/>
            </a:prstGeom>
            <a:ln w="38160">
              <a:solidFill>
                <a:srgbClr val="eb7c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04640" y="4486320"/>
              <a:ext cx="9532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b7c35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b7c35"/>
                  </a:solidFill>
                  <a:latin typeface="Arial"/>
                </a:rPr>
                <a:t>struc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762440" y="4924440"/>
              <a:ext cx="576360" cy="584280"/>
              <a:chOff x="4762440" y="4924440"/>
              <a:chExt cx="576360" cy="584280"/>
            </a:xfrm>
          </p:grpSpPr>
          <p:sp>
            <p:nvSpPr>
              <p:cNvPr id="386" name=""/>
              <p:cNvSpPr/>
              <p:nvPr/>
            </p:nvSpPr>
            <p:spPr>
              <a:xfrm>
                <a:off x="4762440" y="4924440"/>
                <a:ext cx="447840" cy="466560"/>
              </a:xfrm>
              <a:prstGeom prst="foldedCorner">
                <a:avLst>
                  <a:gd name="adj" fmla="val 12500"/>
                </a:avLst>
              </a:prstGeom>
              <a:solidFill>
                <a:srgbClr val="eb7c3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902120" y="499428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32280" y="505296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32280" y="511164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32280" y="516888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32280" y="522756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32280" y="528624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90960" y="5041800"/>
                <a:ext cx="447840" cy="466920"/>
              </a:xfrm>
              <a:prstGeom prst="foldedCorner">
                <a:avLst>
                  <a:gd name="adj" fmla="val 12500"/>
                </a:avLst>
              </a:prstGeom>
              <a:solidFill>
                <a:srgbClr val="eb7c3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030640" y="511164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960800" y="517032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960800" y="522936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60800" y="528624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60800" y="534528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60800" y="5403960"/>
                <a:ext cx="27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4838760" y="5610240"/>
              <a:ext cx="447480" cy="584280"/>
            </a:xfrm>
            <a:prstGeom prst="can">
              <a:avLst>
                <a:gd name="adj" fmla="val 25000"/>
              </a:avLst>
            </a:prstGeom>
            <a:solidFill>
              <a:srgbClr val="eb7c3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4848120" y="6329520"/>
              <a:ext cx="498600" cy="320040"/>
              <a:chOff x="4848120" y="6329520"/>
              <a:chExt cx="498600" cy="320040"/>
            </a:xfrm>
          </p:grpSpPr>
          <p:sp>
            <p:nvSpPr>
              <p:cNvPr id="402" name=""/>
              <p:cNvSpPr/>
              <p:nvPr/>
            </p:nvSpPr>
            <p:spPr>
              <a:xfrm>
                <a:off x="4848120" y="6329520"/>
                <a:ext cx="498600" cy="63720"/>
              </a:xfrm>
              <a:prstGeom prst="rect">
                <a:avLst/>
              </a:prstGeom>
              <a:noFill/>
              <a:ln w="9360">
                <a:solidFill>
                  <a:srgbClr val="eb7c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48120" y="6457320"/>
                <a:ext cx="498600" cy="64080"/>
              </a:xfrm>
              <a:prstGeom prst="rect">
                <a:avLst/>
              </a:prstGeom>
              <a:noFill/>
              <a:ln w="9360">
                <a:solidFill>
                  <a:srgbClr val="eb7c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48120" y="6585480"/>
                <a:ext cx="498600" cy="64080"/>
              </a:xfrm>
              <a:prstGeom prst="rect">
                <a:avLst/>
              </a:prstGeom>
              <a:noFill/>
              <a:ln w="9360">
                <a:solidFill>
                  <a:srgbClr val="eb7c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971640" y="6254640"/>
              <a:ext cx="436320" cy="382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14080" y="6278400"/>
              <a:ext cx="27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Intelligent Applica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65600" y="2730600"/>
            <a:ext cx="969840" cy="1278000"/>
            <a:chOff x="3765600" y="2730600"/>
            <a:chExt cx="969840" cy="1278000"/>
          </a:xfrm>
        </p:grpSpPr>
        <p:sp>
          <p:nvSpPr>
            <p:cNvPr id="408" name=""/>
            <p:cNvSpPr/>
            <p:nvPr/>
          </p:nvSpPr>
          <p:spPr>
            <a:xfrm>
              <a:off x="3765600" y="2730600"/>
              <a:ext cx="969840" cy="1278000"/>
            </a:xfrm>
            <a:prstGeom prst="foldedCorner">
              <a:avLst>
                <a:gd name="adj" fmla="val 12500"/>
              </a:avLst>
            </a:prstGeom>
            <a:solidFill>
              <a:srgbClr val="fceb9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68720" y="2922480"/>
              <a:ext cx="45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17880" y="3083040"/>
              <a:ext cx="60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17880" y="3400560"/>
              <a:ext cx="60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17880" y="3560760"/>
              <a:ext cx="60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17880" y="3719520"/>
              <a:ext cx="60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8920" y="30510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Visual Studio Tools for Office</a:t>
            </a:r>
            <a:br>
              <a:rPr sz="48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New Project Templates for VS.NET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60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xtends .NET development to Offi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pplication code is separate from docum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lexible .NET code access security mod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Power of Office 2003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ode can run in Word and Exc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Developer productivity of Visual Studio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Write code in Visual Basic and Visual C# .NE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Windows Forms presentation framework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A “professional” development environmen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57200" y="2484360"/>
            <a:ext cx="82296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Manipulating XML in Docu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942160" y="0"/>
            <a:ext cx="3201840" cy="11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57200" y="248436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VSTO 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942160" y="0"/>
            <a:ext cx="3201840" cy="11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2000" cy="40384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Information Bridge Framework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7320" y="1413000"/>
            <a:ext cx="4181400" cy="39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Web Service-based architecture (SOA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Centralized metadata/UI serv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Runtime for smart tag / XML event initiatio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Windows Forms and task pane suppor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7"/>
          <a:stretch/>
        </p:blipFill>
        <p:spPr>
          <a:xfrm>
            <a:off x="5754600" y="1644480"/>
            <a:ext cx="2971800" cy="6098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8"/>
          <a:stretch/>
        </p:blipFill>
        <p:spPr>
          <a:xfrm>
            <a:off x="3452760" y="3854520"/>
            <a:ext cx="4943520" cy="2408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9"/>
          <a:stretch/>
        </p:blipFill>
        <p:spPr>
          <a:xfrm>
            <a:off x="5334120" y="4876920"/>
            <a:ext cx="539640" cy="8380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0"/>
          <a:stretch/>
        </p:blipFill>
        <p:spPr>
          <a:xfrm>
            <a:off x="6248520" y="5334120"/>
            <a:ext cx="53964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1"/>
          <a:stretch/>
        </p:blipFill>
        <p:spPr>
          <a:xfrm>
            <a:off x="4413240" y="4311720"/>
            <a:ext cx="539640" cy="8380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2"/>
          <a:stretch/>
        </p:blipFill>
        <p:spPr>
          <a:xfrm>
            <a:off x="4788000" y="454032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3"/>
          <a:stretch/>
        </p:blipFill>
        <p:spPr>
          <a:xfrm>
            <a:off x="5695920" y="514368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4"/>
          <a:stretch/>
        </p:blipFill>
        <p:spPr>
          <a:xfrm>
            <a:off x="6629400" y="5562720"/>
            <a:ext cx="476280" cy="5713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5"/>
          <a:stretch/>
        </p:blipFill>
        <p:spPr>
          <a:xfrm>
            <a:off x="7537320" y="1203480"/>
            <a:ext cx="704880" cy="8236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6"/>
          <a:stretch/>
        </p:blipFill>
        <p:spPr>
          <a:xfrm>
            <a:off x="6267600" y="1189080"/>
            <a:ext cx="836640" cy="8319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7"/>
          <a:stretch/>
        </p:blipFill>
        <p:spPr>
          <a:xfrm>
            <a:off x="6135840" y="2940120"/>
            <a:ext cx="730080" cy="8762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8"/>
          <a:stretch/>
        </p:blipFill>
        <p:spPr>
          <a:xfrm>
            <a:off x="7888320" y="3321000"/>
            <a:ext cx="546120" cy="8380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9"/>
          <a:stretch/>
        </p:blipFill>
        <p:spPr>
          <a:xfrm rot="3568200">
            <a:off x="7077600" y="2607480"/>
            <a:ext cx="1339920" cy="4809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7877160" y="267012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egoe Semibold"/>
              </a:rPr>
              <a:t>Met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85240" y="49579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emibold"/>
              </a:rPr>
              <a:t>Fin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51520" y="56437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emibold"/>
              </a:rPr>
              <a:t>E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73040" y="610092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emibold"/>
              </a:rPr>
              <a:t>C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58040" y="847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Semibold"/>
              </a:rPr>
              <a:t>Smart Cli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6520" y="2647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emibold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35920" y="56102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emibold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dd4f"/>
                </a:solidFill>
                <a:latin typeface="Franklin Gothic Medium"/>
              </a:rPr>
              <a:t>Information Bridge Architecture</a:t>
            </a:r>
            <a:endParaRPr b="0" lang="en-US" sz="42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84320" y="3359160"/>
            <a:ext cx="8634240" cy="1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240" y="30114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eb98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7840" y="33955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eb98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2440" y="4152960"/>
            <a:ext cx="7823160" cy="2641680"/>
          </a:xfrm>
          <a:prstGeom prst="ellipse">
            <a:avLst/>
          </a:prstGeom>
          <a:gradFill rotWithShape="0">
            <a:gsLst>
              <a:gs pos="0">
                <a:srgbClr val="00478e"/>
              </a:gs>
              <a:gs pos="50000">
                <a:srgbClr val="6294cd"/>
              </a:gs>
              <a:gs pos="100000">
                <a:srgbClr val="00478e"/>
              </a:gs>
            </a:gsLst>
            <a:lin ang="13500000"/>
          </a:gradFill>
          <a:ln w="1260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52560" y="4789440"/>
            <a:ext cx="1398600" cy="150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7800" y="486720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49480" y="5234040"/>
            <a:ext cx="1004760" cy="40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49480" y="5703840"/>
            <a:ext cx="1004760" cy="21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o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49480" y="5983200"/>
            <a:ext cx="1004760" cy="21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1120" y="5881680"/>
            <a:ext cx="1005120" cy="41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41800" y="5881680"/>
            <a:ext cx="1005120" cy="41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ga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32480" y="5881680"/>
            <a:ext cx="1001880" cy="41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546280" y="4503600"/>
            <a:ext cx="4984920" cy="1274760"/>
            <a:chOff x="2546280" y="4503600"/>
            <a:chExt cx="4984920" cy="1274760"/>
          </a:xfrm>
        </p:grpSpPr>
        <p:sp>
          <p:nvSpPr>
            <p:cNvPr id="462" name=""/>
            <p:cNvSpPr/>
            <p:nvPr/>
          </p:nvSpPr>
          <p:spPr>
            <a:xfrm>
              <a:off x="2546280" y="4513320"/>
              <a:ext cx="4386240" cy="144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547720" y="4503600"/>
              <a:ext cx="6120" cy="28260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56080" y="5092560"/>
              <a:ext cx="1193760" cy="685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eb Serv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ptional: Inform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idge Complia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46760" y="5092560"/>
              <a:ext cx="1193760" cy="685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eb Serv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ptional: Inform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idge Complia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37440" y="5092560"/>
              <a:ext cx="1193760" cy="685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eb Serv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ptional: Inform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idge Complia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4148280" y="4522680"/>
              <a:ext cx="10800" cy="56376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5547960" y="4518000"/>
              <a:ext cx="11160" cy="56376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914880" y="4527720"/>
              <a:ext cx="11160" cy="56340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77800" y="1424160"/>
            <a:ext cx="1747800" cy="1517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3360" y="1405080"/>
            <a:ext cx="16984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e 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ord, Excel, Outlook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52320" y="1913040"/>
            <a:ext cx="1598760" cy="631800"/>
            <a:chOff x="652320" y="1913040"/>
            <a:chExt cx="1598760" cy="631800"/>
          </a:xfrm>
        </p:grpSpPr>
        <p:sp>
          <p:nvSpPr>
            <p:cNvPr id="473" name=""/>
            <p:cNvSpPr/>
            <p:nvPr/>
          </p:nvSpPr>
          <p:spPr>
            <a:xfrm>
              <a:off x="652320" y="1913040"/>
              <a:ext cx="1598760" cy="301680"/>
            </a:xfrm>
            <a:prstGeom prst="rect">
              <a:avLst/>
            </a:prstGeom>
            <a:solidFill>
              <a:srgbClr val="6294cd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ttached Sch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2320" y="2243160"/>
              <a:ext cx="1598760" cy="301680"/>
            </a:xfrm>
            <a:prstGeom prst="rect">
              <a:avLst/>
            </a:prstGeom>
            <a:solidFill>
              <a:srgbClr val="6294cd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art T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738680" y="1608120"/>
            <a:ext cx="1811520" cy="479520"/>
            <a:chOff x="4738680" y="1608120"/>
            <a:chExt cx="1811520" cy="479520"/>
          </a:xfrm>
        </p:grpSpPr>
        <p:sp>
          <p:nvSpPr>
            <p:cNvPr id="476" name=""/>
            <p:cNvSpPr/>
            <p:nvPr/>
          </p:nvSpPr>
          <p:spPr>
            <a:xfrm>
              <a:off x="4738680" y="1854360"/>
              <a:ext cx="754200" cy="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484960" y="1608120"/>
              <a:ext cx="1065240" cy="4795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ta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7054920" y="1420920"/>
            <a:ext cx="1747800" cy="1517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29440" y="1849320"/>
            <a:ext cx="1598760" cy="497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73800" y="14050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13720" y="1163520"/>
            <a:ext cx="10800" cy="21700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46280" y="10731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eb98"/>
                </a:solidFill>
                <a:latin typeface="Arial"/>
              </a:rPr>
              <a:t>Development On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83240" y="64389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054760" y="1860480"/>
            <a:ext cx="1427040" cy="1839960"/>
            <a:chOff x="5054760" y="1860480"/>
            <a:chExt cx="1427040" cy="1839960"/>
          </a:xfrm>
        </p:grpSpPr>
        <p:sp>
          <p:nvSpPr>
            <p:cNvPr id="485" name=""/>
            <p:cNvSpPr/>
            <p:nvPr/>
          </p:nvSpPr>
          <p:spPr>
            <a:xfrm flipH="1">
              <a:off x="6464160" y="2257560"/>
              <a:ext cx="14400" cy="144288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054760" y="2266560"/>
              <a:ext cx="1427040" cy="324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065200" y="1860480"/>
              <a:ext cx="9720" cy="41760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038480" y="2644920"/>
            <a:ext cx="2246400" cy="1380960"/>
            <a:chOff x="4038480" y="2644920"/>
            <a:chExt cx="2246400" cy="1380960"/>
          </a:xfrm>
        </p:grpSpPr>
        <p:sp>
          <p:nvSpPr>
            <p:cNvPr id="489" name=""/>
            <p:cNvSpPr/>
            <p:nvPr/>
          </p:nvSpPr>
          <p:spPr>
            <a:xfrm>
              <a:off x="5219640" y="2644920"/>
              <a:ext cx="1065240" cy="479160"/>
            </a:xfrm>
            <a:prstGeom prst="rect">
              <a:avLst/>
            </a:prstGeom>
            <a:solidFill>
              <a:srgbClr val="6294cd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.I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WinForm, XSLT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8480" y="3546360"/>
              <a:ext cx="1065240" cy="479520"/>
            </a:xfrm>
            <a:prstGeom prst="rect">
              <a:avLst/>
            </a:prstGeom>
            <a:solidFill>
              <a:srgbClr val="6294cd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.I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WinForm, XSLT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732040" y="2795760"/>
            <a:ext cx="2479680" cy="1706400"/>
            <a:chOff x="2732040" y="2795760"/>
            <a:chExt cx="2479680" cy="1706400"/>
          </a:xfrm>
        </p:grpSpPr>
        <p:sp>
          <p:nvSpPr>
            <p:cNvPr id="492" name=""/>
            <p:cNvSpPr/>
            <p:nvPr/>
          </p:nvSpPr>
          <p:spPr>
            <a:xfrm>
              <a:off x="4735440" y="2795760"/>
              <a:ext cx="476280" cy="792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94080" y="2819520"/>
              <a:ext cx="0" cy="168264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32040" y="355932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SOAP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4901760" y="2803680"/>
              <a:ext cx="1800" cy="74592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7129440" y="2382840"/>
            <a:ext cx="1598760" cy="496800"/>
          </a:xfrm>
          <a:prstGeom prst="rect">
            <a:avLst/>
          </a:prstGeom>
          <a:solidFill>
            <a:srgbClr val="74c35f"/>
          </a:solidFill>
          <a:ln w="1260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294160" y="2822400"/>
            <a:ext cx="3672000" cy="1597320"/>
            <a:chOff x="5294160" y="2822400"/>
            <a:chExt cx="3672000" cy="1597320"/>
          </a:xfrm>
        </p:grpSpPr>
        <p:sp>
          <p:nvSpPr>
            <p:cNvPr id="498" name=""/>
            <p:cNvSpPr/>
            <p:nvPr/>
          </p:nvSpPr>
          <p:spPr>
            <a:xfrm>
              <a:off x="5294160" y="3703680"/>
              <a:ext cx="2233800" cy="326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tadata Servi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50240" y="3606840"/>
              <a:ext cx="1015920" cy="812880"/>
            </a:xfrm>
            <a:prstGeom prst="can">
              <a:avLst>
                <a:gd name="adj" fmla="val 25000"/>
              </a:avLst>
            </a:prstGeom>
            <a:solidFill>
              <a:srgbClr val="3399ff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ta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31200" y="3867120"/>
              <a:ext cx="414360" cy="0"/>
            </a:xfrm>
            <a:prstGeom prst="line">
              <a:avLst/>
            </a:prstGeom>
            <a:ln w="25560">
              <a:solidFill>
                <a:srgbClr val="eb7c35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326360" y="2822400"/>
              <a:ext cx="6480" cy="882720"/>
            </a:xfrm>
            <a:prstGeom prst="line">
              <a:avLst/>
            </a:prstGeom>
            <a:ln w="25560">
              <a:solidFill>
                <a:srgbClr val="6294c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261520" y="1406520"/>
            <a:ext cx="2536920" cy="1531800"/>
            <a:chOff x="2261520" y="1406520"/>
            <a:chExt cx="2536920" cy="1531800"/>
          </a:xfrm>
        </p:grpSpPr>
        <p:sp>
          <p:nvSpPr>
            <p:cNvPr id="503" name=""/>
            <p:cNvSpPr/>
            <p:nvPr/>
          </p:nvSpPr>
          <p:spPr>
            <a:xfrm>
              <a:off x="2322360" y="1423800"/>
              <a:ext cx="2413080" cy="1514520"/>
            </a:xfrm>
            <a:prstGeom prst="rect">
              <a:avLst/>
            </a:prstGeom>
            <a:solidFill>
              <a:srgbClr val="74c35f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61520" y="1406520"/>
              <a:ext cx="253692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ormation Bridge Runti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Office add-in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14680" y="1912680"/>
              <a:ext cx="1828800" cy="300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k Pane Manag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4680" y="2242800"/>
              <a:ext cx="1827000" cy="3016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ffice Integ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14680" y="2576160"/>
              <a:ext cx="1827000" cy="300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4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.I. Render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f"/>
                </a:solidFill>
                <a:latin typeface="Franklin Gothic Medium"/>
              </a:rPr>
              <a:t>Visual Studio 2005 Tools for Office</a:t>
            </a:r>
            <a:endParaRPr b="0" lang="en-US" sz="40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91600" y="1082520"/>
            <a:ext cx="85359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Visual Studio .NET 2005 with Projects for Word,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Excel and InfoPath 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Language support for VB .NET and C#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8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Full access to the .NET Framework, Web services, ADO .NET, integrated debugging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8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CLR-based security model 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8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Major focus on developer productivity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Integrated design-time experience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Support for managed controls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View” controls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Managed Document Actions Pane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Schema-based programming model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825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New data caching capabilities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Data island accessible in a server environment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825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Improved deployment model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Online ClickOnce deployment model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6"/>
          <a:stretch/>
        </p:blipFill>
        <p:spPr>
          <a:xfrm>
            <a:off x="4802040" y="3940200"/>
            <a:ext cx="2133720" cy="11937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7"/>
          <a:stretch/>
        </p:blipFill>
        <p:spPr>
          <a:xfrm>
            <a:off x="7149960" y="3429000"/>
            <a:ext cx="1500480" cy="8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57040"/>
            <a:ext cx="8393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General Information Work Flow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54" name=""/>
          <p:cNvSpPr/>
          <p:nvPr/>
        </p:nvSpPr>
        <p:spPr>
          <a:xfrm>
            <a:off x="3784680" y="1743120"/>
            <a:ext cx="622080" cy="1127160"/>
          </a:xfrm>
          <a:prstGeom prst="rect">
            <a:avLst/>
          </a:prstGeom>
          <a:gradFill rotWithShape="0">
            <a:gsLst>
              <a:gs pos="0">
                <a:srgbClr val="746c46"/>
              </a:gs>
              <a:gs pos="50000">
                <a:srgbClr val="fceb98"/>
              </a:gs>
              <a:gs pos="100000">
                <a:srgbClr val="746c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0" y="1600200"/>
            <a:ext cx="1514520" cy="1486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746c46"/>
              </a:gs>
              <a:gs pos="50000">
                <a:srgbClr val="fceb98"/>
              </a:gs>
              <a:gs pos="100000">
                <a:srgbClr val="746c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65520" y="1257480"/>
            <a:ext cx="152640" cy="424800"/>
            <a:chOff x="4565520" y="1257480"/>
            <a:chExt cx="152640" cy="424800"/>
          </a:xfrm>
        </p:grpSpPr>
        <p:sp>
          <p:nvSpPr>
            <p:cNvPr id="157" name=""/>
            <p:cNvSpPr/>
            <p:nvPr/>
          </p:nvSpPr>
          <p:spPr>
            <a:xfrm>
              <a:off x="4641840" y="1335960"/>
              <a:ext cx="0" cy="189000"/>
            </a:xfrm>
            <a:prstGeom prst="line">
              <a:avLst/>
            </a:prstGeom>
            <a:ln cap="rnd" w="34920">
              <a:solidFill>
                <a:srgbClr val="ffdd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570200" y="1378080"/>
              <a:ext cx="143280" cy="0"/>
            </a:xfrm>
            <a:prstGeom prst="line">
              <a:avLst/>
            </a:prstGeom>
            <a:ln cap="rnd" w="34920">
              <a:solidFill>
                <a:srgbClr val="ffdd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65520" y="1524960"/>
              <a:ext cx="76320" cy="157320"/>
            </a:xfrm>
            <a:prstGeom prst="line">
              <a:avLst/>
            </a:prstGeom>
            <a:ln cap="rnd" w="34920">
              <a:solidFill>
                <a:srgbClr val="ffdd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06200" y="1257480"/>
              <a:ext cx="71640" cy="78480"/>
            </a:xfrm>
            <a:custGeom>
              <a:avLst/>
              <a:gdLst/>
              <a:ahLst/>
              <a:rect l="l" t="t" r="r" b="b"/>
              <a:pathLst>
                <a:path w="2365" h="2601">
                  <a:moveTo>
                    <a:pt x="0" y="1301"/>
                  </a:moveTo>
                  <a:cubicBezTo>
                    <a:pt x="0" y="582"/>
                    <a:pt x="529" y="0"/>
                    <a:pt x="1182" y="0"/>
                  </a:cubicBezTo>
                  <a:cubicBezTo>
                    <a:pt x="1835" y="0"/>
                    <a:pt x="2365" y="582"/>
                    <a:pt x="2365" y="1301"/>
                  </a:cubicBezTo>
                  <a:cubicBezTo>
                    <a:pt x="2365" y="1301"/>
                    <a:pt x="2365" y="1301"/>
                    <a:pt x="2365" y="1301"/>
                  </a:cubicBezTo>
                  <a:cubicBezTo>
                    <a:pt x="2365" y="2019"/>
                    <a:pt x="1835" y="2601"/>
                    <a:pt x="1182" y="2601"/>
                  </a:cubicBezTo>
                  <a:cubicBezTo>
                    <a:pt x="529" y="2601"/>
                    <a:pt x="0" y="2019"/>
                    <a:pt x="0" y="1301"/>
                  </a:cubicBezTo>
                </a:path>
              </a:pathLst>
            </a:custGeom>
            <a:solidFill>
              <a:srgbClr val="ffdd4f"/>
            </a:solidFill>
            <a:ln w="34920">
              <a:solidFill>
                <a:srgbClr val="ffdd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1257480"/>
              <a:ext cx="71640" cy="78480"/>
            </a:xfrm>
            <a:custGeom>
              <a:avLst/>
              <a:gdLst/>
              <a:ahLst/>
              <a:rect l="l" t="t" r="r" b="b"/>
              <a:pathLst>
                <a:path w="351" h="385">
                  <a:moveTo>
                    <a:pt x="0" y="193"/>
                  </a:moveTo>
                  <a:cubicBezTo>
                    <a:pt x="0" y="86"/>
                    <a:pt x="78" y="0"/>
                    <a:pt x="175" y="0"/>
                  </a:cubicBezTo>
                  <a:cubicBezTo>
                    <a:pt x="272" y="0"/>
                    <a:pt x="351" y="86"/>
                    <a:pt x="351" y="193"/>
                  </a:cubicBezTo>
                  <a:cubicBezTo>
                    <a:pt x="351" y="193"/>
                    <a:pt x="351" y="193"/>
                    <a:pt x="351" y="193"/>
                  </a:cubicBezTo>
                  <a:cubicBezTo>
                    <a:pt x="351" y="299"/>
                    <a:pt x="272" y="385"/>
                    <a:pt x="175" y="385"/>
                  </a:cubicBezTo>
                  <a:cubicBezTo>
                    <a:pt x="78" y="385"/>
                    <a:pt x="0" y="299"/>
                    <a:pt x="0" y="193"/>
                  </a:cubicBezTo>
                </a:path>
              </a:pathLst>
            </a:custGeom>
            <a:solidFill>
              <a:srgbClr val="ffdd4f"/>
            </a:solidFill>
            <a:ln cap="rnd" w="12600">
              <a:solidFill>
                <a:srgbClr val="ffdd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641840" y="1524960"/>
              <a:ext cx="76320" cy="157320"/>
            </a:xfrm>
            <a:prstGeom prst="line">
              <a:avLst/>
            </a:prstGeom>
            <a:ln cap="rnd" w="34920">
              <a:solidFill>
                <a:srgbClr val="ffdd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908600" y="1257480"/>
            <a:ext cx="152280" cy="424800"/>
            <a:chOff x="4908600" y="1257480"/>
            <a:chExt cx="152280" cy="424800"/>
          </a:xfrm>
        </p:grpSpPr>
        <p:sp>
          <p:nvSpPr>
            <p:cNvPr id="164" name=""/>
            <p:cNvSpPr/>
            <p:nvPr/>
          </p:nvSpPr>
          <p:spPr>
            <a:xfrm>
              <a:off x="4984560" y="1335960"/>
              <a:ext cx="0" cy="189000"/>
            </a:xfrm>
            <a:prstGeom prst="line">
              <a:avLst/>
            </a:prstGeom>
            <a:ln cap="rnd" w="34920">
              <a:solidFill>
                <a:srgbClr val="ffdd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912920" y="1378080"/>
              <a:ext cx="142920" cy="0"/>
            </a:xfrm>
            <a:prstGeom prst="line">
              <a:avLst/>
            </a:prstGeom>
            <a:ln cap="rnd" w="34920">
              <a:solidFill>
                <a:srgbClr val="ffdd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908600" y="1524960"/>
              <a:ext cx="75960" cy="157320"/>
            </a:xfrm>
            <a:prstGeom prst="line">
              <a:avLst/>
            </a:prstGeom>
            <a:ln cap="rnd" w="34920">
              <a:solidFill>
                <a:srgbClr val="ffdd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48920" y="1257480"/>
              <a:ext cx="71280" cy="78480"/>
            </a:xfrm>
            <a:custGeom>
              <a:avLst/>
              <a:gdLst/>
              <a:ahLst/>
              <a:rect l="l" t="t" r="r" b="b"/>
              <a:pathLst>
                <a:path w="2365" h="2601">
                  <a:moveTo>
                    <a:pt x="0" y="1301"/>
                  </a:moveTo>
                  <a:cubicBezTo>
                    <a:pt x="0" y="582"/>
                    <a:pt x="529" y="0"/>
                    <a:pt x="1182" y="0"/>
                  </a:cubicBezTo>
                  <a:cubicBezTo>
                    <a:pt x="1835" y="0"/>
                    <a:pt x="2365" y="582"/>
                    <a:pt x="2365" y="1301"/>
                  </a:cubicBezTo>
                  <a:cubicBezTo>
                    <a:pt x="2365" y="1301"/>
                    <a:pt x="2365" y="1301"/>
                    <a:pt x="2365" y="1301"/>
                  </a:cubicBezTo>
                  <a:cubicBezTo>
                    <a:pt x="2365" y="2019"/>
                    <a:pt x="1835" y="2601"/>
                    <a:pt x="1182" y="2601"/>
                  </a:cubicBezTo>
                  <a:cubicBezTo>
                    <a:pt x="529" y="2601"/>
                    <a:pt x="0" y="2019"/>
                    <a:pt x="0" y="1301"/>
                  </a:cubicBezTo>
                </a:path>
              </a:pathLst>
            </a:custGeom>
            <a:solidFill>
              <a:srgbClr val="ffdd4f"/>
            </a:solidFill>
            <a:ln w="34920">
              <a:solidFill>
                <a:srgbClr val="ffdd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48920" y="1257480"/>
              <a:ext cx="71280" cy="78480"/>
            </a:xfrm>
            <a:custGeom>
              <a:avLst/>
              <a:gdLst/>
              <a:ahLst/>
              <a:rect l="l" t="t" r="r" b="b"/>
              <a:pathLst>
                <a:path w="351" h="385">
                  <a:moveTo>
                    <a:pt x="0" y="193"/>
                  </a:moveTo>
                  <a:cubicBezTo>
                    <a:pt x="0" y="86"/>
                    <a:pt x="78" y="0"/>
                    <a:pt x="175" y="0"/>
                  </a:cubicBezTo>
                  <a:cubicBezTo>
                    <a:pt x="272" y="0"/>
                    <a:pt x="351" y="86"/>
                    <a:pt x="351" y="193"/>
                  </a:cubicBezTo>
                  <a:cubicBezTo>
                    <a:pt x="351" y="193"/>
                    <a:pt x="351" y="193"/>
                    <a:pt x="351" y="193"/>
                  </a:cubicBezTo>
                  <a:cubicBezTo>
                    <a:pt x="351" y="299"/>
                    <a:pt x="272" y="385"/>
                    <a:pt x="175" y="385"/>
                  </a:cubicBezTo>
                  <a:cubicBezTo>
                    <a:pt x="78" y="385"/>
                    <a:pt x="0" y="299"/>
                    <a:pt x="0" y="193"/>
                  </a:cubicBezTo>
                </a:path>
              </a:pathLst>
            </a:custGeom>
            <a:solidFill>
              <a:srgbClr val="ffdd4f"/>
            </a:solidFill>
            <a:ln cap="rnd" w="12600">
              <a:solidFill>
                <a:srgbClr val="ffdd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984560" y="1524960"/>
              <a:ext cx="76320" cy="157320"/>
            </a:xfrm>
            <a:prstGeom prst="line">
              <a:avLst/>
            </a:prstGeom>
            <a:ln cap="rnd" w="34920">
              <a:solidFill>
                <a:srgbClr val="ffdd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62560" y="1468440"/>
            <a:ext cx="3894480" cy="1769040"/>
            <a:chOff x="5362560" y="1468440"/>
            <a:chExt cx="3894480" cy="1769040"/>
          </a:xfrm>
        </p:grpSpPr>
        <p:grpSp>
          <p:nvGrpSpPr>
            <p:cNvPr id="171" name=""/>
            <p:cNvGrpSpPr/>
            <p:nvPr/>
          </p:nvGrpSpPr>
          <p:grpSpPr>
            <a:xfrm>
              <a:off x="7602480" y="1468440"/>
              <a:ext cx="1654560" cy="1769040"/>
              <a:chOff x="7602480" y="1468440"/>
              <a:chExt cx="1654560" cy="17690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8031240" y="2323800"/>
                <a:ext cx="499680" cy="494640"/>
                <a:chOff x="8031240" y="2323800"/>
                <a:chExt cx="499680" cy="494640"/>
              </a:xfrm>
            </p:grpSpPr>
            <p:sp>
              <p:nvSpPr>
                <p:cNvPr id="173" name="Gear"/>
                <p:cNvSpPr/>
                <p:nvPr/>
              </p:nvSpPr>
              <p:spPr>
                <a:xfrm>
                  <a:off x="8308800" y="2323800"/>
                  <a:ext cx="222120" cy="227520"/>
                </a:xfrm>
                <a:prstGeom prst="pie">
                  <a:avLst/>
                </a:prstGeom>
                <a:solidFill>
                  <a:srgbClr val="f3f3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031240" y="2417400"/>
                  <a:ext cx="266040" cy="270720"/>
                </a:xfrm>
                <a:prstGeom prst="pie">
                  <a:avLst/>
                </a:prstGeom>
                <a:solidFill>
                  <a:srgbClr val="fceb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04400" y="2516760"/>
                  <a:ext cx="295560" cy="301680"/>
                </a:xfrm>
                <a:prstGeom prst="pie">
                  <a:avLst/>
                </a:prstGeom>
                <a:solidFill>
                  <a:srgbClr val="f3f3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8082000" y="1468440"/>
                <a:ext cx="565200" cy="549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7e421c"/>
                  </a:gs>
                  <a:gs pos="50000">
                    <a:srgbClr val="eb7c35"/>
                  </a:gs>
                  <a:gs pos="100000">
                    <a:srgbClr val="7e421c"/>
                  </a:gs>
                </a:gsLst>
                <a:lin ang="13500000"/>
              </a:gradFill>
              <a:ln w="12600">
                <a:solidFill>
                  <a:srgbClr val="eb7c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85800" y="2010960"/>
                <a:ext cx="96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dddddd"/>
                    </a:solidFill>
                    <a:latin typeface="Segoe Semibold"/>
                  </a:rPr>
                  <a:t>Storag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02480" y="2900160"/>
                <a:ext cx="165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dddddd"/>
                    </a:solidFill>
                    <a:latin typeface="Segoe Semibold"/>
                  </a:rPr>
                  <a:t>Server proces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362560" y="2006640"/>
              <a:ext cx="2460240" cy="745560"/>
              <a:chOff x="5362560" y="2006640"/>
              <a:chExt cx="2460240" cy="745560"/>
            </a:xfrm>
          </p:grpSpPr>
          <p:sp>
            <p:nvSpPr>
              <p:cNvPr id="180" name=""/>
              <p:cNvSpPr/>
              <p:nvPr/>
            </p:nvSpPr>
            <p:spPr>
              <a:xfrm>
                <a:off x="5362560" y="2365200"/>
                <a:ext cx="378720" cy="0"/>
              </a:xfrm>
              <a:prstGeom prst="line">
                <a:avLst/>
              </a:prstGeom>
              <a:ln w="25560">
                <a:solidFill>
                  <a:srgbClr val="39ad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10560" y="2009520"/>
                <a:ext cx="1794240" cy="0"/>
              </a:xfrm>
              <a:prstGeom prst="line">
                <a:avLst/>
              </a:prstGeom>
              <a:ln w="25560">
                <a:solidFill>
                  <a:srgbClr val="39ad3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010560" y="2746080"/>
                <a:ext cx="1812240" cy="2880"/>
              </a:xfrm>
              <a:prstGeom prst="line">
                <a:avLst/>
              </a:prstGeom>
              <a:ln w="25560">
                <a:solidFill>
                  <a:srgbClr val="39ad3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5726520" y="2006640"/>
                <a:ext cx="293040" cy="358560"/>
              </a:xfrm>
              <a:prstGeom prst="line">
                <a:avLst/>
              </a:prstGeom>
              <a:ln w="25560">
                <a:solidFill>
                  <a:srgbClr val="39ad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35520" y="2365200"/>
                <a:ext cx="281160" cy="387000"/>
              </a:xfrm>
              <a:prstGeom prst="line">
                <a:avLst/>
              </a:prstGeom>
              <a:ln w="25560">
                <a:solidFill>
                  <a:srgbClr val="39ad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056280" y="2087640"/>
              <a:ext cx="14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ddddd"/>
                  </a:solidFill>
                  <a:latin typeface="Segoe Semibold"/>
                </a:rPr>
                <a:t>XML, data 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ddddd"/>
                  </a:solidFill>
                  <a:latin typeface="Segoe Semibold"/>
                </a:rPr>
                <a:t>docum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79800" y="28544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879800" y="26478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879800" y="24368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4879800" y="2217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4879800" y="2003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4879800" y="179244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6000" y="4788000"/>
            <a:ext cx="8699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d4f"/>
                </a:solidFill>
                <a:latin typeface="Franklin Gothic Book"/>
                <a:ea typeface="Arial"/>
              </a:rPr>
              <a:t>Microsoft Office 2003 Development Technolog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6000" y="4788000"/>
            <a:ext cx="86994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6000" y="6753240"/>
            <a:ext cx="86994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280" y="4788000"/>
            <a:ext cx="0" cy="1965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15400" y="4788000"/>
            <a:ext cx="0" cy="1965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6000" y="5099040"/>
            <a:ext cx="869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257640" y="3357720"/>
            <a:ext cx="2748600" cy="1050480"/>
            <a:chOff x="3257640" y="3357720"/>
            <a:chExt cx="2748600" cy="1050480"/>
          </a:xfrm>
        </p:grpSpPr>
        <p:sp>
          <p:nvSpPr>
            <p:cNvPr id="199" name=""/>
            <p:cNvSpPr/>
            <p:nvPr/>
          </p:nvSpPr>
          <p:spPr>
            <a:xfrm>
              <a:off x="3257640" y="3378240"/>
              <a:ext cx="26416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6c46"/>
                </a:gs>
                <a:gs pos="50000">
                  <a:srgbClr val="fceb98"/>
                </a:gs>
                <a:gs pos="100000">
                  <a:srgbClr val="746c4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76440" y="3357720"/>
              <a:ext cx="18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 Semibold"/>
                </a:rPr>
                <a:t>Office progra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33600" y="3674880"/>
              <a:ext cx="2672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egoe Semibold"/>
                </a:rPr>
                <a:t>Create cont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egoe Semibold"/>
                </a:rPr>
                <a:t>Analyze/review inform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egoe Semibold"/>
                </a:rPr>
                <a:t>Process docu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9200" y="3682800"/>
              <a:ext cx="2260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6320" y="3357720"/>
            <a:ext cx="2641320" cy="1050480"/>
            <a:chOff x="76320" y="3357720"/>
            <a:chExt cx="2641320" cy="1050480"/>
          </a:xfrm>
        </p:grpSpPr>
        <p:sp>
          <p:nvSpPr>
            <p:cNvPr id="204" name=""/>
            <p:cNvSpPr/>
            <p:nvPr/>
          </p:nvSpPr>
          <p:spPr>
            <a:xfrm>
              <a:off x="76320" y="3378240"/>
              <a:ext cx="264132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44f6e"/>
                </a:gs>
                <a:gs pos="50000">
                  <a:srgbClr val="6294cd"/>
                </a:gs>
                <a:gs pos="100000">
                  <a:srgbClr val="344f6e"/>
                </a:gs>
              </a:gsLst>
              <a:lin ang="13500000"/>
            </a:gradFill>
            <a:ln w="12600">
              <a:solidFill>
                <a:srgbClr val="6294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9880" y="3357720"/>
              <a:ext cx="197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 Semibold"/>
                </a:rPr>
                <a:t>Server Proces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7560" y="3674880"/>
              <a:ext cx="2197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egoe Semibold"/>
                </a:rPr>
                <a:t>Create docu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egoe Semibold"/>
                </a:rPr>
                <a:t>Pre-populate templ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egoe Semibold"/>
                </a:rPr>
                <a:t>Search / extr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7520" y="3682800"/>
              <a:ext cx="2260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438960" y="3357720"/>
            <a:ext cx="2641680" cy="1050840"/>
            <a:chOff x="6438960" y="3357720"/>
            <a:chExt cx="2641680" cy="1050840"/>
          </a:xfrm>
        </p:grpSpPr>
        <p:sp>
          <p:nvSpPr>
            <p:cNvPr id="209" name=""/>
            <p:cNvSpPr/>
            <p:nvPr/>
          </p:nvSpPr>
          <p:spPr>
            <a:xfrm>
              <a:off x="6438960" y="3378240"/>
              <a:ext cx="2641680" cy="1016280"/>
            </a:xfrm>
            <a:prstGeom prst="roundRect">
              <a:avLst>
                <a:gd name="adj" fmla="val 16667"/>
              </a:avLst>
            </a:prstGeom>
            <a:solidFill>
              <a:srgbClr val="39ad39"/>
            </a:solidFill>
            <a:ln w="12600">
              <a:solidFill>
                <a:srgbClr val="39ad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43360" y="3357720"/>
              <a:ext cx="24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 Semibold"/>
                </a:rPr>
                <a:t>Post-Office Proces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4560" y="3675240"/>
              <a:ext cx="2526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egoe Semibold"/>
                </a:rPr>
                <a:t>Business workflo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egoe Semibold"/>
                </a:rPr>
                <a:t>Collaborative 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egoe Semibold"/>
                </a:rPr>
                <a:t>Publish/distribute/arch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0520" y="3683160"/>
              <a:ext cx="2260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35000" y="1468440"/>
            <a:ext cx="4500000" cy="1769400"/>
            <a:chOff x="135000" y="1468440"/>
            <a:chExt cx="4500000" cy="1769400"/>
          </a:xfrm>
        </p:grpSpPr>
        <p:grpSp>
          <p:nvGrpSpPr>
            <p:cNvPr id="214" name=""/>
            <p:cNvGrpSpPr/>
            <p:nvPr/>
          </p:nvGrpSpPr>
          <p:grpSpPr>
            <a:xfrm>
              <a:off x="1552680" y="2136240"/>
              <a:ext cx="3082320" cy="495360"/>
              <a:chOff x="1552680" y="2136240"/>
              <a:chExt cx="3082320" cy="495360"/>
            </a:xfrm>
          </p:grpSpPr>
          <p:sp>
            <p:nvSpPr>
              <p:cNvPr id="215" name=""/>
              <p:cNvSpPr/>
              <p:nvPr/>
            </p:nvSpPr>
            <p:spPr>
              <a:xfrm>
                <a:off x="1552680" y="2365200"/>
                <a:ext cx="450720" cy="0"/>
              </a:xfrm>
              <a:prstGeom prst="line">
                <a:avLst/>
              </a:prstGeom>
              <a:ln w="25560">
                <a:solidFill>
                  <a:srgbClr val="ff43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24160" y="2136600"/>
                <a:ext cx="1669680" cy="0"/>
              </a:xfrm>
              <a:prstGeom prst="line">
                <a:avLst/>
              </a:prstGeom>
              <a:ln w="25560">
                <a:solidFill>
                  <a:srgbClr val="ff434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24160" y="2622240"/>
                <a:ext cx="2310840" cy="9360"/>
              </a:xfrm>
              <a:prstGeom prst="line">
                <a:avLst/>
              </a:prstGeom>
              <a:ln w="25560">
                <a:solidFill>
                  <a:srgbClr val="ff434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1985760" y="2136240"/>
                <a:ext cx="345240" cy="228600"/>
              </a:xfrm>
              <a:prstGeom prst="line">
                <a:avLst/>
              </a:prstGeom>
              <a:ln w="25560">
                <a:solidFill>
                  <a:srgbClr val="ff43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96560" y="2365200"/>
                <a:ext cx="334440" cy="257040"/>
              </a:xfrm>
              <a:prstGeom prst="line">
                <a:avLst/>
              </a:prstGeom>
              <a:ln w="25560">
                <a:solidFill>
                  <a:srgbClr val="ff43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489400" y="1782720"/>
              <a:ext cx="10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ddddd"/>
                  </a:solidFill>
                  <a:latin typeface="Segoe Semibold"/>
                </a:rPr>
                <a:t>assisti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15160" y="2303640"/>
              <a:ext cx="146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ddddd"/>
                  </a:solidFill>
                  <a:latin typeface="Segoe Semibold"/>
                </a:rPr>
                <a:t>core 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35000" y="1468440"/>
              <a:ext cx="1654560" cy="1769400"/>
              <a:chOff x="135000" y="1468440"/>
              <a:chExt cx="1654560" cy="176940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563400" y="2324160"/>
                <a:ext cx="500040" cy="495000"/>
                <a:chOff x="563400" y="2324160"/>
                <a:chExt cx="500040" cy="495000"/>
              </a:xfrm>
            </p:grpSpPr>
            <p:sp>
              <p:nvSpPr>
                <p:cNvPr id="224" name="Gear"/>
                <p:cNvSpPr/>
                <p:nvPr/>
              </p:nvSpPr>
              <p:spPr>
                <a:xfrm>
                  <a:off x="841320" y="2324160"/>
                  <a:ext cx="222120" cy="227880"/>
                </a:xfrm>
                <a:prstGeom prst="pie">
                  <a:avLst/>
                </a:prstGeom>
                <a:solidFill>
                  <a:srgbClr val="f3f3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" y="2418120"/>
                  <a:ext cx="266400" cy="270720"/>
                </a:xfrm>
                <a:prstGeom prst="pie">
                  <a:avLst/>
                </a:prstGeom>
                <a:solidFill>
                  <a:srgbClr val="fceb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6560" y="2517120"/>
                  <a:ext cx="295560" cy="302040"/>
                </a:xfrm>
                <a:prstGeom prst="pie">
                  <a:avLst/>
                </a:prstGeom>
                <a:solidFill>
                  <a:srgbClr val="f3f3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614520" y="1468440"/>
                <a:ext cx="564840" cy="549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44f6e"/>
                  </a:gs>
                  <a:gs pos="50000">
                    <a:srgbClr val="6294cd"/>
                  </a:gs>
                  <a:gs pos="100000">
                    <a:srgbClr val="344f6e"/>
                  </a:gs>
                </a:gsLst>
                <a:lin ang="13500000"/>
              </a:gradFill>
              <a:ln w="12600">
                <a:solidFill>
                  <a:srgbClr val="6294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8320" y="2011320"/>
                <a:ext cx="96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dddddd"/>
                    </a:solidFill>
                    <a:latin typeface="Segoe Semibold"/>
                  </a:rPr>
                  <a:t>Storag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5000" y="2900520"/>
                <a:ext cx="165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dddddd"/>
                    </a:solidFill>
                    <a:latin typeface="Segoe Semibold"/>
                  </a:rPr>
                  <a:t>Server proces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3860640" y="5099040"/>
            <a:ext cx="3670560" cy="1654200"/>
            <a:chOff x="3860640" y="5099040"/>
            <a:chExt cx="3670560" cy="1654200"/>
          </a:xfrm>
        </p:grpSpPr>
        <p:sp>
          <p:nvSpPr>
            <p:cNvPr id="231" name=""/>
            <p:cNvSpPr/>
            <p:nvPr/>
          </p:nvSpPr>
          <p:spPr>
            <a:xfrm>
              <a:off x="5727600" y="5614920"/>
              <a:ext cx="1803600" cy="1138320"/>
            </a:xfrm>
            <a:prstGeom prst="rect">
              <a:avLst/>
            </a:prstGeom>
            <a:gradFill rotWithShape="0">
              <a:gsLst>
                <a:gs pos="0">
                  <a:srgbClr val="776f47"/>
                </a:gs>
                <a:gs pos="50000">
                  <a:srgbClr val="fceb98"/>
                </a:gs>
                <a:gs pos="100000">
                  <a:srgbClr val="776f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Office U.I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Custom controls / U.I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Smart ta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Smart docume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60640" y="5614920"/>
              <a:ext cx="1866960" cy="1138320"/>
            </a:xfrm>
            <a:prstGeom prst="rect">
              <a:avLst/>
            </a:prstGeom>
            <a:gradFill rotWithShape="0">
              <a:gsLst>
                <a:gs pos="0">
                  <a:srgbClr val="eb7c35"/>
                </a:gs>
                <a:gs pos="100000">
                  <a:srgbClr val="ff43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XML schem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Data bind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Object model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Research task p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Doc. actions task p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27600" y="5099040"/>
              <a:ext cx="1803600" cy="515880"/>
            </a:xfrm>
            <a:prstGeom prst="rect">
              <a:avLst/>
            </a:prstGeom>
            <a:gradFill rotWithShape="0">
              <a:gsLst>
                <a:gs pos="0">
                  <a:srgbClr val="776f47"/>
                </a:gs>
                <a:gs pos="50000">
                  <a:srgbClr val="fceb98"/>
                </a:gs>
                <a:gs pos="100000">
                  <a:srgbClr val="776f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User Interac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0640" y="5099040"/>
              <a:ext cx="1866960" cy="515880"/>
            </a:xfrm>
            <a:prstGeom prst="rect">
              <a:avLst/>
            </a:prstGeom>
            <a:gradFill rotWithShape="0">
              <a:gsLst>
                <a:gs pos="0">
                  <a:srgbClr val="eb7c35"/>
                </a:gs>
                <a:gs pos="100000">
                  <a:srgbClr val="ff43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Programmabil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60640" y="5099040"/>
              <a:ext cx="0" cy="1654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27600" y="5099040"/>
              <a:ext cx="0" cy="1654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31200" y="5099040"/>
              <a:ext cx="0" cy="1654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60640" y="5616720"/>
              <a:ext cx="36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31200" y="5099040"/>
            <a:ext cx="1384200" cy="1654200"/>
            <a:chOff x="7531200" y="5099040"/>
            <a:chExt cx="1384200" cy="1654200"/>
          </a:xfrm>
        </p:grpSpPr>
        <p:sp>
          <p:nvSpPr>
            <p:cNvPr id="240" name=""/>
            <p:cNvSpPr/>
            <p:nvPr/>
          </p:nvSpPr>
          <p:spPr>
            <a:xfrm>
              <a:off x="7531200" y="5614920"/>
              <a:ext cx="1384200" cy="1138320"/>
            </a:xfrm>
            <a:prstGeom prst="rect">
              <a:avLst/>
            </a:prstGeom>
            <a:gradFill rotWithShape="0">
              <a:gsLst>
                <a:gs pos="0">
                  <a:srgbClr val="a35624"/>
                </a:gs>
                <a:gs pos="50000">
                  <a:srgbClr val="eb7c35"/>
                </a:gs>
                <a:gs pos="100000">
                  <a:srgbClr val="a356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X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Docume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1200" y="5099040"/>
              <a:ext cx="1384200" cy="515880"/>
            </a:xfrm>
            <a:prstGeom prst="rect">
              <a:avLst/>
            </a:prstGeom>
            <a:gradFill rotWithShape="0">
              <a:gsLst>
                <a:gs pos="0">
                  <a:srgbClr val="a35624"/>
                </a:gs>
                <a:gs pos="50000">
                  <a:srgbClr val="eb7c35"/>
                </a:gs>
                <a:gs pos="100000">
                  <a:srgbClr val="a356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Post-Office Proces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31200" y="56149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035080" y="5099040"/>
            <a:ext cx="1825560" cy="1654200"/>
            <a:chOff x="2035080" y="5099040"/>
            <a:chExt cx="1825560" cy="1654200"/>
          </a:xfrm>
        </p:grpSpPr>
        <p:sp>
          <p:nvSpPr>
            <p:cNvPr id="244" name=""/>
            <p:cNvSpPr/>
            <p:nvPr/>
          </p:nvSpPr>
          <p:spPr>
            <a:xfrm>
              <a:off x="2044800" y="5614920"/>
              <a:ext cx="1815840" cy="1138320"/>
            </a:xfrm>
            <a:prstGeom prst="rect">
              <a:avLst/>
            </a:prstGeom>
            <a:gradFill rotWithShape="0">
              <a:gsLst>
                <a:gs pos="0">
                  <a:srgbClr val="c13232"/>
                </a:gs>
                <a:gs pos="50000">
                  <a:srgbClr val="ff4343"/>
                </a:gs>
                <a:gs pos="100000">
                  <a:srgbClr val="c132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Web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IB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Research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ADO.N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Web quer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44800" y="5099040"/>
              <a:ext cx="1815840" cy="515880"/>
            </a:xfrm>
            <a:prstGeom prst="rect">
              <a:avLst/>
            </a:prstGeom>
            <a:gradFill rotWithShape="0">
              <a:gsLst>
                <a:gs pos="0">
                  <a:srgbClr val="c13232"/>
                </a:gs>
                <a:gs pos="50000">
                  <a:srgbClr val="ff4343"/>
                </a:gs>
                <a:gs pos="100000">
                  <a:srgbClr val="c132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Information Acc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44800" y="5099040"/>
              <a:ext cx="0" cy="16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35080" y="5616720"/>
              <a:ext cx="182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16000" y="5099040"/>
            <a:ext cx="1828800" cy="1654200"/>
            <a:chOff x="216000" y="5099040"/>
            <a:chExt cx="1828800" cy="1654200"/>
          </a:xfrm>
        </p:grpSpPr>
        <p:sp>
          <p:nvSpPr>
            <p:cNvPr id="249" name=""/>
            <p:cNvSpPr/>
            <p:nvPr/>
          </p:nvSpPr>
          <p:spPr>
            <a:xfrm>
              <a:off x="216000" y="5614920"/>
              <a:ext cx="1828800" cy="1138320"/>
            </a:xfrm>
            <a:prstGeom prst="rect">
              <a:avLst/>
            </a:prstGeom>
            <a:gradFill rotWithShape="0">
              <a:gsLst>
                <a:gs pos="0">
                  <a:srgbClr val="3e5d81"/>
                </a:gs>
                <a:gs pos="50000">
                  <a:srgbClr val="6294cd"/>
                </a:gs>
                <a:gs pos="100000">
                  <a:srgbClr val="3e5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X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VSTO v2005 data isla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099040"/>
              <a:ext cx="1828800" cy="515880"/>
            </a:xfrm>
            <a:prstGeom prst="rect">
              <a:avLst/>
            </a:prstGeom>
            <a:gradFill rotWithShape="0">
              <a:gsLst>
                <a:gs pos="0">
                  <a:srgbClr val="3e5d81"/>
                </a:gs>
                <a:gs pos="50000">
                  <a:srgbClr val="6294cd"/>
                </a:gs>
                <a:gs pos="100000">
                  <a:srgbClr val="3e5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anklin Gothic Book"/>
                  <a:ea typeface="Arial"/>
                </a:rPr>
                <a:t>Server-side Proces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120" y="5618160"/>
              <a:ext cx="182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457200" y="2327400"/>
            <a:ext cx="82296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Visual Studio Tools for Office</a:t>
            </a:r>
            <a:br>
              <a:rPr sz="4400"/>
            </a:br>
            <a:r>
              <a:rPr b="0" lang="en-US" sz="6600" spc="-1" strike="noStrike">
                <a:solidFill>
                  <a:srgbClr val="ffdd4f"/>
                </a:solidFill>
                <a:latin typeface="Franklin Gothic Medium"/>
              </a:rPr>
              <a:t>2.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942160" y="0"/>
            <a:ext cx="3201840" cy="11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2254320" y="1149480"/>
            <a:ext cx="6626160" cy="5373720"/>
            <a:chOff x="2254320" y="1149480"/>
            <a:chExt cx="6626160" cy="5373720"/>
          </a:xfrm>
        </p:grpSpPr>
        <p:sp>
          <p:nvSpPr>
            <p:cNvPr id="517" name=""/>
            <p:cNvSpPr/>
            <p:nvPr/>
          </p:nvSpPr>
          <p:spPr>
            <a:xfrm>
              <a:off x="8306280" y="180180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86000" y="180180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57200" y="1801800"/>
              <a:ext cx="542880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Managed Document Actions task pa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06280" y="147564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86000" y="147564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7200" y="1475640"/>
              <a:ext cx="542880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All the rich, UI features of Word and Exc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57200" y="1475640"/>
              <a:ext cx="6622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57200" y="1801800"/>
              <a:ext cx="662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57200" y="2127960"/>
              <a:ext cx="6622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57200" y="1475640"/>
              <a:ext cx="0" cy="6523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86000" y="1475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306280" y="1475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80480" y="1475640"/>
              <a:ext cx="0" cy="6523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04480" y="114948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84560" y="1149480"/>
              <a:ext cx="61956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55400" y="1149480"/>
              <a:ext cx="542916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Responsive UI - runs on local mach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55400" y="1149480"/>
              <a:ext cx="6622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55400" y="1475640"/>
              <a:ext cx="6622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55400" y="1149480"/>
              <a:ext cx="0" cy="326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684560" y="1149480"/>
              <a:ext cx="0" cy="32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304480" y="1149480"/>
              <a:ext cx="0" cy="32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878680" y="1149480"/>
              <a:ext cx="0" cy="326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06280" y="293220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86000" y="293220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54320" y="2932200"/>
              <a:ext cx="543168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Data caching capabilities (data island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306280" y="260604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86000" y="260604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54320" y="2606040"/>
              <a:ext cx="543168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Document solution can be designed to work off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06280" y="2127960"/>
              <a:ext cx="573840" cy="478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86000" y="2127960"/>
              <a:ext cx="619920" cy="478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54320" y="2127960"/>
              <a:ext cx="5431680" cy="478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Support for calling Web Services through the .NET Framework and Visual Stud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54320" y="2127960"/>
              <a:ext cx="6626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54320" y="3258360"/>
              <a:ext cx="6626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54320" y="2127960"/>
              <a:ext cx="0" cy="804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86000" y="2127960"/>
              <a:ext cx="0" cy="804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06280" y="2127960"/>
              <a:ext cx="0" cy="804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880480" y="2127960"/>
              <a:ext cx="0" cy="804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54320" y="2606040"/>
              <a:ext cx="662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54320" y="2932200"/>
              <a:ext cx="662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54320" y="2932200"/>
              <a:ext cx="0" cy="326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86000" y="2932200"/>
              <a:ext cx="0" cy="32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06280" y="2932200"/>
              <a:ext cx="0" cy="32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880480" y="2932200"/>
              <a:ext cx="0" cy="326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03040" y="489348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83120" y="489348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54320" y="4893480"/>
              <a:ext cx="542880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Managed Document Actions task pa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03040" y="456732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83120" y="456732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54320" y="4567320"/>
              <a:ext cx="542880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Managed contro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03040" y="424080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83120" y="424080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54320" y="4240800"/>
              <a:ext cx="542880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View contro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03040" y="391464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83120" y="391464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54320" y="3914640"/>
              <a:ext cx="542880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Integrated design-time experi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03040" y="521964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83120" y="521964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54320" y="5219640"/>
              <a:ext cx="542880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Schema-based programming 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03040" y="358848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83120" y="358848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54320" y="3588480"/>
              <a:ext cx="542880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Complete access to the .NET Frame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303040" y="3262320"/>
              <a:ext cx="57384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83120" y="3262320"/>
              <a:ext cx="6199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54320" y="3262320"/>
              <a:ext cx="542880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All the productivity of Visual Stud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54320" y="3262320"/>
              <a:ext cx="662292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54320" y="5545800"/>
              <a:ext cx="6622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54320" y="3262320"/>
              <a:ext cx="0" cy="19569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83120" y="3262320"/>
              <a:ext cx="0" cy="19569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03040" y="3262320"/>
              <a:ext cx="0" cy="19569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877240" y="3262320"/>
              <a:ext cx="0" cy="19569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54320" y="3588480"/>
              <a:ext cx="662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54320" y="3914640"/>
              <a:ext cx="662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4320" y="4240800"/>
              <a:ext cx="662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54320" y="4567320"/>
              <a:ext cx="662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54320" y="4893480"/>
              <a:ext cx="662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54320" y="5219640"/>
              <a:ext cx="662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54320" y="5219640"/>
              <a:ext cx="0" cy="326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83120" y="5219640"/>
              <a:ext cx="0" cy="32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03040" y="5219640"/>
              <a:ext cx="0" cy="32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877240" y="5219640"/>
              <a:ext cx="0" cy="326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07720" y="6197040"/>
              <a:ext cx="5677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75200" y="6197040"/>
              <a:ext cx="63216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54320" y="6197040"/>
              <a:ext cx="542088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Online ClickOnce deployment 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07720" y="5870880"/>
              <a:ext cx="5677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75200" y="5870880"/>
              <a:ext cx="63216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54320" y="5870880"/>
              <a:ext cx="542088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No-touch deployment model used for assembly resolu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07720" y="5544360"/>
              <a:ext cx="56772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75200" y="5544360"/>
              <a:ext cx="63216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54320" y="5544360"/>
              <a:ext cx="5420880" cy="3261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ranklin Gothic Book"/>
                </a:rPr>
                <a:t>Document is linked to assembly; deployed to a share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54320" y="5544360"/>
              <a:ext cx="6621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54320" y="6523200"/>
              <a:ext cx="6621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254320" y="5544360"/>
              <a:ext cx="0" cy="9784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75200" y="5544360"/>
              <a:ext cx="0" cy="97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07720" y="5544360"/>
              <a:ext cx="0" cy="97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54320" y="5870880"/>
              <a:ext cx="6621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54320" y="6197040"/>
              <a:ext cx="6621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015920" y="1998720"/>
            <a:ext cx="757080" cy="623880"/>
            <a:chOff x="1015920" y="1998720"/>
            <a:chExt cx="757080" cy="623880"/>
          </a:xfrm>
        </p:grpSpPr>
        <p:pic>
          <p:nvPicPr>
            <p:cNvPr id="614" name="" descr=""/>
            <p:cNvPicPr/>
            <p:nvPr/>
          </p:nvPicPr>
          <p:blipFill>
            <a:blip r:embed="rId2"/>
            <a:stretch/>
          </p:blipFill>
          <p:spPr>
            <a:xfrm>
              <a:off x="1257120" y="1998720"/>
              <a:ext cx="28908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015920" y="2254320"/>
              <a:ext cx="7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ich Us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Experienc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004040" y="1144440"/>
            <a:ext cx="782640" cy="626400"/>
            <a:chOff x="1004040" y="1144440"/>
            <a:chExt cx="782640" cy="626400"/>
          </a:xfrm>
        </p:grpSpPr>
        <p:pic>
          <p:nvPicPr>
            <p:cNvPr id="617" name="" descr=""/>
            <p:cNvPicPr/>
            <p:nvPr/>
          </p:nvPicPr>
          <p:blipFill>
            <a:blip r:embed="rId3"/>
            <a:srcRect l="0" t="0" r="0" b="46155"/>
            <a:stretch/>
          </p:blipFill>
          <p:spPr>
            <a:xfrm>
              <a:off x="1202760" y="1144440"/>
              <a:ext cx="36720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1004040" y="1539720"/>
              <a:ext cx="78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esponsiv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839880" y="2849400"/>
            <a:ext cx="1111320" cy="777240"/>
            <a:chOff x="839880" y="2849400"/>
            <a:chExt cx="1111320" cy="777240"/>
          </a:xfrm>
        </p:grpSpPr>
        <p:pic>
          <p:nvPicPr>
            <p:cNvPr id="620" name="" descr=""/>
            <p:cNvPicPr/>
            <p:nvPr/>
          </p:nvPicPr>
          <p:blipFill>
            <a:blip r:embed="rId4"/>
            <a:stretch/>
          </p:blipFill>
          <p:spPr>
            <a:xfrm>
              <a:off x="1237320" y="2849400"/>
              <a:ext cx="270000" cy="2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39880" y="3121200"/>
              <a:ext cx="1111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eb Services &amp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Offline/Online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upport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007280" y="3854520"/>
            <a:ext cx="776520" cy="766800"/>
            <a:chOff x="1007280" y="3854520"/>
            <a:chExt cx="776520" cy="766800"/>
          </a:xfrm>
        </p:grpSpPr>
        <p:pic>
          <p:nvPicPr>
            <p:cNvPr id="623" name="" descr=""/>
            <p:cNvPicPr/>
            <p:nvPr/>
          </p:nvPicPr>
          <p:blipFill>
            <a:blip r:embed="rId5"/>
            <a:stretch/>
          </p:blipFill>
          <p:spPr>
            <a:xfrm>
              <a:off x="1211400" y="3854520"/>
              <a:ext cx="3726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007280" y="425304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Develop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Productivit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8883720" y="5346720"/>
            <a:ext cx="0" cy="1185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959760" y="5837400"/>
            <a:ext cx="871200" cy="750960"/>
            <a:chOff x="959760" y="5837400"/>
            <a:chExt cx="871200" cy="750960"/>
          </a:xfrm>
        </p:grpSpPr>
        <p:pic>
          <p:nvPicPr>
            <p:cNvPr id="627" name="" descr=""/>
            <p:cNvPicPr/>
            <p:nvPr/>
          </p:nvPicPr>
          <p:blipFill>
            <a:blip r:embed="rId6"/>
            <a:stretch/>
          </p:blipFill>
          <p:spPr>
            <a:xfrm>
              <a:off x="1261080" y="5837400"/>
              <a:ext cx="278640" cy="30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959760" y="622008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Easy Chang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998640" y="4848120"/>
            <a:ext cx="793440" cy="760680"/>
            <a:chOff x="998640" y="4848120"/>
            <a:chExt cx="793440" cy="760680"/>
          </a:xfrm>
        </p:grpSpPr>
        <p:pic>
          <p:nvPicPr>
            <p:cNvPr id="630" name="" descr=""/>
            <p:cNvPicPr/>
            <p:nvPr/>
          </p:nvPicPr>
          <p:blipFill>
            <a:blip r:embed="rId7"/>
            <a:stretch/>
          </p:blipFill>
          <p:spPr>
            <a:xfrm>
              <a:off x="1271880" y="4848120"/>
              <a:ext cx="320760" cy="3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998640" y="524052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Ease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Deploym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7645320" y="80820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d4f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240760" y="79200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d4f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4760" y="349200"/>
            <a:ext cx="8393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f"/>
                </a:solidFill>
                <a:latin typeface="Franklin Gothic Medium"/>
              </a:rPr>
              <a:t>Visual Studio 2005 Tools for Off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All the books you’ll ever need: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91880" y="1563480"/>
            <a:ext cx="49194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Microsoft .NET Developm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Microsoft Offic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By Andrew Whitechap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3356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5149800" y="1047600"/>
            <a:ext cx="389592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dd4f"/>
                </a:solidFill>
                <a:latin typeface="Franklin Gothic Medium"/>
              </a:rPr>
              <a:t>MSDN Connection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Get personalised info and a customised RSS feed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The programming language(s) you’re interested i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The technology area(s) you’re interested i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The information you wan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View news, technical resources, events, webcasts and community information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Sign up for MSDN Connection at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9"/>
              </a:rPr>
              <a:t>http://www.microsoft.com/</a:t>
            </a: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10"/>
              </a:rPr>
              <a:t>uk/msd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1"/>
          <a:stretch/>
        </p:blipFill>
        <p:spPr>
          <a:xfrm>
            <a:off x="4751280" y="5905440"/>
            <a:ext cx="43927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Resource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78000" y="1414440"/>
            <a:ext cx="8766000" cy="54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4c35f"/>
                </a:solidFill>
                <a:uFillTx/>
                <a:latin typeface="Franklin Gothic Book"/>
                <a:hlinkClick r:id="rId3"/>
              </a:rPr>
              <a:t>http://msdn.microsoft.com/office/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The Definitive “Hello World” Manag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mart Documents Tutorial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Microsoft Office 2003 Smar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ocuments SDK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Research Services SDK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How to: Install Office Primary Interop Assemblies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Troubleshooting Office Error Messages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4c35f"/>
                </a:solidFill>
                <a:uFillTx/>
                <a:latin typeface="Franklin Gothic Book"/>
                <a:hlinkClick r:id="rId10"/>
              </a:rPr>
              <a:t>http://</a:t>
            </a:r>
            <a:r>
              <a:rPr b="0" lang="en-US" sz="3200" spc="-1" strike="noStrike" u="sng">
                <a:solidFill>
                  <a:srgbClr val="74c35f"/>
                </a:solidFill>
                <a:uFillTx/>
                <a:latin typeface="Franklin Gothic Book"/>
                <a:hlinkClick r:id="rId11"/>
              </a:rPr>
              <a:t>vertigosoftware.com</a:t>
            </a:r>
            <a:r>
              <a:rPr b="0" lang="en-US" sz="3200" spc="-1" strike="noStrike" u="sng">
                <a:solidFill>
                  <a:srgbClr val="74c35f"/>
                </a:solidFill>
                <a:uFillTx/>
                <a:latin typeface="Franklin Gothic Book"/>
                <a:hlinkClick r:id="rId12"/>
              </a:rPr>
              <a:t>/wrapper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Managed Smart Documents Wrapp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dd4f"/>
                </a:solidFill>
                <a:latin typeface="Franklin Gothic Medium"/>
              </a:rPr>
              <a:t>Additional Information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Post Events Sit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All information on past events, slide decks etc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46320" indent="-397440">
              <a:lnSpc>
                <a:spcPct val="8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74c35f"/>
                </a:solidFill>
                <a:uFillTx/>
                <a:latin typeface="Franklin Gothic Book"/>
                <a:hlinkClick r:id="rId5"/>
              </a:rPr>
              <a:t>http://www.microsoft.com/</a:t>
            </a:r>
            <a:r>
              <a:rPr b="0" lang="en-GB" sz="1800" spc="-1" strike="noStrike" u="sng">
                <a:solidFill>
                  <a:srgbClr val="74c35f"/>
                </a:solidFill>
                <a:uFillTx/>
                <a:latin typeface="Franklin Gothic Book"/>
                <a:hlinkClick r:id="rId6"/>
              </a:rPr>
              <a:t>uk/msdn/postevents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The UK MSDN Site &amp; Flash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Local news, events, webcast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46320" indent="-397440">
              <a:lnSpc>
                <a:spcPct val="8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74c35f"/>
                </a:solidFill>
                <a:uFillTx/>
                <a:latin typeface="Franklin Gothic Book"/>
                <a:hlinkClick r:id="rId10"/>
              </a:rPr>
              <a:t>http://www.microsoft.com/uk/msdn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Register to receive the bi-weekly MSDN Flash by emai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46320" indent="-397440">
              <a:lnSpc>
                <a:spcPct val="80000"/>
              </a:lnSpc>
              <a:spcBef>
                <a:spcPts val="675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74c35f"/>
                </a:solidFill>
                <a:uFillTx/>
                <a:latin typeface="Franklin Gothic Book"/>
                <a:hlinkClick r:id="rId13"/>
              </a:rPr>
              <a:t>http://www.microsoft.com/</a:t>
            </a:r>
            <a:r>
              <a:rPr b="0" lang="en-GB" sz="1800" spc="-1" strike="noStrike" u="sng">
                <a:solidFill>
                  <a:srgbClr val="74c35f"/>
                </a:solidFill>
                <a:uFillTx/>
                <a:latin typeface="Franklin Gothic Book"/>
                <a:hlinkClick r:id="rId14"/>
              </a:rPr>
              <a:t>uk/msdn/flash.aspx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Try Visual Studio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17"/>
              </a:rPr>
              <a:t>http://www.microsoft.com/</a:t>
            </a: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18"/>
              </a:rPr>
              <a:t>vstudio/tryi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Take a look at the Express product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21"/>
              </a:rPr>
              <a:t>http://</a:t>
            </a: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22"/>
              </a:rPr>
              <a:t>msdn.microsoft.com</a:t>
            </a: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23"/>
              </a:rPr>
              <a:t>/expres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GotDotNet and ASP.NET – lots of excellent resourc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26"/>
              </a:rPr>
              <a:t>http://www.gotdotnet.com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28"/>
              </a:rPr>
              <a:t>http://</a:t>
            </a:r>
            <a:r>
              <a:rPr b="0" lang="en-GB" sz="2000" spc="-1" strike="noStrike" u="sng">
                <a:solidFill>
                  <a:srgbClr val="74c35f"/>
                </a:solidFill>
                <a:uFillTx/>
                <a:latin typeface="Franklin Gothic Book"/>
                <a:hlinkClick r:id="rId29"/>
              </a:rPr>
              <a:t>www.asp.ne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2"/>
          <a:srcRect l="0" t="35449" r="0" b="36512"/>
          <a:stretch/>
        </p:blipFill>
        <p:spPr>
          <a:xfrm>
            <a:off x="1762200" y="2836800"/>
            <a:ext cx="5619600" cy="11826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0" y="6415200"/>
            <a:ext cx="1681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9000" y="6164280"/>
            <a:ext cx="86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  <a:ea typeface="Arial"/>
              </a:rPr>
              <a:t>© 2003 Microsoft Limited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Arial"/>
              </a:rPr>
              <a:t>This presentation is for informational purposes only. Microsoft makes no warranties, express or implied, in this summary</a:t>
            </a:r>
            <a:r>
              <a:rPr b="0" lang="en-US" sz="1200" spc="-1" strike="noStrike">
                <a:solidFill>
                  <a:srgbClr val="ffffff"/>
                </a:solidFill>
                <a:latin typeface="Franklin Gothic Book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Agenda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Book"/>
              </a:rPr>
              <a:t>A Plethora of Techniqu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Book"/>
              </a:rPr>
              <a:t>The Research Pan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Book"/>
              </a:rPr>
              <a:t>Smart Tag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Book"/>
              </a:rPr>
              <a:t>Smart Document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Book"/>
              </a:rPr>
              <a:t>Visual Studio Tools for Offi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Book"/>
              </a:rPr>
              <a:t>The Information Bridge Framework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Book"/>
              </a:rPr>
              <a:t>Visual Studio 2005 &amp; Offi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6920" y="228600"/>
            <a:ext cx="87501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Office Products are COM Server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8000" y="1265040"/>
            <a:ext cx="8388000" cy="57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atever happens, you’re bridging between your managed and Office’s unmanaged cod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interop procedures and considerations apply!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Primary Interop Assembli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Platform Invok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58920" indent="-401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Using methods from unmanaged DLL’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Reflection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58920" indent="-401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Discovering the types to use at run-time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Connecting to running instanc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58920" indent="-401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Use P/Invoke to find running instance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Book"/>
              </a:rPr>
              <a:t>Using Accessible object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58920" indent="-401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IAccessible interface increases accessibility to users AND code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2733840"/>
            <a:ext cx="82296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dd4f"/>
                </a:solidFill>
                <a:latin typeface="Franklin Gothic Medium"/>
              </a:rPr>
              <a:t>Excel Primary Interop Assemb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942160" y="0"/>
            <a:ext cx="3201840" cy="11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Integrating Managed Code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78000" y="1525320"/>
            <a:ext cx="8388000" cy="50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15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alling managed code from VBA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15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Programming the VB Editor (!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15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Using Windows Forms inside Office app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15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Using MIME Typ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15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OM Drag and Drop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2733840"/>
            <a:ext cx="82296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Calling Managed Code from VBA</a:t>
            </a:r>
            <a:br>
              <a:rPr sz="4400"/>
            </a:b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COM Callable Wrapper (CCW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942160" y="0"/>
            <a:ext cx="3201840" cy="11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248436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Drag &amp; Dro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942160" y="0"/>
            <a:ext cx="3201840" cy="11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3:59:24Z</dcterms:created>
  <dc:creator>Mike Pelton</dc:creator>
  <dc:description>Template design: aliciad
Formatter:
Event Date:
Event Location:
Speech Length:
Audience:
Key Topics:</dc:description>
  <dc:language>en-US</dc:language>
  <cp:lastModifiedBy>Mike Pelton</cp:lastModifiedBy>
  <dcterms:modified xsi:type="dcterms:W3CDTF">2005-03-03T10:22:26Z</dcterms:modified>
  <cp:revision>19</cp:revision>
  <dc:subject>MGB 2003</dc:subject>
  <dc:title>Session Title</dc:title>
</cp:coreProperties>
</file>