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057400" y="0"/>
            <a:ext cx="7086600" cy="6094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14400" y="0"/>
            <a:ext cx="1905120" cy="1447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0"/>
          <a:ext cx="198108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9810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Consilium Technologies, Consilium House, Technology Park, Belfast Road, Antrim BT41 1Q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02a70"/>
                </a:solidFill>
                <a:latin typeface="Times New Roman"/>
              </a:rPr>
              <a:t>Telephone: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 [028] 9448 0000     </a:t>
            </a:r>
            <a:r>
              <a:rPr b="1" lang="en-GB" sz="1200" spc="-1" strike="noStrike">
                <a:solidFill>
                  <a:srgbClr val="402a70"/>
                </a:solidFill>
                <a:latin typeface="Times New Roman"/>
              </a:rPr>
              <a:t>Facsimile :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 [028] 9448 0001   </a:t>
            </a:r>
            <a:r>
              <a:rPr b="1" lang="en-GB" sz="1200" spc="-1" strike="noStrike">
                <a:solidFill>
                  <a:srgbClr val="402a70"/>
                </a:solidFill>
                <a:latin typeface="Times New Roman"/>
              </a:rPr>
              <a:t>Email :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 sales@ consilium.co.uk     </a:t>
            </a:r>
            <a:r>
              <a:rPr b="1" lang="en-GB" sz="1200" spc="-1" strike="noStrike">
                <a:solidFill>
                  <a:srgbClr val="402a70"/>
                </a:solidFill>
                <a:latin typeface="Times New Roman"/>
              </a:rPr>
              <a:t>Internet :</a:t>
            </a:r>
            <a:r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 www.consilium.co.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Delphi &amp; MS Offic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Michael Gree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Consilium Technologi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michael.green@engn.co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irst Demo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 Deborah Pat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eb site lat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otcha!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97 and Word2000 not compatib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ften need Office97 unit for enumeratio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everything’s in the type libra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vert to variants and late bind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B access is by AD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stallation differences between machin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 objects are reference counted – do not free the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otcha! - continued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itialise threads </a:t>
            </a:r>
            <a:br>
              <a:rPr sz="3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cedure TMyThread.Execut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egi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 CoInitializeEx (NIL, COINIT_APARTMENTTHREADED)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 ... do your stuff here ..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 CoUninitialize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rvers start invisible by defaul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K for releas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ke visible for debu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blems with dual updat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ond Demo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ASKpak 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silium technologies produc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imple access to dat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ified architecture for external communic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lieve load on cli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lease client during large run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ASKpak Architecture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3124080"/>
            <a:ext cx="365760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3124080"/>
            <a:ext cx="2971800" cy="221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3657600"/>
            <a:ext cx="167652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4191120"/>
            <a:ext cx="11430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41148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4320" y="411480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4343400"/>
            <a:ext cx="1523880" cy="380880"/>
          </a:xfrm>
          <a:custGeom>
            <a:avLst/>
            <a:gdLst/>
            <a:ahLst/>
            <a:rect l="l" t="t" r="r" b="b"/>
            <a:pathLst>
              <a:path w="1344" h="240">
                <a:moveTo>
                  <a:pt x="0" y="0"/>
                </a:moveTo>
                <a:lnTo>
                  <a:pt x="960" y="0"/>
                </a:lnTo>
                <a:lnTo>
                  <a:pt x="576" y="240"/>
                </a:lnTo>
                <a:lnTo>
                  <a:pt x="1344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00800" y="4495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3962520"/>
            <a:ext cx="1218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2209320" y="4419360"/>
            <a:ext cx="304920" cy="152280"/>
          </a:xfrm>
          <a:custGeom>
            <a:avLst/>
            <a:gdLst/>
            <a:ahLst/>
            <a:rect l="l" t="t" r="r" b="b"/>
            <a:pathLst>
              <a:path w="1344" h="240">
                <a:moveTo>
                  <a:pt x="0" y="0"/>
                </a:moveTo>
                <a:lnTo>
                  <a:pt x="960" y="0"/>
                </a:lnTo>
                <a:lnTo>
                  <a:pt x="576" y="240"/>
                </a:lnTo>
                <a:lnTo>
                  <a:pt x="1344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ful Site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ww.djpate.freeserve.co.uk/Automation.htm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ttp://www.djpate.freeserve.co.uk/D5Comps.htm#Downloa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techvanguards.com/com/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newsgroups.borland.c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ollow to borland.public.delphi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…delphi.oleautomation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swissdelphicenter.ch/torry/oberflaeche.php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gekko-software.nl/Delphi/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necting to a COM Serv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te bind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un-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arly bind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ile-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Late Binding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ach call to server is checked and processed at run-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arly Binding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ess Flexibl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quires type libra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ast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ls method directl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reliabl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alls verified at compile-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ows code comple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r>
              <a:rPr b="0" i="1" lang="en-GB" sz="4400" spc="-1" strike="noStrike">
                <a:solidFill>
                  <a:srgbClr val="000000"/>
                </a:solidFill>
                <a:latin typeface="Times New Roman"/>
              </a:rPr>
              <a:t>vs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DIY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the advantages of Delphi componen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I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or units without a form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g COM components using other COM server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ervers tab in ID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MSWord: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Several to represent different aspects of the serv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Early bind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Must ‘Connect’ / ‘Disconnect’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Extra lay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Thi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Potentially bugg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895480" y="2552760"/>
            <a:ext cx="1386000" cy="3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Y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te bind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a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MSWord: Variant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MSWord := CreateOLEObject('Word.Application')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'Word.Application' taken from the registry and differs from app to ap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arly binding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va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  FMSWord: WordApplication;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…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Courier New"/>
              </a:rPr>
              <a:t>FMSWord := CreateComObject(CLASS_WordApplication) as WordApplication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 need to ‘Connect’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iscovering the Object Model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arge, expensive book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lagiarism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lp site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BA object brows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cro transl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Translating Macros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Word macro</a:t>
            </a:r>
            <a:br>
              <a:rPr sz="2800"/>
            </a:br>
            <a:br>
              <a:rPr sz="1200"/>
            </a:br>
            <a:r>
              <a:rPr b="0" lang="en-GB" sz="1200" spc="-1" strike="noStrike">
                <a:solidFill>
                  <a:srgbClr val="000066"/>
                </a:solidFill>
                <a:latin typeface="Courier New"/>
              </a:rPr>
              <a:t>Sub Macro7()</a:t>
            </a:r>
            <a:br>
              <a:rPr sz="1200"/>
            </a:br>
            <a:r>
              <a:rPr b="0" lang="en-GB" sz="1200" spc="-1" strike="noStrike">
                <a:solidFill>
                  <a:srgbClr val="000066"/>
                </a:solidFill>
                <a:latin typeface="Courier New"/>
              </a:rPr>
              <a:t>…</a:t>
            </a:r>
            <a:br>
              <a:rPr sz="1200"/>
            </a:br>
            <a:r>
              <a:rPr b="0" lang="en-GB" sz="1200" spc="-1" strike="noStrike">
                <a:solidFill>
                  <a:srgbClr val="000066"/>
                </a:solidFill>
                <a:latin typeface="Courier New"/>
              </a:rPr>
              <a:t>    Selection.GoTo What:=wdGoToBookmark, Name:="BmkOne"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Delphi / variant</a:t>
            </a:r>
            <a:br>
              <a:rPr sz="2800"/>
            </a:br>
            <a:br>
              <a:rPr sz="1200"/>
            </a:br>
            <a:r>
              <a:rPr b="0" lang="en-GB" sz="1200" spc="-1" strike="noStrike">
                <a:solidFill>
                  <a:srgbClr val="000066"/>
                </a:solidFill>
                <a:latin typeface="Courier New"/>
              </a:rPr>
              <a:t>var</a:t>
            </a:r>
            <a:br>
              <a:rPr sz="1200"/>
            </a:br>
            <a:r>
              <a:rPr b="0" lang="en-GB" sz="1200" spc="-1" strike="noStrike">
                <a:solidFill>
                  <a:srgbClr val="000066"/>
                </a:solidFill>
                <a:latin typeface="Courier New"/>
              </a:rPr>
              <a:t>  BookMark: string;</a:t>
            </a:r>
            <a:br>
              <a:rPr sz="1200"/>
            </a:br>
            <a:r>
              <a:rPr b="0" lang="en-GB" sz="1200" spc="-1" strike="noStrike">
                <a:solidFill>
                  <a:srgbClr val="000066"/>
                </a:solidFill>
                <a:latin typeface="Courier New"/>
              </a:rPr>
              <a:t>…</a:t>
            </a:r>
            <a:br>
              <a:rPr sz="1200"/>
            </a:br>
            <a:r>
              <a:rPr b="0" lang="en-GB" sz="1200" spc="-1" strike="noStrike">
                <a:solidFill>
                  <a:srgbClr val="000066"/>
                </a:solidFill>
                <a:latin typeface="Courier New"/>
              </a:rPr>
              <a:t>  MSWord.Selection.GoTo(What:=wdGoToBookmark, Name:=BookMark)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Delphi / interfaces</a:t>
            </a:r>
            <a:br>
              <a:rPr sz="2800"/>
            </a:br>
            <a:br>
              <a:rPr sz="1200"/>
            </a:br>
            <a:r>
              <a:rPr b="0" lang="en-GB" sz="1200" spc="-1" strike="noStrike">
                <a:solidFill>
                  <a:srgbClr val="000066"/>
                </a:solidFill>
                <a:latin typeface="Courier New"/>
              </a:rPr>
              <a:t>var</a:t>
            </a:r>
            <a:br>
              <a:rPr sz="1200"/>
            </a:br>
            <a:r>
              <a:rPr b="0" lang="en-GB" sz="1200" spc="-1" strike="noStrike">
                <a:solidFill>
                  <a:srgbClr val="000066"/>
                </a:solidFill>
                <a:latin typeface="Courier New"/>
              </a:rPr>
              <a:t>  BookmarkName: OleVariant;</a:t>
            </a:r>
            <a:br>
              <a:rPr sz="1200"/>
            </a:br>
            <a:r>
              <a:rPr b="0" lang="en-GB" sz="1200" spc="-1" strike="noStrike">
                <a:solidFill>
                  <a:srgbClr val="000066"/>
                </a:solidFill>
                <a:latin typeface="Courier New"/>
              </a:rPr>
              <a:t>…</a:t>
            </a:r>
            <a:br>
              <a:rPr sz="1200"/>
            </a:br>
            <a:r>
              <a:rPr b="0" lang="en-GB" sz="1200" spc="-1" strike="noStrike">
                <a:solidFill>
                  <a:srgbClr val="000066"/>
                </a:solidFill>
                <a:latin typeface="Courier New"/>
              </a:rPr>
              <a:t>  FMSWord.ActiveDocument.Bookmarks.Item(BookmarkName).Select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chael Green</cp:lastModifiedBy>
  <dcterms:modified xsi:type="dcterms:W3CDTF">2002-02-25T10:18:50Z</dcterms:modified>
  <cp:revision>41</cp:revision>
  <dc:subject/>
  <dc:title>PowerPoint Presentation</dc:title>
</cp:coreProperties>
</file>