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C23D-BC3D-4595-80D2-B17C194BC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69CF-01E1-4C16-8AA7-8C9C64C4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9D8B-0125-4189-BF60-C6341525B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BD93-6E57-45DB-A48B-D8BC6C78E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9664-8668-468D-BE71-F4498D0B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F88E-C0EF-497E-8C92-AE70F047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54AB-C21F-44D8-AE57-4744D61C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50B7-B7CF-4AAB-A50A-06E818C4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8040-FCDE-4B85-A00B-78402E30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0FC0-A693-4558-8EA4-6B3EE995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D3D0-8C1F-42B4-A1C5-CD0757DA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CC98-84AF-44CD-AAB4-31CD0CB3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4DB0-8195-4E6C-A43D-B6106CEB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1232-BE61-4FBD-9DB9-A45EB41A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53A8-2D5F-4405-9FF3-05F312CF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3D85-F7B0-4F5B-982B-C048D87F6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B593-E9F8-4B60-8113-3BDE1EC05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760A-6BA7-47A1-8FE3-DCADBD5B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B4A2-C60E-4CEE-A7BA-6B956BE1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63FF-5E71-4DA2-83BC-BBE7392D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0E42-0EE4-475D-9F68-71186944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76E7-408F-494D-8086-8001A0DE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08C6-2DCA-44F8-B17E-DFE90993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8805-A5FE-4E13-AB0D-1EE5FAF1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560E-05AD-4563-9361-C944FE43D3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E8BB-0928-46F5-B663-1263E42FCD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simpson@appsco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Microsoft Agent 2.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47920" y="35812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Joanne Simps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oftware Develo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ppsCo Software Limi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Jsimpson@appsco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Agent started life as the office assistant in Office ’9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veloped over the years to become a component in it’s own righ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s now available as an ActiveX component, which is easily imported into Delph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Agent is also relatively easy to imple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Utilising the Ag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0178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The Agent can be used to enhance the user’s experience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Helps to clarify the order of performing tasks (if necessary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an identify to the user all the relevant items required for a given tas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an be used to explain complex concepts that are not always made obvious by the U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Generates user interest – gives your software the ‘wow!’ fa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Utilising The Agent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2017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The Agent can be a useful tool in the development of a user interface, but beware of the following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It can prove intrusive for more experienced users (how annoying is that paper clip sometimes!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Stay On Top option is always on by defa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re is an automatic Hide popup menu, but it is not always obvious how to Show the agent agai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Remember that the Agent is meant to be an aid and integrated into the application as seamlessly as possible – it is not intended to do the work for the us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at to Install For Ag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You will need to download the following from the Microsoft Websi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icrosoft Agent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icrosoft Command &amp; Control speech eng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rnout &amp; Hauspie TruVoice text-to-speech eng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gent Character Files (e.g. genie and Merl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 more agent characters, go to the following websi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ww.msagentring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3:58:54Z</dcterms:created>
  <dc:creator>Joanne Simpson</dc:creator>
  <dc:description/>
  <dc:language>en-US</dc:language>
  <cp:lastModifiedBy>Joanne Simpson</cp:lastModifiedBy>
  <dcterms:modified xsi:type="dcterms:W3CDTF">2000-04-12T15:00:39Z</dcterms:modified>
  <cp:revision>28</cp:revision>
  <dc:subject/>
  <dc:title>The Microsoft Agent 2.0</dc:title>
</cp:coreProperties>
</file>