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471600"/>
            <a:ext cx="860904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Getting a Handle on Bold Hand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oe O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ator L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5 Lay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4200480" cy="476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live in the Presentation Mapping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allow access to a conceptual objec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112840"/>
            <a:ext cx="416232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Choice of Hand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larati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List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Expression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SQL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Derived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du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Reference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ld Variable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Handle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17560" y="2371680"/>
          <a:ext cx="8532720" cy="14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371680"/>
                    <a:ext cx="85327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04960" y="3656160"/>
          <a:ext cx="8547120" cy="15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3656160"/>
                    <a:ext cx="854712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Chained Evalu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handle may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'RootHandle' for the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47120" y="5089680"/>
            <a:ext cx="6699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30840" y="2165400"/>
            <a:ext cx="669960" cy="63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42000" y="3130560"/>
            <a:ext cx="66996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594560" y="4083120"/>
            <a:ext cx="669960" cy="639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86400" y="2817720"/>
            <a:ext cx="26856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78920" y="4764240"/>
            <a:ext cx="2682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1960" y="3784680"/>
            <a:ext cx="2682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So handles are..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the 'model' of the M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Datasets and Datasources (but with polymorphism and decoup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resenting views on a conceptual objec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oldbox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eveloper.datator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oc.boldsof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holtonsystem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eosigh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intrasting.com/boldra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droopyey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Otten</dc:creator>
  <dc:description/>
  <dc:language>en-US</dc:language>
  <cp:lastModifiedBy>Joe Otten</cp:lastModifiedBy>
  <cp:revision>0</cp:revision>
  <dc:subject/>
  <dc:title/>
</cp:coreProperties>
</file>