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32600" cy="9547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E8A3-BC66-4EE7-B609-3505B57F4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2C03-D2E8-4E90-B2C3-F7DFA1AD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46FA-E1A0-46B1-9C88-EEC4A0A7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C5C1-39D9-49FE-A02E-64D862DF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C08E-C7B1-4FE7-BC7D-4752F67D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5E99-9792-4856-A2D0-77F55EE1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9CE4-83B0-42C6-A597-1A05E91B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F16C-26B7-4AEF-ADEE-E013FCA1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831E-DE4A-4633-A671-A710BC64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0CD1-D5F5-4DD5-B340-F1A16B59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DF71-557F-4940-910C-E1EA3273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98AC-C1F8-4663-A750-B81430EE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A6ED-6F7B-43AC-914C-BCA0C527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5ECA-DFEE-46CB-AA24-0BC2F9F3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A1B2-31E2-4751-A19E-1F5AFC31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6022-D367-428F-B147-D22BFC9DB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0C78-A90C-474B-9DE0-783DD5A6D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58D0-3686-4D2D-B708-C251409F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AFDD-A6C9-4DFC-B31F-96994D85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9BEE-7D64-4EF1-8ED3-36DDC354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84C2-62DB-499A-822F-2B7054B4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B765-0260-48FF-810B-B212F463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FA23-E14A-4CF1-B671-D3072718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EB7B-68BD-4DFF-80E8-C78B2337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096F-78BF-4761-9FA9-C220991C3A8A}" type="slidenum">
              <a:rPr b="0" lang="en-GB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0BC9-C15C-4F92-9D69-EF06A9BD89E6}" type="slidenum">
              <a:rPr b="0" lang="en-GB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pplication Remote Contro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Jon Jenkins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UK-BU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Glasgow July 28</a:t>
            </a:r>
            <a:r>
              <a:rPr b="0" i="1" lang="en-US" sz="3200" spc="-1" strike="noStrike" baseline="30000">
                <a:solidFill>
                  <a:srgbClr val="ffffcc"/>
                </a:solidFill>
                <a:latin typeface="Times New Roman"/>
              </a:rPr>
              <a:t>th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 2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oing all of this on a CG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GI-Convert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mo it working (Craig’s box…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sues 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8o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re Custom Messag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nging all “corporate” applications to a non-system colour sche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lowing different applications in a suite to communicate togeth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trolling all your applications from o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nd finall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ngleton applic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utex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stom Messag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vides power with contro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n be used in many different situ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Ques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at are we going to cove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utex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ecuting another applic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stom Messag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ing the above with CGI to control an application on a serv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utexes (or is it Muti?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is a Mute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y do we use th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 does it wor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Good Use of Singleton Mut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lways try to use the mutex before your application fully instantiat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lways…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LWAY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elease the mutex when you’ve finish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ecuting another Applic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imply we use ShellExecu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ustom Messag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is custom messaging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y are we going to use it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w do we use it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Re-Iterat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 RegisterWindowMessage to let the system provide you with a unique I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ID is only valid for the current windows session, (not clear, but if a user logs off never mind a system reboot!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sing our Custom Messag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t the Id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ith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nd the mess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andle the mess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ending the Messag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’re going to broadcast the messa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ing SendNotifyMessa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that’s it…for now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6T20:44:55Z</dcterms:created>
  <dc:creator>Jon Jenkinson</dc:creator>
  <dc:description/>
  <dc:language>en-US</dc:language>
  <cp:lastModifiedBy>Jon Jenkinson</cp:lastModifiedBy>
  <dcterms:modified xsi:type="dcterms:W3CDTF">2000-07-28T08:07:28Z</dcterms:modified>
  <cp:revision>5</cp:revision>
  <dc:subject/>
  <dc:title>Application Remote Control</dc:title>
</cp:coreProperties>
</file>