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829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360" y="4029480"/>
            <a:ext cx="829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405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40400" y="1665360"/>
            <a:ext cx="405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7360" y="4029480"/>
            <a:ext cx="405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40400" y="4029480"/>
            <a:ext cx="405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267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93560" y="1665360"/>
            <a:ext cx="267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99760" y="1665360"/>
            <a:ext cx="267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7360" y="4029480"/>
            <a:ext cx="267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93560" y="4029480"/>
            <a:ext cx="267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99760" y="4029480"/>
            <a:ext cx="267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7360" y="1665360"/>
            <a:ext cx="829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829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405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0400" y="1665360"/>
            <a:ext cx="405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77480" y="12240"/>
            <a:ext cx="6775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405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400" y="1665360"/>
            <a:ext cx="405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7360" y="4029480"/>
            <a:ext cx="405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7360" y="1665360"/>
            <a:ext cx="829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405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1665360"/>
            <a:ext cx="405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40400" y="4029480"/>
            <a:ext cx="405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405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0400" y="1665360"/>
            <a:ext cx="405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7360" y="4029480"/>
            <a:ext cx="829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829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7360" y="4029480"/>
            <a:ext cx="829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405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0400" y="1665360"/>
            <a:ext cx="405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87360" y="4029480"/>
            <a:ext cx="405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40400" y="4029480"/>
            <a:ext cx="405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267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93560" y="1665360"/>
            <a:ext cx="267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99760" y="1665360"/>
            <a:ext cx="267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87360" y="4029480"/>
            <a:ext cx="267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93560" y="4029480"/>
            <a:ext cx="267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99760" y="4029480"/>
            <a:ext cx="267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829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405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400" y="1665360"/>
            <a:ext cx="405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7480" y="12240"/>
            <a:ext cx="6775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405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400" y="1665360"/>
            <a:ext cx="405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7360" y="4029480"/>
            <a:ext cx="405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405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0400" y="1665360"/>
            <a:ext cx="405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40400" y="4029480"/>
            <a:ext cx="405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405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0400" y="1665360"/>
            <a:ext cx="405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7360" y="4029480"/>
            <a:ext cx="829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13486" t="9291" r="4771" b="40576"/>
          <a:stretch/>
        </p:blipFill>
        <p:spPr>
          <a:xfrm>
            <a:off x="7047000" y="0"/>
            <a:ext cx="2097000" cy="121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7058160" cy="1214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7360" y="1665360"/>
            <a:ext cx="829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6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6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30320" indent="-228600">
              <a:lnSpc>
                <a:spcPct val="95000"/>
              </a:lnSpc>
              <a:spcBef>
                <a:spcPts val="6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3040" indent="-228600">
              <a:lnSpc>
                <a:spcPct val="95000"/>
              </a:lnSpc>
              <a:spcBef>
                <a:spcPts val="6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3040" indent="-22860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3040" indent="-22860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048440" y="-1440"/>
            <a:ext cx="88920" cy="245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048440" y="244440"/>
            <a:ext cx="88920" cy="246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048440" y="490680"/>
            <a:ext cx="88920" cy="24768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738360"/>
            <a:ext cx="88920" cy="245880"/>
          </a:xfrm>
          <a:prstGeom prst="rect">
            <a:avLst/>
          </a:prstGeom>
          <a:solidFill>
            <a:srgbClr val="82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659800" y="6475680"/>
            <a:ext cx="43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CC3E-5888-4823-B85E-D3B04222511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6824520" y="6292800"/>
            <a:ext cx="1895760" cy="4017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4"/>
          <a:stretch/>
        </p:blipFill>
        <p:spPr>
          <a:xfrm>
            <a:off x="371520" y="6170760"/>
            <a:ext cx="1650960" cy="55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39160" y="2573280"/>
            <a:ext cx="1643040" cy="466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1040" y="655164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base Confidential Propriet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78240" y="1386000"/>
            <a:ext cx="5884560" cy="25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5240" y="3373560"/>
            <a:ext cx="6400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5760" y="0"/>
            <a:ext cx="1986120" cy="1109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1104840"/>
            <a:ext cx="2171880" cy="5753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55080" y="0"/>
            <a:ext cx="88920" cy="3189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55080" y="318960"/>
            <a:ext cx="88920" cy="319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55080" y="638280"/>
            <a:ext cx="88920" cy="31896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55080" y="957240"/>
            <a:ext cx="88920" cy="318960"/>
          </a:xfrm>
          <a:prstGeom prst="rect">
            <a:avLst/>
          </a:prstGeom>
          <a:solidFill>
            <a:srgbClr val="b7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313320" y="6099120"/>
            <a:ext cx="2624400" cy="5558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49440" y="2130120"/>
            <a:ext cx="6307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301680" y="282600"/>
            <a:ext cx="1741320" cy="5824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6600"/>
                </a:solidFill>
                <a:latin typeface="Arial"/>
              </a:rPr>
              <a:t>Click to edit the outline text format</a:t>
            </a:r>
            <a:endParaRPr b="1" lang="en-US" sz="1500" spc="-1" strike="noStrike">
              <a:solidFill>
                <a:srgbClr val="ff6600"/>
              </a:solidFill>
              <a:latin typeface="Arial"/>
            </a:endParaRPr>
          </a:p>
          <a:p>
            <a:pPr lvl="1" marL="114480" indent="0" algn="ctr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58640" algn="ctr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01720" algn="ctr">
              <a:lnSpc>
                <a:spcPct val="95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44440" algn="ctr">
              <a:lnSpc>
                <a:spcPct val="95000"/>
              </a:lnSpc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444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444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49440" y="2130120"/>
            <a:ext cx="6307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Navigational Data Access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in .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39720" y="3886200"/>
            <a:ext cx="6357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6600"/>
                </a:solidFill>
                <a:latin typeface="Arial"/>
              </a:rPr>
              <a:t>Joachim Dürr</a:t>
            </a:r>
            <a:endParaRPr b="1" lang="en-US" sz="1500" spc="-1" strike="noStrike">
              <a:solidFill>
                <a:srgbClr val="ff6600"/>
              </a:solidFill>
              <a:latin typeface="Arial"/>
            </a:endParaRPr>
          </a:p>
          <a:p>
            <a:pPr indent="0" algn="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6600"/>
                </a:solidFill>
                <a:latin typeface="Arial"/>
              </a:rPr>
              <a:t>Sybase iAnywhere</a:t>
            </a:r>
            <a:endParaRPr b="1" lang="en-US" sz="15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Navigational Access with ADO.N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829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Using DataRead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orward 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Requires separate SQL commands for insert/update/del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No real navig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Navigational Access with ADO.N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829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One SQL per Record“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very movement requires „TOP 1“ SQL Com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Requires separate SQL commands for insert/update/del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Very complex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Navigational Access with ADO.N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829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Using AdsExtendedRead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descends from AdsDataRea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vantage Database Server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powerful server-side cursor functional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(Pessimistic) Record Lo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Record Ed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/Index Managemen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-order and Rapid Navigation using Seeks/Book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ing RecordSets using Filters/R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True navigational Data Acces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 Manag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829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rypted Free tables can be opened using the EncryptionPassword (“..”) proper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les can be copied/conver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Table(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TableStructure(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Table(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ex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Index(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index(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 Navig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829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eIndex( “IndexName” ) proper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toTop()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toBottom()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KeyPosition proper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kma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Bookmark(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toBookmark(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Bookmarks(.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Number proper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 Navig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829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forming a “Seek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ek is a very fast way to search for data within the current ind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type:  Seek(object[] seekVal, AdsSeekType typ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sSeek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0320" indent="-228600">
              <a:lnSpc>
                <a:spcPct val="95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Seek – the key following seekVal is returned if seekVal is not 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30320" indent="-228600">
              <a:lnSpc>
                <a:spcPct val="95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Seek – EOF is returned if seekVal is not 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30320" indent="-228600">
              <a:lnSpc>
                <a:spcPct val="95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GT – SoftSeek is performed on the next key following seek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30320" indent="-228600">
              <a:lnSpc>
                <a:spcPct val="95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Last – performs a seek for the last key in the index order that matches seek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rd Loc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829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essimistic) Record Lo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rEditUser = cmdEditUser.ExecuteExtendedRead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rEditUser.ActiveIndex = ‘UserName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rEditUser.Seek( new object[] {“Name”}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sExtendedReader.SeekType.SoftSeek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rEditUser.LockRecor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ltering D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829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ter = “…” sets a fil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ing Filter = “” clears the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ge – displays a range of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Range Prototype:  public void SetRange( object[ ] TopScope, object [ ] BottomScope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032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Range( new object[] {“Smith”}, new object[] {“Smitty”} 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learRange() to clear the r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ialMatch () – determines whether ranges, filters, and seeks include partial ma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rect Table/Record Edi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829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endRecord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eteRecord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allRecord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Record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on of methods of the form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ataTy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nt iCol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Float, SetDouble, SetString, SetDecimal, SetDateTime, SetBoolean, SetBytes, SetCh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ExtendedReader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829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RecordLocked() – tests if record is locked by the current Rea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RecordDeleted() – (DBF Only) tests whether current record is dele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TableLocked() – tests if table is locked by current Rea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eteIndex() – deletes the current active inde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exer allows Extended Reader to use column name (in lieu of column number) for upd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reader[“lastname”] = “myLastname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reader[myreader.GetOrdinal("lastname")]=“myLastname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829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DO.NET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DO.NET Design Benefits and Design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mplementing Navigational Data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dsExtendedRea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Other ADS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829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t Back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QL Debug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t No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 Defined Functions (UD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gurable Full Text Search with Live Ind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829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DO.NET is different from other data access mechani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t based (SQ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avigational Data Access in standard ADO.NET only possible with lots of co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dvantage Database Server provides an ADO.NET Data Provider which follows the standard AND allows navigational Data Access when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ADO.NET Archite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57200" y="1752480"/>
            <a:ext cx="8305920" cy="4572000"/>
            <a:chOff x="457200" y="1752480"/>
            <a:chExt cx="8305920" cy="4572000"/>
          </a:xfrm>
        </p:grpSpPr>
        <p:sp>
          <p:nvSpPr>
            <p:cNvPr id="104" name=""/>
            <p:cNvSpPr/>
            <p:nvPr/>
          </p:nvSpPr>
          <p:spPr>
            <a:xfrm>
              <a:off x="457200" y="1752480"/>
              <a:ext cx="8305920" cy="45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665280" y="1905120"/>
              <a:ext cx="7869240" cy="430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ADO.NET Archite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829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DataProvid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tabase specific Interface Compon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Ad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DataSe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iniature Database, containing Tables, Relations and Constra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Data Access in ADO.N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829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sconnected (Client Side Curso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ll Records are transferred from the Server to the Cl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odifications only in local copy of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ed to transfer Modifications back to the Server with Batch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ADO.NET Design Benef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829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c Cursors” can be upd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“universal” data access through DataSet obj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stom control of constraints and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operations can be performed at the client, instead of the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er can perform more generic oper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lead to simpler migration between database vend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O.NET Design Probl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829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able relationships, constraints and referential integrity are defined by the cl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rce code must change if database schema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ent performs complex operations that should be performed by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onnected RecordSet Probl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829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database reads transfer entire dataset to the cl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persistent connection to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cord locking (update confli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/limited visibility of updates in multi-user enviro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o Server Site Data Vali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erver generated Values require re-query of th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etting Filters require re-query of th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Why do we need 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Navigational Data Acces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7360" y="1665360"/>
            <a:ext cx="829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isibility of actual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.g. Stock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Record Lo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.g. Ticke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mit Data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28600">
              <a:lnSpc>
                <a:spcPct val="95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.g. Browsing large Record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1:42:35Z</dcterms:created>
  <dc:creator>Sybase, Inc.</dc:creator>
  <dc:description/>
  <dc:language>en-US</dc:language>
  <cp:lastModifiedBy>Sybase, Inc.</cp:lastModifiedBy>
  <dcterms:modified xsi:type="dcterms:W3CDTF">2008-09-05T15:12:50Z</dcterms:modified>
  <cp:revision>7</cp:revision>
  <dc:subject/>
  <dc:title>Navigational Data Access in .NET</dc:title>
</cp:coreProperties>
</file>