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roduce my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ow many people have a Palm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ow many have programmed a Palm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ow many have programmed a condu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ow many know what a conduit i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an show list of entry points if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pping might be trans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alm types include 7 byte date time, 2 byte date (days since 1/1/1904, apparently due to Mac programming origi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ync logic is the hard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leanup includes ensuring database is closed, sync log is written to, conduit is unregistered from Sync Manager 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ow TTabdCond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ow TTabdConduit he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ow TTabdConduit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ow TTabdConduitDb he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ain that isn't a TDataset because there should be no user interaction during a sync, also that a conduit is supposed to be f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ow TabdConduitSync if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erhaps show TTabdSynchroni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reate a new dll, a new data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 TTabdConduit, TTabdConduitDb with file name MemoDB, one string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 a ShowMessage for each re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t project options to direct output to Palm dir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t Run | Parameters for HotSync as Host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un POSE, enter a me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y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alk through ToDo cond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ow database structure with extra fields for combined fields in Palm database, and 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ow types of sync and sync logic, using next slide fi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o back to code and show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llow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is means small, fast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an program your app to do anything that a Palm is capable of, unlike NSBasic, CASL, AppForge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ome tools do not support all the UI elements eg no categories in Satellite Forms,  no menus in PDA Tool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an check Palm OS version to determine if program will run/disable features etc. This is not usually possible in those sort of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llow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8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llow slide, explain reasons for absence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ts - don't kn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iles - not use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ings - used in Palm APIs, overhead if have to convert Pascal style str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O - too hard for v1. Hopefully will appear in later ver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ceptions etc - too much overhead in app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esting - Don't kn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ebugging - When get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emory access - follow Palm OS r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arts of unit - not useful until get OO stu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ase types 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oolean ByteBool WordBool LongBool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eger ShortInt SmallInt LongIn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ardinal Byte Word LongWord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al Single Doub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har AnsiCha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ointer PChar PAnsiCh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53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piler is an on/off switch. Get weird errors if you fo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bout it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rm Designer works once an app is created or loa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 Move the cursor to the first line of a FORM resour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 Choose the Form Designer from the me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. Design the form with the Object Inspector and the Palm component t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. Select the TPalmForm and right click and select "Generate resource code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5. Click on the project file t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6. Close the form designer by closing the Form Designer window, Right click on tab in Editor and close without sa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Event Wizard will insert an event handler into the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Resource Wizard is less useful now there is the form designer. Must be careful to place the cursor in the right place in the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8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ain jok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hoose Palm OS Application from reposi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hange library path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:\program files\pocket technologies\pocketstudio\lib\palmos\palmos.p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ain about creator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hange APPICONNAME and save project as same name - JimMi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artApplication - initialisation, version che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vent Loop - system events (power on/off, graffiti, butt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enu events (menu icon, tapping when menu display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pplication events ( actually only handles frmLoadEv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therwise event gets passed to assigned form event handler or default form event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opApplication - finalisation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ain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o to Run | Parame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ost application = P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arameters = -load_apps "c:\tabdee\conferences\uk-bug 24_4_2001\JimMirror\JimMirror.prc" -run_app JimMi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ain about UI guideline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uttons and forms at bottom of scr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enu items always 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 popup lists where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lways show graffiti indicator if can enter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 exit button on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plain the difference between alerts and forms (like ShowMessage and TForm in Delphi). Can define buttons and text and help for ale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38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move constant, button, alert constant, alert resource, event handler by searching for "hello". Remove the ctlSelectEvent handl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move code for about alert by searching for "about". Leave event handling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 a new form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bout = AutoI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 a new form using the resource wizard (form | form). Remove the constant and the resource keyword. Change the name. Change the title to "About JimMirror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 the Form Designer, add an ok button, a "Powered by PocketStudio" label and a tabdee bitmap (use 1000 in bitmap fie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ght click and generate code, then close. Add constants for label and button and resource declaration for bit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TMAP      1000 'Tabdee.bmp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 form size to 0,0,160,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FormMain_OnMenu change alert load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mGotoForm(FormAbou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gister new event handler by copying FormMain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move ctlSelectEvent handler from FormMain handler and copy the frmOpenForm handl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gister the new event handler in ApplicationHandle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llow slide and work through code as time and questions per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blSetColumnUsable is to display the column (there is only one) and TableCallBack registered to draw the 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 of handles and pointers and locking and unlocking when accessing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pare to old way of writing Windows apps - own event loops, handles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llow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ossibly compare to PocketPC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hat ground will be covered today - programming apps comes second after conduit discussion and de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re is a bit of ground to be covered before a demo will make any great amount of sense, so we'll start with an overview of Palm datab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hasise that it is not a database in the normal sense of the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llow sl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hasise again that cannot access memory direc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llow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ow example of a category if many have not used Pal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phaszie that this is under control of the HotSync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ntrols whether to do fast or slow sy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ansactional conduit is something like  a sales order system, where it is necessary to do a transaction (in the database sense) against a set of tables rather than just updating 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llow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39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239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239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5280" indent="-215640">
              <a:spcAft>
                <a:spcPts val="1239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27280" indent="-216000">
              <a:spcAft>
                <a:spcPts val="1239"/>
              </a:spcAft>
              <a:buClr>
                <a:srgbClr val="000000"/>
              </a:buClr>
              <a:buSzPct val="75000"/>
              <a:buFont typeface="StarBats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158920" indent="-215640">
              <a:spcAft>
                <a:spcPts val="1239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158920" indent="-215640">
              <a:spcAft>
                <a:spcPts val="1239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158920" indent="-215640">
              <a:spcAft>
                <a:spcPts val="1239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5400" y="263160"/>
            <a:ext cx="860760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elphi in the Palm of Your Ha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41240" y="2653920"/>
            <a:ext cx="8607600" cy="36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31640" indent="-21564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6e6ff"/>
                </a:solidFill>
                <a:latin typeface="Times New Roman"/>
              </a:rPr>
              <a:t>Jim Coop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6e6ff"/>
                </a:solidFill>
                <a:latin typeface="Times New Roman"/>
              </a:rPr>
              <a:t>Tabdee Lt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www.tabdee.ltd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jcooper@tabdee.ltd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160640"/>
            <a:ext cx="10078920" cy="112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845400"/>
            <a:ext cx="1903320" cy="71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31520" y="1817280"/>
            <a:ext cx="86072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8680" indent="-313920">
              <a:spcAft>
                <a:spcPts val="1239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must implement all the required dll entry point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37720" indent="-278640">
              <a:spcAft>
                <a:spcPts val="1125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unctions to return the conduit name, version number 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37720" indent="-278640"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nfiguration dia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37720" indent="-278640"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nchronising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spcAft>
                <a:spcPts val="1239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must be able to map the Palm database records onto a PC or server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37720" indent="-278640">
              <a:spcAft>
                <a:spcPts val="1125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needs to deal with endian issues, weird Palm 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spcAft>
                <a:spcPts val="1239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must implement the synchronisation logic for all the sync types it needs to hand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spcAft>
                <a:spcPts val="1239"/>
              </a:spcAft>
              <a:buSzPct val="100000"/>
              <a:buBlip>
                <a:blip r:embed="rId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should clean up after it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726840" y="264600"/>
            <a:ext cx="86072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What must a conduit do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0" y="1160640"/>
            <a:ext cx="10078920" cy="1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239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urboSync is a set of components (well, 2) that enables conduits to be written in Delphi without using 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spcAft>
                <a:spcPts val="1239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TabdCondu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andles implementation of the minimum set of dll entry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n set the conduit name, version etc with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lements a default configuration dia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nConfigureConduit event for overriding the configuration dia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nOpenConduit event for implementing the conduit 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726840" y="264600"/>
            <a:ext cx="86072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urboSync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0" y="1160640"/>
            <a:ext cx="10078920" cy="1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239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TabdConduitD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ables visual definition of Palm database fields in the Object Insp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orks much like a TDataset, although it isn't a descend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ovides access to Palm database specific properties and 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5280" indent="-215640">
              <a:spcAft>
                <a:spcPts val="850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ied/deleted/archived/private fla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5280" indent="-215640">
              <a:spcAft>
                <a:spcPts val="850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xtModified, NextModifiedInCategory 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spcAft>
                <a:spcPts val="1239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urboSync encapsulates much of the Sync API, and includes translations of the entire Sync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726840" y="264600"/>
            <a:ext cx="86072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urboSync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0" y="1160640"/>
            <a:ext cx="10078920" cy="1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239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urboSync does not curren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lement any sync 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 Palm fields to PC database fie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atively read third-party database formats. Almost all tools (NSBasic, Satellite Forms, HanDBase, MobileDB etc) have their own way of formatting some fields. TurboSync will read/write the databases, but type conversions may be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ave C++ Builder ver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spcAft>
                <a:spcPts val="1239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features, and many more, are scheduled for version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726840" y="264600"/>
            <a:ext cx="86072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urboSync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0" y="1160640"/>
            <a:ext cx="10078920" cy="1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239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mo of reading records from the Palm Memo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726840" y="264600"/>
            <a:ext cx="86072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urboSync Demo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160640"/>
            <a:ext cx="10078920" cy="1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239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n through code for ToDo List condu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spcAft>
                <a:spcPts val="1239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cludes implementation of sync log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nc logic is most easily decided using a decision matr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r one way syncs the logic is simpler - delete existing records, or just add all rec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ed to take care with deleted and archived rec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726840" y="264600"/>
            <a:ext cx="86072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urboSync Demo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0" y="1160640"/>
            <a:ext cx="10078920" cy="1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6840" y="264600"/>
            <a:ext cx="86072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oDo Conduit Sync Log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160640"/>
            <a:ext cx="10078920" cy="112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33360" y="1766880"/>
            <a:ext cx="96408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                    </a:t>
            </a:r>
            <a:r>
              <a:rPr b="1" lang="en-GB" sz="1800" spc="-1" strike="noStrike">
                <a:solidFill>
                  <a:srgbClr val="ffff00"/>
                </a:solidFill>
                <a:latin typeface="Courier New"/>
              </a:rPr>
              <a:t>PALM REC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No change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Nonexistent   Modified   Deleted   Arch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4520" y="2405160"/>
            <a:ext cx="158904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urier New"/>
              </a:rPr>
              <a:t>PC REC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No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Nonexis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Arch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51000" y="2405160"/>
            <a:ext cx="772632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6e6ff"/>
                </a:solidFill>
                <a:latin typeface="Courier New"/>
              </a:rPr>
              <a:t>No action   </a:t>
            </a:r>
            <a:r>
              <a:rPr b="1" lang="en-GB" sz="1800" spc="-1" strike="noStrike">
                <a:solidFill>
                  <a:srgbClr val="ffffcc"/>
                </a:solidFill>
                <a:latin typeface="Courier New"/>
              </a:rPr>
              <a:t>Add to Palm</a:t>
            </a:r>
            <a:r>
              <a:rPr b="1" lang="en-GB" sz="1800" spc="-1" strike="noStrike">
                <a:solidFill>
                  <a:srgbClr val="e6e6ff"/>
                </a:solidFill>
                <a:latin typeface="Courier New"/>
              </a:rPr>
              <a:t>   Modify PC  </a:t>
            </a:r>
            <a:r>
              <a:rPr b="1" lang="en-GB" sz="1800" spc="-1" strike="noStrike">
                <a:solidFill>
                  <a:srgbClr val="ffffcc"/>
                </a:solidFill>
                <a:latin typeface="Courier New"/>
              </a:rPr>
              <a:t>Delete</a:t>
            </a:r>
            <a:r>
              <a:rPr b="1" lang="en-GB" sz="1800" spc="-1" strike="noStrike">
                <a:solidFill>
                  <a:srgbClr val="e6e6ff"/>
                </a:solidFill>
                <a:latin typeface="Courier New"/>
              </a:rPr>
              <a:t>    Arch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6e6ff"/>
                </a:solidFill>
                <a:latin typeface="Courier New"/>
              </a:rPr>
              <a:t>                                     </a:t>
            </a:r>
            <a:r>
              <a:rPr b="1" lang="en-GB" sz="1800" spc="-1" strike="noStrike">
                <a:solidFill>
                  <a:srgbClr val="ffffcc"/>
                </a:solidFill>
                <a:latin typeface="Courier New"/>
              </a:rPr>
              <a:t>from PC</a:t>
            </a:r>
            <a:r>
              <a:rPr b="1" lang="en-GB" sz="1800" spc="-1" strike="noStrike">
                <a:solidFill>
                  <a:srgbClr val="e6e6ff"/>
                </a:solidFill>
                <a:latin typeface="Courier New"/>
              </a:rPr>
              <a:t>   on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6e6ff"/>
                </a:solidFill>
                <a:latin typeface="Courier New"/>
              </a:rPr>
              <a:t>Add to PC   </a:t>
            </a:r>
            <a:r>
              <a:rPr b="1" lang="en-GB" sz="1800" spc="-1" strike="noStrike">
                <a:solidFill>
                  <a:srgbClr val="ffffcc"/>
                </a:solidFill>
                <a:latin typeface="Courier New"/>
              </a:rPr>
              <a:t>No action</a:t>
            </a:r>
            <a:r>
              <a:rPr b="1" lang="en-GB" sz="1800" spc="-1" strike="noStrike">
                <a:solidFill>
                  <a:srgbClr val="e6e6ff"/>
                </a:solidFill>
                <a:latin typeface="Courier New"/>
              </a:rPr>
              <a:t>     Add to PC  </a:t>
            </a:r>
            <a:r>
              <a:rPr b="1" lang="en-GB" sz="1800" spc="-1" strike="noStrike">
                <a:solidFill>
                  <a:srgbClr val="ffffcc"/>
                </a:solidFill>
                <a:latin typeface="Courier New"/>
              </a:rPr>
              <a:t>No action</a:t>
            </a:r>
            <a:r>
              <a:rPr b="1" lang="en-GB" sz="1800" spc="-1" strike="noStrike">
                <a:solidFill>
                  <a:srgbClr val="e6e6ff"/>
                </a:solidFill>
                <a:latin typeface="Courier New"/>
              </a:rPr>
              <a:t> Arch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6e6ff"/>
                </a:solidFill>
                <a:latin typeface="Courier New"/>
              </a:rPr>
              <a:t>                                               </a:t>
            </a:r>
            <a:r>
              <a:rPr b="1" lang="en-GB" sz="1800" spc="-1" strike="noStrike">
                <a:solidFill>
                  <a:srgbClr val="e6e6ff"/>
                </a:solidFill>
                <a:latin typeface="Courier New"/>
              </a:rPr>
              <a:t>on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6e6ff"/>
                </a:solidFill>
                <a:latin typeface="Courier New"/>
              </a:rPr>
              <a:t>Modify Palm </a:t>
            </a:r>
            <a:r>
              <a:rPr b="1" lang="en-GB" sz="1800" spc="-1" strike="noStrike">
                <a:solidFill>
                  <a:srgbClr val="ffffcc"/>
                </a:solidFill>
                <a:latin typeface="Courier New"/>
              </a:rPr>
              <a:t>Add to Palm</a:t>
            </a:r>
            <a:r>
              <a:rPr b="1" lang="en-GB" sz="1800" spc="-1" strike="noStrike">
                <a:solidFill>
                  <a:srgbClr val="e6e6ff"/>
                </a:solidFill>
                <a:latin typeface="Courier New"/>
              </a:rPr>
              <a:t>   Modify PC  </a:t>
            </a:r>
            <a:r>
              <a:rPr b="1" lang="en-GB" sz="1800" spc="-1" strike="noStrike">
                <a:solidFill>
                  <a:srgbClr val="ffffcc"/>
                </a:solidFill>
                <a:latin typeface="Courier New"/>
              </a:rPr>
              <a:t>Delete</a:t>
            </a:r>
            <a:r>
              <a:rPr b="1" lang="en-GB" sz="1800" spc="-1" strike="noStrike">
                <a:solidFill>
                  <a:srgbClr val="e6e6ff"/>
                </a:solidFill>
                <a:latin typeface="Courier New"/>
              </a:rPr>
              <a:t>    Arch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6e6ff"/>
                </a:solidFill>
                <a:latin typeface="Courier New"/>
              </a:rPr>
              <a:t>                                     </a:t>
            </a:r>
            <a:r>
              <a:rPr b="1" lang="en-GB" sz="1800" spc="-1" strike="noStrike">
                <a:solidFill>
                  <a:srgbClr val="ffffcc"/>
                </a:solidFill>
                <a:latin typeface="Courier New"/>
              </a:rPr>
              <a:t>from PC</a:t>
            </a:r>
            <a:r>
              <a:rPr b="1" lang="en-GB" sz="1800" spc="-1" strike="noStrike">
                <a:solidFill>
                  <a:srgbClr val="e6e6ff"/>
                </a:solidFill>
                <a:latin typeface="Courier New"/>
              </a:rPr>
              <a:t>   on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6e6ff"/>
                </a:solidFill>
                <a:latin typeface="Courier New"/>
              </a:rPr>
              <a:t>Delete      </a:t>
            </a:r>
            <a:r>
              <a:rPr b="1" lang="en-GB" sz="1800" spc="-1" strike="noStrike">
                <a:solidFill>
                  <a:srgbClr val="ffffcc"/>
                </a:solidFill>
                <a:latin typeface="Courier New"/>
              </a:rPr>
              <a:t>No action</a:t>
            </a:r>
            <a:r>
              <a:rPr b="1" lang="en-GB" sz="1800" spc="-1" strike="noStrike">
                <a:solidFill>
                  <a:srgbClr val="e6e6ff"/>
                </a:solidFill>
                <a:latin typeface="Courier New"/>
              </a:rPr>
              <a:t>     Modify PC  </a:t>
            </a:r>
            <a:r>
              <a:rPr b="1" lang="en-GB" sz="1800" spc="-1" strike="noStrike">
                <a:solidFill>
                  <a:srgbClr val="ffffcc"/>
                </a:solidFill>
                <a:latin typeface="Courier New"/>
              </a:rPr>
              <a:t>Delete</a:t>
            </a:r>
            <a:r>
              <a:rPr b="1" lang="en-GB" sz="1800" spc="-1" strike="noStrike">
                <a:solidFill>
                  <a:srgbClr val="e6e6ff"/>
                </a:solidFill>
                <a:latin typeface="Courier New"/>
              </a:rPr>
              <a:t>    Arch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6e6ff"/>
                </a:solidFill>
                <a:latin typeface="Courier New"/>
              </a:rPr>
              <a:t>from Palm                            </a:t>
            </a:r>
            <a:r>
              <a:rPr b="1" lang="en-GB" sz="1800" spc="-1" strike="noStrike">
                <a:solidFill>
                  <a:srgbClr val="ffffcc"/>
                </a:solidFill>
                <a:latin typeface="Courier New"/>
              </a:rPr>
              <a:t>from PC</a:t>
            </a:r>
            <a:r>
              <a:rPr b="1" lang="en-GB" sz="1800" spc="-1" strike="noStrike">
                <a:solidFill>
                  <a:srgbClr val="e6e6ff"/>
                </a:solidFill>
                <a:latin typeface="Courier New"/>
              </a:rPr>
              <a:t>   on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6e6ff"/>
                </a:solidFill>
                <a:latin typeface="Courier New"/>
              </a:rPr>
              <a:t>No action   </a:t>
            </a:r>
            <a:r>
              <a:rPr b="1" lang="en-GB" sz="1800" spc="-1" strike="noStrike">
                <a:solidFill>
                  <a:srgbClr val="ffffcc"/>
                </a:solidFill>
                <a:latin typeface="Courier New"/>
              </a:rPr>
              <a:t>No action</a:t>
            </a:r>
            <a:r>
              <a:rPr b="1" lang="en-GB" sz="1800" spc="-1" strike="noStrike">
                <a:solidFill>
                  <a:srgbClr val="e6e6ff"/>
                </a:solidFill>
                <a:latin typeface="Courier New"/>
              </a:rPr>
              <a:t>     Modify PC  </a:t>
            </a:r>
            <a:r>
              <a:rPr b="1" lang="en-GB" sz="1800" spc="-1" strike="noStrike">
                <a:solidFill>
                  <a:srgbClr val="ffffcc"/>
                </a:solidFill>
                <a:latin typeface="Courier New"/>
              </a:rPr>
              <a:t>No action</a:t>
            </a:r>
            <a:r>
              <a:rPr b="1" lang="en-GB" sz="1800" spc="-1" strike="noStrike">
                <a:solidFill>
                  <a:srgbClr val="e6e6ff"/>
                </a:solidFill>
                <a:latin typeface="Courier New"/>
              </a:rPr>
              <a:t> Arch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6e6ff"/>
                </a:solidFill>
                <a:latin typeface="Courier New"/>
              </a:rPr>
              <a:t>                                               </a:t>
            </a:r>
            <a:r>
              <a:rPr b="1" lang="en-GB" sz="1800" spc="-1" strike="noStrike">
                <a:solidFill>
                  <a:srgbClr val="e6e6ff"/>
                </a:solidFill>
                <a:latin typeface="Courier New"/>
              </a:rPr>
              <a:t>on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31520" y="1827000"/>
            <a:ext cx="860724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040" indent="-307440">
              <a:spcAft>
                <a:spcPts val="1239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urboSync is available from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               www.tabdee.ltd.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0040" indent="-307440">
              <a:spcAft>
                <a:spcPts val="1239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trial version is fully functional as long as Delphi is ru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0040" indent="-307440">
              <a:spcAft>
                <a:spcPts val="1239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ree email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0040" indent="-307440">
              <a:spcAft>
                <a:spcPts val="1239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full version includes all source code and is US$60 from www.palmgear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0040" indent="-307440">
              <a:spcAft>
                <a:spcPts val="1239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 those going to BorCon, there will be a 40-odd page paper on the Conference CD (hopefully) about writing conduits, going into much more detail than we have had time for 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726840" y="264600"/>
            <a:ext cx="86072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Where do you get i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0" y="1160640"/>
            <a:ext cx="10078920" cy="1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239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cketStudio is a Pascal compiler for the Palm 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spcAft>
                <a:spcPts val="1239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veloped by Pocket Technologie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 www.pocket-technologies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spcAft>
                <a:spcPts val="1239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is currently in beta, and is expected to be launched in June 2001, in time for BorC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726840" y="264600"/>
            <a:ext cx="86072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Pocket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0" y="1160640"/>
            <a:ext cx="10078920" cy="1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spcAft>
                <a:spcPts val="1239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tive PalmOS code generation with no runtime libraries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7320" indent="-320400">
              <a:spcAft>
                <a:spcPts val="1239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ccess to the full Palm AP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7320" indent="-320400">
              <a:spcAft>
                <a:spcPts val="1239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sual form desig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7320" indent="-320400">
              <a:spcAft>
                <a:spcPts val="1239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pport for wireless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7320" indent="-320400">
              <a:spcAft>
                <a:spcPts val="1239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pport for barcode scanners like the Symbol 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7320" indent="-320400">
              <a:spcAft>
                <a:spcPts val="1239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build and use shared libra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7320" indent="-320400">
              <a:spcAft>
                <a:spcPts val="1239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ill have a choice of running its own IDE, or integrating into Delphi'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726840" y="264600"/>
            <a:ext cx="86072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0" y="1160640"/>
            <a:ext cx="10078920" cy="1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102280" y="1611360"/>
            <a:ext cx="4199040" cy="51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8680" indent="-313920">
              <a:spcAft>
                <a:spcPts val="1239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neral purp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37720" indent="-278640">
              <a:spcAft>
                <a:spcPts val="1125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n load third-party program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spcAft>
                <a:spcPts val="1239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m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37720" indent="-278640"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160x160 pixel scr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37720" indent="-278640"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16 to 33 Mhz proces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37720" indent="-278640">
              <a:spcAft>
                <a:spcPts val="1125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 to 8M 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37720" indent="-278640">
              <a:spcAft>
                <a:spcPts val="1125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mall apps (typically&lt; 64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spcAft>
                <a:spcPts val="1239"/>
              </a:spcAft>
              <a:buSzPct val="100000"/>
              <a:buBlip>
                <a:blip r:embed="rId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built-in key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37720" indent="-278640">
              <a:spcAft>
                <a:spcPts val="1125"/>
              </a:spcAft>
              <a:buSzPct val="100000"/>
              <a:buBlip>
                <a:blip r:embed="rId9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ust learn Graffi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726840" y="264600"/>
            <a:ext cx="86072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What is a Palm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0"/>
          <a:stretch/>
        </p:blipFill>
        <p:spPr>
          <a:xfrm>
            <a:off x="0" y="1162080"/>
            <a:ext cx="10078920" cy="112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11"/>
          <a:stretch/>
        </p:blipFill>
        <p:spPr>
          <a:xfrm>
            <a:off x="582480" y="2190600"/>
            <a:ext cx="3554640" cy="476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41240" y="2101320"/>
            <a:ext cx="860760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040" indent="-307440">
              <a:spcAft>
                <a:spcPts val="1239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arly complete implementation of standard Pa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440" indent="-272880">
              <a:spcAft>
                <a:spcPts val="1125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 sets, no file types (not useful on a Palm anywa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440" indent="-272880"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 string types, only C style strings (used in Palm AP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440" indent="-272880"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ase types are those used in the PalmOS, so are slightly different from Delphi'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440" indent="-272880"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 nested functions or proced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440" indent="-272880">
              <a:spcAft>
                <a:spcPts val="1125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 exceptions, or range or overflow chec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440" indent="-272880">
              <a:spcAft>
                <a:spcPts val="1125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 New or Dispose functions (not allowed in Palm OS, need to use API calls inste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440" indent="-272880">
              <a:spcAft>
                <a:spcPts val="1125"/>
              </a:spcAft>
              <a:buSzPct val="100000"/>
              <a:buBlip>
                <a:blip r:embed="rId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 object oriented stu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440" indent="-272880">
              <a:spcAft>
                <a:spcPts val="1125"/>
              </a:spcAft>
              <a:buSzPct val="100000"/>
              <a:buBlip>
                <a:blip r:embed="rId9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 interface/implementation parts to a u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726840" y="264600"/>
            <a:ext cx="86072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Palm Pasc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0" y="1160640"/>
            <a:ext cx="10078920" cy="1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239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stalling PocketStudio results in a new menu in the 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i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rm Desig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vent Wiz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source Wiz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spcAft>
                <a:spcPts val="1239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t a new component tab with Palm UI el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spcAft>
                <a:spcPts val="1239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so get some new repository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lm OS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9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lm OS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726840" y="264600"/>
            <a:ext cx="86072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Palm Programming inside Delph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0" y="1160640"/>
            <a:ext cx="10078920" cy="1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spcAft>
                <a:spcPts val="1239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will write a PalmMirror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7320" indent="-320400">
              <a:spcAft>
                <a:spcPts val="1239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ith an Abou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7320" indent="-320400">
              <a:spcAft>
                <a:spcPts val="1239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reate a new Palm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7320" indent="-320400">
              <a:spcAft>
                <a:spcPts val="1239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amine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7320" indent="-320400">
              <a:spcAft>
                <a:spcPts val="1239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amine program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000" indent="-284400">
              <a:spcAft>
                <a:spcPts val="1125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art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000" indent="-284400">
              <a:spcAft>
                <a:spcPts val="1125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ventLo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000" indent="-284400">
              <a:spcAft>
                <a:spcPts val="1125"/>
              </a:spcAft>
              <a:buSzPct val="100000"/>
              <a:buBlip>
                <a:blip r:embed="rId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op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000" indent="-284400">
              <a:spcAft>
                <a:spcPts val="1125"/>
              </a:spcAft>
              <a:buSzPct val="100000"/>
              <a:buBlip>
                <a:blip r:embed="rId9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vent hand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726840" y="264600"/>
            <a:ext cx="86072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eating an appl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0" y="1160640"/>
            <a:ext cx="10078920" cy="1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239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fore we compile we need to set the Run | Para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ost application should be P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t parameters so that application is loaded and then 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spcAft>
                <a:spcPts val="1239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then hit F9 and test our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spcAft>
                <a:spcPts val="1239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s you can see, it is already feature comple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spcAft>
                <a:spcPts val="1239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works better on a real de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726840" y="264600"/>
            <a:ext cx="86072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ompiling and running the ap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0" y="1160640"/>
            <a:ext cx="10078920" cy="1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239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"Hello" button is ruining the mirror effect, so remove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spcAft>
                <a:spcPts val="1239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mprove the "About" box by adding some more text and a bit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spcAft>
                <a:spcPts val="1239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compile and run and be ama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spcAft>
                <a:spcPts val="1239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te that there is no "Exit"  button. Besides spoiling our clean user interface, it is a Palm UI guideline not to have one. It doesn't make sense as there is no desktop to go 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726840" y="264600"/>
            <a:ext cx="86072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Improving the appl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0" y="1160640"/>
            <a:ext cx="10078920" cy="1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239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e will examine the main features of one of the demos that comes with PocketStu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re complicated event handling for t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dding and editing records and handling datab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rmal editing menu items on edit dia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y tables are handled in Palm 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spcAft>
                <a:spcPts val="1239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source code is available on the Pocket technologies web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726840" y="264600"/>
            <a:ext cx="86072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ddress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0" y="1160640"/>
            <a:ext cx="10078920" cy="1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239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time and technology permit, show demo of ASTA wireless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spcAft>
                <a:spcPts val="1239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STA have Palm clients that can talk to an ASTA server over a TCP/IP 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ireless mod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bile ph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ireless LAN cards (when they eventually become availab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andline mod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726840" y="264600"/>
            <a:ext cx="86072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Wireles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0" y="1160640"/>
            <a:ext cx="10078920" cy="1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239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cket Technologie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           www.pocket-technologies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spcAft>
                <a:spcPts val="1239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lm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           www.palmos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spcAft>
                <a:spcPts val="1239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STA have a new wireless comms sit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           www.astawireless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spcAft>
                <a:spcPts val="1239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de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           www.tabdee.ltd.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726840" y="264600"/>
            <a:ext cx="86072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More infor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0" y="1160640"/>
            <a:ext cx="10078920" cy="1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239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sk a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726840" y="264600"/>
            <a:ext cx="86072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1160640"/>
            <a:ext cx="10078920" cy="1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22480" y="1599840"/>
            <a:ext cx="5086440" cy="18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239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mall and light enough to take anywhere, even under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UI and sync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726840" y="264600"/>
            <a:ext cx="86072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What is a Palm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1162080"/>
            <a:ext cx="10078920" cy="112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82480" y="2190600"/>
            <a:ext cx="3554640" cy="4761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22840" y="3467160"/>
            <a:ext cx="506556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863640" indent="-287280">
              <a:lnSpc>
                <a:spcPct val="100000"/>
              </a:lnSpc>
              <a:spcAft>
                <a:spcPts val="1239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oo small to see much data at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ard to enter lots of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number crun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t much memory fo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ardware restrictions (no sound, maybe no colo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36560" y="1709640"/>
            <a:ext cx="8607600" cy="23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14360" indent="-310680">
              <a:spcAft>
                <a:spcPts val="1239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gramming Palm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29080" indent="-275760">
              <a:spcAft>
                <a:spcPts val="1125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lphi cannot generate PalmOS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9080" indent="-275760"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orland are unlikely support PalmOS any time so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9080" indent="-275760"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ut you can use the Delphi IDE to write Palm apps in Pa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9080" indent="-275760"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ell, I can because I'm special. You'll have to wa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726840" y="264600"/>
            <a:ext cx="86072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Programming for PalmOS in Delph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0" y="1160640"/>
            <a:ext cx="10078920" cy="112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36560" y="4406760"/>
            <a:ext cx="860760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239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gramming Cond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0000"/>
              </a:lnSpc>
              <a:spcAft>
                <a:spcPts val="1125"/>
              </a:spcAft>
              <a:buSzPct val="100000"/>
              <a:buBlip>
                <a:blip r:embed="rId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nduits handle data synchronisation between a Palm and a desktop or server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0000"/>
              </a:lnSpc>
              <a:spcAft>
                <a:spcPts val="1125"/>
              </a:spcAft>
              <a:buSzPct val="100000"/>
              <a:buBlip>
                <a:blip r:embed="rId9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nduits can be written totally in Delphi, and there are a plethora of tools to choose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0000"/>
              </a:lnSpc>
              <a:spcAft>
                <a:spcPts val="1125"/>
              </a:spcAft>
              <a:buSzPct val="100000"/>
              <a:buBlip>
                <a:blip r:embed="rId10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specially Turbo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30080" y="1738440"/>
            <a:ext cx="8607600" cy="50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3000" indent="-317160">
              <a:spcAft>
                <a:spcPts val="1239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term "database" is misle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281520">
              <a:spcAft>
                <a:spcPts val="1125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 fie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281520"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281520"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 querying or filt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spcAft>
                <a:spcPts val="1239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mory cannot be directly acc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spcAft>
                <a:spcPts val="1239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file system on Palms (prior to OS v4 anywa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281520">
              <a:spcAft>
                <a:spcPts val="1125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abases identified by creator id and unique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281520">
              <a:spcAft>
                <a:spcPts val="1125"/>
              </a:spcAft>
              <a:buSzPct val="100000"/>
              <a:buBlip>
                <a:blip r:embed="rId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lm applications are a special type of database known as a resource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spcAft>
                <a:spcPts val="1239"/>
              </a:spcAft>
              <a:buSzPct val="100000"/>
              <a:buBlip>
                <a:blip r:embed="rId9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database is best thought of as managed sto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26840" y="264600"/>
            <a:ext cx="86072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Palm databa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0" y="1160640"/>
            <a:ext cx="10078920" cy="1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30080" y="1550520"/>
            <a:ext cx="8607600" cy="53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040" indent="-307440">
              <a:spcAft>
                <a:spcPts val="1239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a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440" indent="-272880">
              <a:spcAft>
                <a:spcPts val="1125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ator 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440" indent="-272880"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440" indent="-272880"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ther information - type, last modified and sync dates, 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440" indent="-272880"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ppInfo block - used for catego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440" indent="-272880">
              <a:spcAft>
                <a:spcPts val="1125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rtInfo block - not often u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0040" indent="-307440">
              <a:spcAft>
                <a:spcPts val="1239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st of rec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0040" indent="-307440">
              <a:spcAft>
                <a:spcPts val="1239"/>
              </a:spcAft>
              <a:buSzPct val="100000"/>
              <a:buBlip>
                <a:blip r:embed="rId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exact structure of the databases on a desktop is published by Pal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0040" indent="-307440">
              <a:spcAft>
                <a:spcPts val="1239"/>
              </a:spcAft>
              <a:buSzPct val="100000"/>
              <a:buBlip>
                <a:blip r:embed="rId9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structure on the Palm is not, but then, you never need to know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726840" y="264600"/>
            <a:ext cx="86072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Palm database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0" y="1160640"/>
            <a:ext cx="10078920" cy="1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31520" y="1639440"/>
            <a:ext cx="8607240" cy="52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spcAft>
                <a:spcPts val="1239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identifier unique within the database – the local 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7320" indent="-320400">
              <a:spcAft>
                <a:spcPts val="1239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lags that mark the record as private, deleted, modified, or archived. Combinations are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7320" indent="-320400">
              <a:spcAft>
                <a:spcPts val="1239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categ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7320" indent="-320400">
              <a:spcAft>
                <a:spcPts val="1239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data, stored essentially as a bl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000" indent="-284400"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"fields" within a record are purely a matter of interpre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000" indent="-284400">
              <a:spcAft>
                <a:spcPts val="1125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ach record can contain completely different th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000" indent="-284400">
              <a:spcAft>
                <a:spcPts val="1125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ome third-party tools "impose" their own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000" indent="-284400">
              <a:spcAft>
                <a:spcPts val="1125"/>
              </a:spcAft>
              <a:buSzPct val="100000"/>
              <a:buBlip>
                <a:blip r:embed="rId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cords may be, and usually are, different siz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000" indent="-284400">
              <a:spcAft>
                <a:spcPts val="1125"/>
              </a:spcAft>
              <a:buSzPct val="100000"/>
              <a:buBlip>
                <a:blip r:embed="rId9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 is at a premium, so often tricks are used to save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726840" y="264600"/>
            <a:ext cx="86072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Palm database record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0" y="1160640"/>
            <a:ext cx="10078920" cy="1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11000" y="1590480"/>
            <a:ext cx="860724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8680" indent="-313920">
              <a:spcAft>
                <a:spcPts val="1239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conduit is a dll which transfers data between a Palm and a PC (or Mac) under the control of the HotSync Mana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spcAft>
                <a:spcPts val="1239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pes of conduit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37720" indent="-278640"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st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37720" indent="-278640"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ack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37720" indent="-278640"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nchronise - this is the only one you can write yoursel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spcAft>
                <a:spcPts val="1239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ynchronising conduits can 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37720" indent="-278640">
              <a:spcAft>
                <a:spcPts val="1125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ne way, that overwrite or append to the Palm or P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37720" indent="-278640">
              <a:spcAft>
                <a:spcPts val="1125"/>
              </a:spcAft>
              <a:buSzPct val="100000"/>
              <a:buBlip>
                <a:blip r:embed="rId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wo-way - these are either "fast" or "slow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37720" indent="-278640">
              <a:spcAft>
                <a:spcPts val="1125"/>
              </a:spcAft>
              <a:buSzPct val="100000"/>
              <a:buBlip>
                <a:blip r:embed="rId9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ransac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spcAft>
                <a:spcPts val="1239"/>
              </a:spcAft>
              <a:buSzPct val="100000"/>
              <a:buBlip>
                <a:blip r:embed="rId10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conduit may not always be nece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726840" y="264600"/>
            <a:ext cx="86072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ondui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1"/>
          <a:stretch/>
        </p:blipFill>
        <p:spPr>
          <a:xfrm>
            <a:off x="0" y="1160640"/>
            <a:ext cx="10078920" cy="1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91920" y="1550880"/>
            <a:ext cx="860724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14360" indent="-310680">
              <a:spcAft>
                <a:spcPts val="1239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 can open any database on the Palm, one at a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4360" indent="-310680">
              <a:spcAft>
                <a:spcPts val="1239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 can create and delete datab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4360" indent="-310680">
              <a:spcAft>
                <a:spcPts val="1239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 can see all private rec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4360" indent="-310680">
              <a:spcAft>
                <a:spcPts val="1239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 can write to the synchronisation lo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4360" indent="-310680">
              <a:spcAft>
                <a:spcPts val="1239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 cannot assign the local id, or control the position of a record in a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4360" indent="-310680">
              <a:spcAft>
                <a:spcPts val="1239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 can only have one conduit per creator 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4360" indent="-310680">
              <a:spcAft>
                <a:spcPts val="1239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cords are a maximum of 65505 by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4360" indent="-310680">
              <a:spcAft>
                <a:spcPts val="1239"/>
              </a:spcAft>
              <a:buSzPct val="100000"/>
              <a:buBlip>
                <a:blip r:embed="rId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 can only have 64k records in a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4360" indent="-310680">
              <a:spcAft>
                <a:spcPts val="1239"/>
              </a:spcAft>
              <a:buSzPct val="100000"/>
              <a:buBlip>
                <a:blip r:embed="rId9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 can us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notifier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o tell your desktop app when a sync is starting and finis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726840" y="264600"/>
            <a:ext cx="86072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onduit cans and cant'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0" y="1160640"/>
            <a:ext cx="10078920" cy="11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0T12:35:37Z</dcterms:created>
  <dc:creator>Jim Cooper</dc:creator>
  <dc:description/>
  <dc:language>en-US</dc:language>
  <cp:lastModifiedBy>Jim Cooper</cp:lastModifiedBy>
  <cp:revision>0</cp:revision>
  <dc:subject/>
  <dc:title/>
</cp:coreProperties>
</file>