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1280" y="1125360"/>
            <a:ext cx="813744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48000" y="3936960"/>
            <a:ext cx="2521080" cy="116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997360"/>
            <a:ext cx="8218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Century Gothic"/>
              </a:rPr>
              <a:t>Jim Co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63920" y="5160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19a"/>
                </a:solidFill>
                <a:latin typeface="Century Gothic"/>
              </a:rPr>
              <a:t>www.tabdee.ltd.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entury Gothic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inyurl.com/a6nvw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inyurl.com/c7oj8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nyurl.com/auaz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mssoftware.com/" TargetMode="External"/><Relationship Id="rId2" Type="http://schemas.openxmlformats.org/officeDocument/2006/relationships/hyperlink" Target="http://tinyurl.com/ctgwd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inyurl.com/4tywd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400" spc="-1" strike="noStrike">
                <a:solidFill>
                  <a:srgbClr val="39457f"/>
                </a:solidFill>
                <a:latin typeface="Century Gothic"/>
              </a:rPr>
              <a:t>Talking to Pocket PCs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ActiveSync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62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rovides the following servi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synchroniza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conversion between the desktop computer and device format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ing and exporting database tabl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ing the desktop for remote connection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tinyurl.com/a6nvw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ActiveSync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2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ervice Manag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nchronisation engine in ActiveSy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 PC and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ync tasks – written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Desktop provi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Device provi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ActiveSync Provide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Remote API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outines to talk over a connection to a devic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ually ActiveSy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tinyurl.com/c7oj8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imilar to WindowsCE cal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RAPI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9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File handling routin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pying, moving, creating shortcu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indowsCE database routin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S Version, power, system inf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tart/stop applica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Native Code Exampl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89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tinyurl.com/auaz2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n VB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bvious why I didn’t write a Delphi example!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RAPI Librarie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tmssoftware.com/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Tools for Delphi Win32 and 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tinyurl.com/ctgw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NetCF.org Desktop Communication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 source CE tools, all 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02760" y="253044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457f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05560" y="3332160"/>
            <a:ext cx="513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You can contact me further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jcooper@tabdee.ltd.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133720"/>
            <a:ext cx="27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9457f"/>
                </a:solidFill>
                <a:latin typeface="Century Gothic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7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Focussing on one method of communication with Pocket PC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oints about data on PDA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y we aren’t talking about the other ways of transferring dat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ata on a PDA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DAs are small, and text entry is slow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ing a lot of data is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tering a lot of data is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torage often limit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mmunications often limit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nsferring a lot of data is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aving a lot of data is a problem!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Jim Rule #1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2565360"/>
            <a:ext cx="814212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on’t have too much data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ata storage option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indowsCE databas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don’t want to know, trust 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QL Server C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ka SQL Server Mobile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DO.NE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QL Server C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341360"/>
            <a:ext cx="81424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se RDA or SQL Server replic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nly talks to SQL Server (to my knowledg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nflict resolution not available via 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quires I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quires a conne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ADO.NE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0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rialises to XML, SQL Server, SQL Server 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ghtweight and f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create databases on the fly, run queries e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have relationships between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igned to run dis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ilar to TClientDataset in Delp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PocketPC Data Transfe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8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ctive Sync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mited to syncing/transferring whol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have custom ActiveSync provi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PocketPC Data Transfer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2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ow level communication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xample of building an app that talks to a web service and also works with offline data 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tinyurl.com/4tyw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11:37Z</dcterms:created>
  <dc:creator>Jim Cooper</dc:creator>
  <dc:description/>
  <cp:keywords/>
  <dc:language>en-US</dc:language>
  <cp:lastModifiedBy>Jim Cooper</cp:lastModifiedBy>
  <cp:lastPrinted>1998-03-12T04:44:47Z</cp:lastPrinted>
  <dcterms:modified xsi:type="dcterms:W3CDTF">2005-10-18T13:39:01Z</dcterms:modified>
  <cp:revision>37</cp:revision>
  <dc:subject/>
  <dc:title>Slide 1</dc:title>
</cp:coreProperties>
</file>