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BD5F6-877D-4C6E-9D86-1B0D3F559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02F50-092E-4761-BFF2-801528823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05988-5CF4-4B84-83A8-F32DFB60B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5977C-F86C-4FB0-97D7-D5F0FC704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11562-2E19-4802-9711-97F2FF21E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4573D-A0E7-4B50-9C5A-602A4571A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ECBFE-77F9-46AD-BA40-D5ABB8837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D9CF7-7E77-473D-9416-AF639FAA4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BE886-1842-414B-93C0-AA6D93981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BBB23-663D-4329-AAC4-6849A5163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290CA-DD0D-4503-BF3F-619482F33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F7528-F1B4-43CD-A293-6E9DCCD0F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9B0F3-4D0A-4F20-B3F9-5200D8635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064BA-4A62-4093-84CE-0F336EA0E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8EE71-C6DA-4F9C-99E8-F11E0EDCF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450DB-17D7-4E8D-B632-87A9017CC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6BFDA-EEC4-4206-9FC9-EBCBBF002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57BDA-BB0B-410E-9F04-521556E8D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D0805-66BA-4C8C-8446-58974F223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8A8AD-01AD-44F1-B03E-C3C31DF79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F58DD-FA5E-4A3A-AE75-4488C3C60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5D731-6560-4F3F-96C2-CBEACCD5E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75C9F-064D-4CE5-B750-400CC1DF1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CD926-5B6C-4CEB-A434-692FFA711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7817F-D37A-45A6-AED0-A9527E2216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68360" y="2205000"/>
            <a:ext cx="654696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C2DC6-4F63-471F-98FD-9306C90F28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msdn.microsoft.com/mobility/" TargetMode="External"/><Relationship Id="rId3" Type="http://schemas.openxmlformats.org/officeDocument/2006/relationships/hyperlink" Target="http://www.microsoft.com/windowsmobile/default.mspx" TargetMode="External"/><Relationship Id="rId4" Type="http://schemas.openxmlformats.org/officeDocument/2006/relationships/hyperlink" Target="http://msdn.microsoft.com/mobility/windowsmobile/default.aspx" TargetMode="External"/><Relationship Id="rId5" Type="http://schemas.openxmlformats.org/officeDocument/2006/relationships/hyperlink" Target="http://msdn.microsoft.com/smartclient/understanding/" TargetMode="External"/><Relationship Id="rId6" Type="http://schemas.openxmlformats.org/officeDocument/2006/relationships/hyperlink" Target="http://msdn.microsoft.com/library/default.asp?url=/library/en-us/dnnetcomp/html/DeploymentPatterns.asp" TargetMode="External"/><Relationship Id="rId7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68360" y="2060640"/>
            <a:ext cx="6546960" cy="18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eveloping for the Compact Framework with C#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268000" y="4076280"/>
            <a:ext cx="6543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im Co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bdee Lt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260440" y="1125360"/>
            <a:ext cx="5618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ssion Code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&lt;Your session code goes her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ack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#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ocketPC Ver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atest is Windows Mobile 2003 Second Edition for PocketP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martphone version different ag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mpact Framework in ROM on PPC 2003 devic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F installable on PPC 2002 and 2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Check with device manufacturers thou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0560" y="256500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Arial"/>
              </a:rPr>
              <a:t>Development Guidelin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599760" y="1271160"/>
            <a:ext cx="8142120" cy="325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19960" indent="-219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he screen is smal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51880" indent="-2224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176x220 to 640x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48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0 pix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51880" indent="-2224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Similar physical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51880" indent="-2224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Can’t display much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51880" indent="-2224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Can take it pretty much anyw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9960" indent="-219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Not suited to long tas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9960" indent="-219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Not suited to exploring large amounts of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9960" indent="0">
              <a:spcBef>
                <a:spcPts val="799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Appropriate Applic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Appropriate Applications -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786800" cy="8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This is Word running in a Palm-sized scre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3276720" y="2421000"/>
            <a:ext cx="152388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Appropriate Applications -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99760" y="1271520"/>
            <a:ext cx="8142120" cy="49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8840" indent="-258840"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Data entry, particularly text entry, is s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9440" indent="-262080">
              <a:spcBef>
                <a:spcPts val="150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Design the UI to minimise text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9440" indent="-262080">
              <a:spcBef>
                <a:spcPts val="150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Transfer data from a PC or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9440" indent="-262080">
              <a:spcBef>
                <a:spcPts val="150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Use extra hardware for input, e.g. barcode scanners, keyboards, digital camer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8840" indent="-258840"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latively s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low processors (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specially 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on SmartPhon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9440" indent="-262080">
              <a:spcBef>
                <a:spcPts val="150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Offload intensive processing to a 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8840" indent="-258840"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Limited stor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ppropriate Applications -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Remember the usage patte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Apps should be small and f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They don’t have to do everyt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Metaphors are differ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Single clicks </a:t>
            </a:r>
            <a:r>
              <a:rPr b="0" i="1" lang="en-AU" sz="28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used for selection in grids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No double cli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No right mouse button (have tap and hol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SmartPhones may not be able to use some UI elements like butt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DA</a:t>
            </a: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 Programming Tas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99760" y="1271160"/>
            <a:ext cx="8142120" cy="46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8840" indent="-25884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DA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49440" indent="-262080">
              <a:spcBef>
                <a:spcPts val="1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xecutable, either native or requiring a runtime library (eg .NET C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49120">
              <a:spcBef>
                <a:spcPts val="150"/>
              </a:spcBef>
              <a:buClr>
                <a:srgbClr val="000000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eed to have data on the P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9440" indent="-262080">
              <a:spcBef>
                <a:spcPts val="1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rowser based (eg IntraWeb, ASP.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49120">
              <a:spcBef>
                <a:spcPts val="150"/>
              </a:spcBef>
              <a:buClr>
                <a:srgbClr val="000000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sually 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49120">
              <a:spcBef>
                <a:spcPts val="150"/>
              </a:spcBef>
              <a:buClr>
                <a:srgbClr val="000000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49120">
              <a:spcBef>
                <a:spcPts val="150"/>
              </a:spcBef>
              <a:buClr>
                <a:srgbClr val="000000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eb clipping (eg PQAs on Palm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49120">
              <a:spcBef>
                <a:spcPts val="150"/>
              </a:spcBef>
              <a:buClr>
                <a:srgbClr val="000000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eeds a connection to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DA Programming Tasks -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esktop / server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ata transf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ctiveSyn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ther meth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DA is an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extension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of the deskt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ocketPC UI Guidel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99760" y="1271160"/>
            <a:ext cx="8142120" cy="48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8840" indent="-258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Very similar to PalmOS guidel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49440" indent="-262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ven PPC developers should read “Zen of Palm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8840" indent="-258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Vary somewhat for mobile ph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8840" indent="-258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hould </a:t>
            </a:r>
            <a:r>
              <a:rPr b="1" i="1" lang="en-GB" sz="3200" spc="-1" strike="noStrike">
                <a:solidFill>
                  <a:srgbClr val="ff0000"/>
                </a:solidFill>
                <a:latin typeface="Arial"/>
              </a:rPr>
              <a:t>no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share UI code with a desktop appl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49440" indent="-262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DAs are not little laptop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ocketPC UI Guidelines -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terface should be simple and cl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esign for perform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lobalisation and localis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nsistent within app and with other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llow usability guidel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DA feat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luence on appl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 interface guidel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 syncing and transf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ps for young play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ocketPC UI Guidelines -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99760" y="1271160"/>
            <a:ext cx="814212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55960" indent="-255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se auto-sa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5960" indent="-255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st important information should be in the main 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5960" indent="-255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pport the “Today” screen when appropri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5960" indent="-255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alm guidelines that are usef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42600" indent="-259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5 minute t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2600" indent="-259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Throw away features that are hardly ever u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Examples – Torch, Mirror, Sublimin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mportant UI po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hould not normally close main form (applic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ormal vs maximised 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ifferent sorts of timers. On a form use System.Windows.Forms.Timer, not System.Threading.Tim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ystem.Timers namespace not in C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Example - EmbeddedFor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mportant UI po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ormal form display can cause unpleasant flickering, so embed forms inst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isplay of Close vs OK button on 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mplementing a form’s Activated and Deactivate event handl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rmControll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e of reflection to create 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Example – EmbeddedForm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ntrol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nly contains one butt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inimize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rue displays minimise button (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alse display close button (O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ximize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ot applic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ocketPC</a:t>
            </a: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UI El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99760" y="1271160"/>
            <a:ext cx="3994200" cy="455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8840" indent="-258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Checkbox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8840" indent="-258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bo box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8840" indent="-258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mand butt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8840" indent="-258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ate pickers (not C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8840" indent="-258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ea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8840" indent="-258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orizontal lines (not C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8840" indent="-258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yperlin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8840" indent="-258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ab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746240" y="1271520"/>
            <a:ext cx="3995640" cy="439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8840" indent="-258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List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box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8840" indent="-258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istvie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8840" indent="-258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enu bars and butt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8840" indent="-258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en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8840" indent="-258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ption (radio) butt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8840" indent="-258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a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8840" indent="-258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opup men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8840" indent="-258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gress b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ocketPC</a:t>
            </a: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UI Elements -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3994200" cy="40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8840" indent="-258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croll b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8840" indent="-258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li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8840" indent="-258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pin edit box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8840" indent="-258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plit buttons (they have an attached men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8840" indent="-258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tatus and tool b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8840" indent="-258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abs (at bottom of scree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42920" y="1486080"/>
            <a:ext cx="403884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8840" indent="-258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xt box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8840" indent="-258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ime pickers (not C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8840" indent="-258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ree vie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8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8840" indent="-258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ata Grid (C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8840" indent="-258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imers (C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8840" indent="-258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put Panel (C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ocketPC UI Elements -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an create new components, both visual and nonvis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ample of creating managed datetime picker is here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http://tinyurl.com/6d9w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360" y="213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Arial"/>
              </a:rPr>
              <a:t>Data Storage Option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ocketPC Data Stor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99760" y="1271520"/>
            <a:ext cx="814212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8840" indent="-258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as a file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49440" indent="-262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o drive letters, use \ for ro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9440" indent="-262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rds are called “Storage Card”, “Storage Card 2”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8840" indent="-258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an read and write flat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8840" indent="-258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gist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ocketPC Data Storage -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XML parser avail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XML serialisation not available in PPC 20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atasets do serialise to X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eb services suppor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indows CE databases (a bit like Palm databas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No CF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genda -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ll in context of .NET Compact Frame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ssume knowledge of C#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Use Visual Studio for all example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ther tools don’t have designer and/or debugger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lphi for .NET compiler producing CF code in the la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ttp://blogs.borland.com/dcc/archive/2005/03/18/3214.asp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ocketPC Data Storage -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39640" y="1341360"/>
            <a:ext cx="814248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58840" indent="-258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QL Server 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49440" indent="-262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e RDA or SQL Server replication to talk to SQL Server data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9440" indent="-262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nly talks to SQL Server (to my knowle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9440" indent="-262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flict resolution not available via R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9440" indent="-262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quires I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8840" indent="-258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an connect directly to SQL Server but requires a conn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QL Server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ow to set up SQL ServerCE replication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http://tinyurl.com/3t7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ocketPC Data Storage -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DO.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rialises to XML, SQL Server, SQL Serve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ghtweight and f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n create databases on the fly, run queries e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n have relationships between datas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 typed datasets (schema used at design time in 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signed to run disconnec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imilar to TClientDataset in Delph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Example – BeerTas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mportant UI po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e of menus vs butt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n’t have metaphor of selecting an item. Tapping once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doe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someth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ide deleting on the edit 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ap and ho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Keep edit controls above input pa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se of ADO.NET for local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ocketPC Data Transf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tive Syn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imited to syncing/transferring whol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n be done in Delphi or .NET using TMS Software’s CE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eb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ow level com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ock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ocketPC Data Transfer -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ample of building an app that talks to a web service and also works with offline data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http://tinyurl.com/4tyw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Arial"/>
              </a:rPr>
              <a:t>Problems and Pitfall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roblems and Pitfalls -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Keeping a desktop mindset when developing PDA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y are NOT little lapto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cessors, memory, screen real estate are all quite limi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pps should be very respons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ort out the PDA to PC/server connectivity ear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roblems and Pitfalls -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esting tools and emulators a little cru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ven so, develop and test on emulators fir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st on real devices l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erformance can only really be measured on a real de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atch out for different resolutions, device capabilities as requi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rap for Unwary Present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o use the emulator you need a network card and an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activ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conn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f you don’t have both (e.g. if you are giving a conference session) install the loopback adap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http://support.microsoft.com/support/kb/articles/Q236/8/69.AS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Arial"/>
              </a:rPr>
              <a:t>PDA Technolog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inishing Touch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o get an application to appear on the start menu, add a shortcut under \Windows\Start Menu\Programs  (or use the config file in install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o make a Today screen plugin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http://tinyurl.com/66c9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issing Framework Pie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XML serialisation limi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mo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M inter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SP.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ystem.Configu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ystem.CodeD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in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F v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F v2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ttp://msdn2.microsoft.com/library/ws1c3xeh.asp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XML Ser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etter debugging and designer support outside V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QL Server Mobile Ed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ttp://msdn2.microsoft.com/library/ayee3tzx.asp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ocketPC Development Too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99760" y="1271160"/>
            <a:ext cx="8142120" cy="46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55960" indent="-255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VB and eVC+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2600" indent="-259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VB not supported by PPC 20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2600" indent="-259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n only use eVC++ SP2 for native apps on PPC 20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5960" indent="-255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Very strong pressure to use .NET C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2600" indent="-259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NET CF in ROM from PPC 2003 onw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5960" indent="-255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Visual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5960" indent="-255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ppForge and NS BASIC on both PalmOS and PP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2600" indent="-259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t very portable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hoosing a dev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99760" y="1271520"/>
            <a:ext cx="814212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8840" indent="-258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art with hardware requiremen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8840" indent="-258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attery li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49440" indent="-262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no screens b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9440" indent="-262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placeable batteries (eg my iPaq 221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8840" indent="-258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ther hardware/addons like barcode scanners, ruggedisation, GPS systems et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8840" indent="-258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mpare like with like (eg actual RAM vs available RA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8840" indent="0">
              <a:spcBef>
                <a:spcPts val="799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Useful Li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370160"/>
                <a:tab algn="l" pos="2739960"/>
                <a:tab algn="l" pos="4110120"/>
                <a:tab algn="l" pos="5479920"/>
                <a:tab algn="l" pos="6850080"/>
                <a:tab algn="l" pos="8220240"/>
                <a:tab algn="l" pos="9590040"/>
                <a:tab algn="l" pos="10960200"/>
              </a:tabLst>
            </a:pPr>
            <a:r>
              <a:rPr b="0" lang="en-GB" sz="1400" spc="-1" strike="noStrike" u="sng">
                <a:solidFill>
                  <a:srgbClr val="000000"/>
                </a:solidFill>
                <a:uFillTx/>
                <a:latin typeface="Arial"/>
              </a:rPr>
              <a:t>PocketPC, Compact Framework, Mobile Devi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370160"/>
                <a:tab algn="l" pos="2739960"/>
                <a:tab algn="l" pos="4110120"/>
                <a:tab algn="l" pos="5479920"/>
                <a:tab algn="l" pos="6850080"/>
                <a:tab algn="l" pos="8220240"/>
                <a:tab algn="l" pos="9590040"/>
                <a:tab algn="l" pos="10960200"/>
              </a:tabLst>
            </a:pPr>
            <a:r>
              <a:rPr b="0" lang="en-GB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msdn.microsoft.com/mobility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370160"/>
                <a:tab algn="l" pos="2739960"/>
                <a:tab algn="l" pos="4110120"/>
                <a:tab algn="l" pos="5479920"/>
                <a:tab algn="l" pos="6850080"/>
                <a:tab algn="l" pos="8220240"/>
                <a:tab algn="l" pos="9590040"/>
                <a:tab algn="l" pos="10960200"/>
              </a:tabLst>
            </a:pPr>
            <a:r>
              <a:rPr b="0" lang="en-GB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microsoft.com/windowsmobile/default.msp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370160"/>
                <a:tab algn="l" pos="2739960"/>
                <a:tab algn="l" pos="4110120"/>
                <a:tab algn="l" pos="5479920"/>
                <a:tab algn="l" pos="6850080"/>
                <a:tab algn="l" pos="8220240"/>
                <a:tab algn="l" pos="9590040"/>
                <a:tab algn="l" pos="10960200"/>
              </a:tabLst>
            </a:pPr>
            <a:r>
              <a:rPr b="0" lang="en-GB" sz="1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msdn.microsoft.com/mobility/windowsmobile/default.asp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370160"/>
                <a:tab algn="l" pos="2739960"/>
                <a:tab algn="l" pos="4110120"/>
                <a:tab algn="l" pos="5479920"/>
                <a:tab algn="l" pos="6850080"/>
                <a:tab algn="l" pos="8220240"/>
                <a:tab algn="l" pos="9590040"/>
                <a:tab algn="l" pos="10960200"/>
              </a:tabLst>
            </a:pPr>
            <a:r>
              <a:rPr b="0" lang="en-GB" sz="1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msdn.microsoft.com/smartclient/understanding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370160"/>
                <a:tab algn="l" pos="2739960"/>
                <a:tab algn="l" pos="4110120"/>
                <a:tab algn="l" pos="5479920"/>
                <a:tab algn="l" pos="6850080"/>
                <a:tab algn="l" pos="8220240"/>
                <a:tab algn="l" pos="9590040"/>
                <a:tab algn="l" pos="10960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370160"/>
                <a:tab algn="l" pos="2739960"/>
                <a:tab algn="l" pos="4110120"/>
                <a:tab algn="l" pos="5479920"/>
                <a:tab algn="l" pos="6850080"/>
                <a:tab algn="l" pos="8220240"/>
                <a:tab algn="l" pos="9590040"/>
                <a:tab algn="l" pos="10960200"/>
              </a:tabLst>
            </a:pPr>
            <a:r>
              <a:rPr b="0" lang="en-GB" sz="1400" spc="-1" strike="noStrike" u="sng">
                <a:solidFill>
                  <a:srgbClr val="000000"/>
                </a:solidFill>
                <a:uFillTx/>
                <a:latin typeface="Arial"/>
              </a:rPr>
              <a:t>Deploying Applic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370160"/>
                <a:tab algn="l" pos="2739960"/>
                <a:tab algn="l" pos="4110120"/>
                <a:tab algn="l" pos="5479920"/>
                <a:tab algn="l" pos="6850080"/>
                <a:tab algn="l" pos="8220240"/>
                <a:tab algn="l" pos="9590040"/>
                <a:tab algn="l" pos="10960200"/>
              </a:tabLst>
            </a:pPr>
            <a:r>
              <a:rPr b="0" lang="en-GB" sz="14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http://msdn.microsoft.com/library/default.asp?url=/library/en-us/dnnetcomp/html/DeploymentPatterns.as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370160"/>
                <a:tab algn="l" pos="2739960"/>
                <a:tab algn="l" pos="4110120"/>
                <a:tab algn="l" pos="5479920"/>
                <a:tab algn="l" pos="6850080"/>
                <a:tab algn="l" pos="8220240"/>
                <a:tab algn="l" pos="9590040"/>
                <a:tab algn="l" pos="10960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370160"/>
                <a:tab algn="l" pos="2739960"/>
                <a:tab algn="l" pos="4110120"/>
                <a:tab algn="l" pos="5479920"/>
                <a:tab algn="l" pos="6850080"/>
                <a:tab algn="l" pos="8220240"/>
                <a:tab algn="l" pos="9590040"/>
                <a:tab algn="l" pos="10960200"/>
              </a:tabLst>
            </a:pPr>
            <a:r>
              <a:rPr b="0" lang="en-GB" sz="1400" spc="-1" strike="noStrike" u="sng">
                <a:solidFill>
                  <a:srgbClr val="000000"/>
                </a:solidFill>
                <a:uFillTx/>
                <a:latin typeface="Arial"/>
              </a:rPr>
              <a:t>T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370160"/>
                <a:tab algn="l" pos="2739960"/>
                <a:tab algn="l" pos="4110120"/>
                <a:tab algn="l" pos="5479920"/>
                <a:tab algn="l" pos="6850080"/>
                <a:tab algn="l" pos="8220240"/>
                <a:tab algn="l" pos="9590040"/>
                <a:tab algn="l" pos="109602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http://www.microsoft.com/sql/CE/default.as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370160"/>
                <a:tab algn="l" pos="2739960"/>
                <a:tab algn="l" pos="4110120"/>
                <a:tab algn="l" pos="5479920"/>
                <a:tab algn="l" pos="6850080"/>
                <a:tab algn="l" pos="8220240"/>
                <a:tab algn="l" pos="9590040"/>
                <a:tab algn="l" pos="109602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http://msdn.microsoft.com/mobility/downloads/default.asp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370160"/>
                <a:tab algn="l" pos="2739960"/>
                <a:tab algn="l" pos="4110120"/>
                <a:tab algn="l" pos="5479920"/>
                <a:tab algn="l" pos="6850080"/>
                <a:tab algn="l" pos="8220240"/>
                <a:tab algn="l" pos="9590040"/>
                <a:tab algn="l" pos="10960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370160"/>
                <a:tab algn="l" pos="2739960"/>
                <a:tab algn="l" pos="4110120"/>
                <a:tab algn="l" pos="5479920"/>
                <a:tab algn="l" pos="6850080"/>
                <a:tab algn="l" pos="8220240"/>
                <a:tab algn="l" pos="9590040"/>
                <a:tab algn="l" pos="10960200"/>
              </a:tabLst>
            </a:pPr>
            <a:r>
              <a:rPr b="0" lang="en-GB" sz="1400" spc="-1" strike="noStrike" u="sng">
                <a:solidFill>
                  <a:srgbClr val="000000"/>
                </a:solidFill>
                <a:uFillTx/>
                <a:latin typeface="Arial"/>
              </a:rPr>
              <a:t>Websi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370160"/>
                <a:tab algn="l" pos="2739960"/>
                <a:tab algn="l" pos="4110120"/>
                <a:tab algn="l" pos="5479920"/>
                <a:tab algn="l" pos="6850080"/>
                <a:tab algn="l" pos="8220240"/>
                <a:tab algn="l" pos="9590040"/>
                <a:tab algn="l" pos="109602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http://www.gotdotne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370160"/>
                <a:tab algn="l" pos="2739960"/>
                <a:tab algn="l" pos="4110120"/>
                <a:tab algn="l" pos="5479920"/>
                <a:tab algn="l" pos="6850080"/>
                <a:tab algn="l" pos="8220240"/>
                <a:tab algn="l" pos="9590040"/>
                <a:tab algn="l" pos="10960200"/>
              </a:tabLst>
            </a:pPr>
            <a:r>
              <a:rPr b="0" lang="en-GB" sz="1400" spc="-1" strike="noStrike" u="sng">
                <a:solidFill>
                  <a:srgbClr val="000000"/>
                </a:solidFill>
                <a:uFillTx/>
                <a:latin typeface="Arial"/>
              </a:rPr>
              <a:t>http://www.codeprojec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370160"/>
                <a:tab algn="l" pos="2739960"/>
                <a:tab algn="l" pos="4110120"/>
                <a:tab algn="l" pos="5479920"/>
                <a:tab algn="l" pos="6850080"/>
                <a:tab algn="l" pos="8220240"/>
                <a:tab algn="l" pos="9590040"/>
                <a:tab algn="l" pos="10960200"/>
              </a:tabLst>
            </a:pPr>
            <a:r>
              <a:rPr b="0" lang="en-GB" sz="1400" spc="-1" strike="noStrike" u="sng">
                <a:solidFill>
                  <a:srgbClr val="000000"/>
                </a:solidFill>
                <a:uFillTx/>
                <a:latin typeface="Arial"/>
              </a:rPr>
              <a:t>http://www.devbuzz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1370160"/>
                <a:tab algn="l" pos="2739960"/>
                <a:tab algn="l" pos="4110120"/>
                <a:tab algn="l" pos="5479920"/>
                <a:tab algn="l" pos="6850080"/>
                <a:tab algn="l" pos="8220240"/>
                <a:tab algn="l" pos="9590040"/>
                <a:tab algn="l" pos="10960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1370160"/>
                <a:tab algn="l" pos="2739960"/>
                <a:tab algn="l" pos="4110120"/>
                <a:tab algn="l" pos="5479920"/>
                <a:tab algn="l" pos="6850080"/>
                <a:tab algn="l" pos="8220240"/>
                <a:tab algn="l" pos="9590040"/>
                <a:tab algn="l" pos="10960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1370160"/>
                <a:tab algn="l" pos="2739960"/>
                <a:tab algn="l" pos="4110120"/>
                <a:tab algn="l" pos="5479920"/>
                <a:tab algn="l" pos="6850080"/>
                <a:tab algn="l" pos="8220240"/>
                <a:tab algn="l" pos="9590040"/>
                <a:tab algn="l" pos="10960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valuatieformuli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68360" y="1773360"/>
            <a:ext cx="5545080" cy="21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ul je evaluatieformulier in en maak kans op een van de prachtige prijzen!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ssion Cod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&lt;Session Code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599760" y="1444320"/>
            <a:ext cx="8142120" cy="455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8840" indent="-258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Personal Digital Assis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49440" indent="-262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Small, l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9440" indent="-262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Third-party software avail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9440" indent="-262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Use a stylus instead of a keybo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9440" indent="-262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Instant 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9440" indent="-262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latively limited CPU and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9440" indent="-262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Hardware add-ons, memory, cameras, keyboards, GPS,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at is a PD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"/>
          <p:cNvGraphicFramePr/>
          <p:nvPr/>
        </p:nvGraphicFramePr>
        <p:xfrm>
          <a:off x="838080" y="1600200"/>
          <a:ext cx="7332840" cy="3984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38080" y="1600200"/>
                    <a:ext cx="7332840" cy="398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1403280" y="5661720"/>
            <a:ext cx="5913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AU" sz="1600" spc="-1" strike="noStrike">
                <a:solidFill>
                  <a:srgbClr val="c1c4dd"/>
                </a:solidFill>
                <a:latin typeface="Arial"/>
              </a:rPr>
              <a:t>Source: Palm Inc user survey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Usage Patter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Communic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99760" y="1271520"/>
            <a:ext cx="8142120" cy="29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12040" indent="-212040"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rial / US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2040" indent="-212040"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fra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2040" indent="-212040"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CP/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2040" indent="-212040"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luetoo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2040" indent="-212040"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iF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2040" indent="-212040"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SM and other mobile phone net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2040" indent="-212040"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prietary networks like Palm.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32440" indent="-214560">
              <a:spcBef>
                <a:spcPts val="150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stricted to North Amer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ommunications -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99760" y="1271520"/>
            <a:ext cx="814212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8840" indent="-258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ransfer and syncing of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49440" indent="-262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ually against a PC data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9440" indent="-262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n be server, web service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8840" indent="-258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ive information transf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49440" indent="-262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ually to a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8840" indent="-258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etween PD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8840" indent="-258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ther de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49440" indent="-262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inters, phones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ocketPC Ver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99760" y="1271520"/>
            <a:ext cx="814212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8840" indent="-258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ny versions (and names) of WinCE and PocketP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8840" indent="-258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efore PPC 2002 ran on many devices with different processors and capabi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9440" indent="-262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eeded to test applications on all device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8840" indent="-258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PC 2002 and later runs only on ARM, and has a defined set of hard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9T10:21:07Z</dcterms:created>
  <dc:creator>Arno van Jaarsveld</dc:creator>
  <dc:description/>
  <dc:language>en-US</dc:language>
  <cp:lastModifiedBy>Jim Cooper</cp:lastModifiedBy>
  <dcterms:modified xsi:type="dcterms:W3CDTF">2005-04-13T09:19:14Z</dcterms:modified>
  <cp:revision>66</cp:revision>
  <dc:subject/>
  <dc:title>Slide 1</dc:title>
</cp:coreProperties>
</file>