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99760" y="1271520"/>
            <a:ext cx="8142120" cy="43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88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lnSpc>
                <a:spcPct val="90000"/>
              </a:lnSpc>
              <a:spcBef>
                <a:spcPts val="14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415880" indent="-260280">
              <a:lnSpc>
                <a:spcPct val="90000"/>
              </a:lnSpc>
              <a:spcBef>
                <a:spcPts val="1488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805040" indent="-26028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805040" indent="-260280">
              <a:lnSpc>
                <a:spcPct val="90000"/>
              </a:lnSpc>
              <a:spcBef>
                <a:spcPts val="1488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805040" indent="-260280">
              <a:lnSpc>
                <a:spcPct val="90000"/>
              </a:lnSpc>
              <a:spcBef>
                <a:spcPts val="1488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9280" y="6093000"/>
            <a:ext cx="1217880" cy="5634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67640" y="6021360"/>
            <a:ext cx="122400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11280" y="1125360"/>
            <a:ext cx="8137440" cy="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348000" y="3936960"/>
            <a:ext cx="2521080" cy="116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2997360"/>
            <a:ext cx="8218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5f5f5f"/>
                </a:solidFill>
                <a:latin typeface="Century Gothic"/>
              </a:rPr>
              <a:t>Jim Coo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63920" y="51609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19a"/>
                </a:solidFill>
                <a:latin typeface="Century Gothic"/>
              </a:rPr>
              <a:t>www.tabdee.ltd.u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8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39457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9457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5f5f5f"/>
              </a:solidFill>
              <a:latin typeface="Century Gothic"/>
            </a:endParaRPr>
          </a:p>
          <a:p>
            <a:pPr lvl="1" marL="406440" indent="-19080" algn="ctr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 algn="ctr">
              <a:lnSpc>
                <a:spcPct val="90000"/>
              </a:lnSpc>
              <a:spcBef>
                <a:spcPts val="1225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5880" indent="-260280" algn="ctr">
              <a:lnSpc>
                <a:spcPct val="90000"/>
              </a:lnSpc>
              <a:spcBef>
                <a:spcPts val="1225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23920" indent="420840" algn="ctr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6093000"/>
            <a:ext cx="1217880" cy="563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67640" y="6021360"/>
            <a:ext cx="1224000" cy="64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88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400" spc="-1" strike="noStrike">
                <a:solidFill>
                  <a:srgbClr val="39457f"/>
                </a:solidFill>
                <a:latin typeface="Century Gothic"/>
              </a:rPr>
              <a:t>Design Patterns</a:t>
            </a:r>
            <a:endParaRPr b="1" lang="en-US" sz="4400" spc="-1" strike="noStrike">
              <a:solidFill>
                <a:srgbClr val="39457f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Visitor - 2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6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imilar advantages to Iterator, but is better for more complex object structur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hanging the object structure requires changing the interface to all visitor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sitor best if add operations often, but change object structure rare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Related operations are in one clas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Visitor - 3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8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Often used on object structures created by Composite or Interpreter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terpreter is special case of Composite that deals with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Visitor works on multiple object typ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May break encapsulation of objects being operated 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sitors may need access to object internals you would rather h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Visitor - 4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6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tiOPF is a bad example of the use of Visitor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adds 5 new Visitors for each new Business Object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should only have 5 Visitors, and add a new Visit method to each 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ome implementations of Visitor have an Accepted method but it’s always seemed superfluous to m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Strategy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29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family of algorithms, encapsulate each one, and make them interchangeable. Strategy lets the algorithm vary independently from clients that use it.”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ctr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GoF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Strategy - 2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9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Provide a class with configurable behaviour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Different variations of an algorithm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Hide complexities of algorithm/data from client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Replace lots of if/case statements with Strategy classes (sometimes State is used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Strategy - 3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lients need to be aware of need for different strategi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Usually have a </a:t>
            </a: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class, which stores information used by the algorithm, and calls i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an have default behaviour in the contex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an have more than one algorithm per strategy clas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Template Method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the skeleton of an algorithm in a operation, deferring some steps to subclasses. Template Method lets the subclasses redefine certain steps of an algorithm without changing the algorithm’s structure.”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ctr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GoF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Template - 2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Define structure of an algorithm, and let subclasses change certain aspects of i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If an aspect </a:t>
            </a: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be overridden, make it abstrac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If an aspect </a:t>
            </a: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might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be overridden (a </a:t>
            </a: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hook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), make it virtua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uch a fundamental pattern, you have almost certainly used i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Design pattern relationships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You normally need to use several patterns together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r instance, we needed to use Factory Method to solve a circular reference issue with Visi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Using a pattern to solve part of a  problem often changes the nature of the rest of the problem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Choosing patterns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50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Use the inside covers of GoF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ront gives a short description of e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ck shows how they are rela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Each pattern has a “Related Patterns” sec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Often a choice between patter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Ask for advice – you’ll get more than you can use!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Topics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Examine two pairs of related patter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erator and Visi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mplate and Strate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Look at how they relate to other patter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Discuss choosing patter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22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een a few patterns implemente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Feel free to implement them differently if you need t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A pattern is not co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02760" y="2530440"/>
            <a:ext cx="299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9457f"/>
                </a:solidFill>
                <a:latin typeface="Century Gothic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005560" y="3332160"/>
            <a:ext cx="5139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f5f5f"/>
                </a:solidFill>
                <a:latin typeface="Century Gothic"/>
              </a:rPr>
              <a:t>You can contact me further 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f5f5f"/>
                </a:solidFill>
                <a:latin typeface="Century Gothic"/>
              </a:rPr>
              <a:t>jcooper@tabdee.ltd.u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2133720"/>
            <a:ext cx="27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9457f"/>
                </a:solidFill>
                <a:latin typeface="Century Gothic"/>
              </a:rPr>
              <a:t>Thank yo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GoF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27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eminal book is GoF (Gang of Four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Design Patterns: Elements of Reusable Object-Oriented Software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amma, Helm, Johnson &amp; Vlissi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GoF - 2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8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ommon complaint is that book is “too abstract”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’s supposed to be. Patterns are by definition abstrac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pattern is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 code templ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However, it can be a difficult read in plac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Some method names are silly, but changing them is risk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11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Will consider a fictional compan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ctr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Distillers and Brewers Group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971800"/>
            <a:ext cx="81424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That’s </a:t>
            </a: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“Group”,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with a </a:t>
            </a: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“G”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962520"/>
            <a:ext cx="814248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This group has booze-producing plants, which may have departments and/or employees. The departments also have employe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Iterator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25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way to access the elements of an aggregate object sequentially without exposing its underlying representation”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ctr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</a:t>
            </a:r>
            <a:r>
              <a:rPr b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GoF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Iterator - 2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3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An iterator is a construct that traverses a list (or </a:t>
            </a: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aggregate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t having traversal operations in the list makes its interface smal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 have different types of travers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 add operations without changing the list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Coupling between list and iterator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Iterator - 3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Iterator is not the most useful pattern, and most of the time a for or while loop will do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r things like filtered traversal, an iterator is the easiest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39457f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Iterator has trouble when the list is modified during traversal. Have this problem in a for loop as well, of cours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4160" y="523080"/>
            <a:ext cx="81421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5f5f5f"/>
                </a:solidFill>
                <a:latin typeface="Arial"/>
              </a:rPr>
              <a:t>Visitor</a:t>
            </a:r>
            <a:endParaRPr b="1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 an operation to be performed on the elements of an object structure. Visitor lets you define a new operation without changing the classes of the elements on which it operates.”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58840" indent="0" algn="ctr">
              <a:lnSpc>
                <a:spcPct val="90000"/>
              </a:lnSpc>
              <a:spcBef>
                <a:spcPts val="14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</a:t>
            </a:r>
            <a:r>
              <a:rPr b="1" i="1" lang="en-GB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GoF</a:t>
            </a:r>
            <a:r>
              <a:rPr b="1" lang="en-A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5:27:08Z</dcterms:created>
  <dc:creator>Jim Cooper</dc:creator>
  <dc:description/>
  <dc:language>en-US</dc:language>
  <cp:lastModifiedBy>Jim Cooper</cp:lastModifiedBy>
  <cp:lastPrinted>1998-03-12T04:44:47Z</cp:lastPrinted>
  <dcterms:modified xsi:type="dcterms:W3CDTF">2003-05-19T11:33:53Z</dcterms:modified>
  <cp:revision>49</cp:revision>
  <dc:subject/>
  <dc:title>Slide 1</dc:title>
</cp:coreProperties>
</file>