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9760" y="1271520"/>
            <a:ext cx="814212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88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4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>
              <a:lnSpc>
                <a:spcPct val="90000"/>
              </a:lnSpc>
              <a:spcBef>
                <a:spcPts val="1488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805040" indent="-26028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1217880" cy="563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67640" y="6021360"/>
            <a:ext cx="122400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11280" y="1125360"/>
            <a:ext cx="813744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348000" y="3936960"/>
            <a:ext cx="2521080" cy="116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997360"/>
            <a:ext cx="8218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entury Gothic"/>
              </a:rPr>
              <a:t>Jim Co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63920" y="51609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19a"/>
                </a:solidFill>
                <a:latin typeface="Century Gothic"/>
              </a:rPr>
              <a:t>www.tabdee.ltd.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8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39457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5f5f5f"/>
              </a:solidFill>
              <a:latin typeface="Century Gothic"/>
            </a:endParaRPr>
          </a:p>
          <a:p>
            <a:pPr lvl="1" marL="406440" indent="-19080" algn="ctr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 algn="ctr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 algn="ctr">
              <a:lnSpc>
                <a:spcPct val="90000"/>
              </a:lnSpc>
              <a:spcBef>
                <a:spcPts val="1225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23920" indent="420840" algn="ctr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1217880" cy="56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67640" y="6021360"/>
            <a:ext cx="1224000" cy="64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sdn.microsoft.com/msdnmag/issues/05/04/NGen/default.aspx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unit.org/" TargetMode="External"/><Relationship Id="rId2" Type="http://schemas.openxmlformats.org/officeDocument/2006/relationships/hyperlink" Target="http://www.nunit.org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isual-paradigm.com/" TargetMode="External"/><Relationship Id="rId2" Type="http://schemas.openxmlformats.org/officeDocument/2006/relationships/hyperlink" Target="http://nant.sourceforge.net/" TargetMode="External"/><Relationship Id="rId3" Type="http://schemas.openxmlformats.org/officeDocument/2006/relationships/hyperlink" Target="http://ndoc.sourceforge.net/" TargetMode="External"/><Relationship Id="rId4" Type="http://schemas.openxmlformats.org/officeDocument/2006/relationships/hyperlink" Target="http://ndoc.sourceforge.net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crosoft.com/downloads" TargetMode="External"/><Relationship Id="rId2" Type="http://schemas.openxmlformats.org/officeDocument/2006/relationships/hyperlink" Target="http://ncover.sourceforge.net/" TargetMode="External"/><Relationship Id="rId3" Type="http://schemas.openxmlformats.org/officeDocument/2006/relationships/hyperlink" Target="http://ncover.sourceforge.net/" TargetMode="External"/><Relationship Id="rId4" Type="http://schemas.openxmlformats.org/officeDocument/2006/relationships/hyperlink" Target="http://ncover.sourceforge.net/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egex.osherove.com/" TargetMode="External"/><Relationship Id="rId2" Type="http://schemas.openxmlformats.org/officeDocument/2006/relationships/hyperlink" Target="http://www.regexlib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ricjsmith.net/codesmith" TargetMode="External"/><Relationship Id="rId2" Type="http://schemas.openxmlformats.org/officeDocument/2006/relationships/hyperlink" Target="http://www.ericjsmith.net/codesmith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harptoolbox.com/Default.aspx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isto.com/roeder/dotnet" TargetMode="External"/><Relationship Id="rId2" Type="http://schemas.openxmlformats.org/officeDocument/2006/relationships/hyperlink" Target="http://www.aisto.com/roeder/dotnet" TargetMode="External"/><Relationship Id="rId3" Type="http://schemas.openxmlformats.org/officeDocument/2006/relationships/hyperlink" Target="http://www.denisbauer.com/NETTools/FileDisassembler.aspx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tdotnet.com/team/fxcop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csharpcode.net/OpenSource/SD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p.net/WebMatrix" TargetMode="External"/><Relationship Id="rId2" Type="http://schemas.openxmlformats.org/officeDocument/2006/relationships/hyperlink" Target="http://www.asp.net/WebMatrix" TargetMode="External"/><Relationship Id="rId3" Type="http://schemas.openxmlformats.org/officeDocument/2006/relationships/hyperlink" Target="http://www.asp.net/webmatrix/tour/getstarted/intro.aspx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liver.com/dotnet/SnippetCompiler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nticipatingminds.com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8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39457f"/>
                </a:solidFill>
                <a:latin typeface="Century Gothic"/>
              </a:rPr>
              <a:t>Free .NET Tools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Together Community Edition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28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ree version of Together UML tool from Borlan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borland.com/together/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agramming support onl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s UML 2.0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NGen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82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Precompiles assembli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Gen 2 will be better, as will precompile all referenced assemblies in an applic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msdn.microsoft.com/msdnmag/issues/05/04/NGen/default.asp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Gen 2 runs in background as servic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flection supported, and most generics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ight save memor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Unit Testing Framework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63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225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tw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10944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sUnit 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csunit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10944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nit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unit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th integrate into Visual Studio to some degree. NUnit included in Delphi 2005, VS 2005 and SharpDevelo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 attributes to mark tests. Good example of a use of attributes, and much nicer than the way DUnit works which needs code to register the t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Other things I found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ee UML modelling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10944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visual-paradigm.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nt (a build tool) and NDoc (for extracting comments from code), but they’re quite dull, frank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10944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ant.sourceforge.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10944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ndoc.sourceforge.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Other things I found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R Prof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microsoft.com/downlo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k Brian about this 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Cover – a unit testing coverage tool. I haven’t had time to try it out ye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ncover.sourceforge.net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Other things I found - 3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5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he Regulato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regex.osherove.com/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gular expression tes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s library of prebuilt expre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664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egexlib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y Generation – code generator and O/R mapping too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ttp://www.mygenerationsoftware.com/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Other things I found - 4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spresso – regular expression tester with source co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codeproject.com/dotnet/expresso.a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ful for learning RegularExpressions namespa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Perf – like NUnit but for performance test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codeproject.com/gen/design/nperf.a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Other things I found - 5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35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ol that uses templates to automate repetitive programming ta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0724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www.ericjsmith.net/code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define own templates, of cour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had major problems loading a project in VS 2003 (i.e. it wouldn’t) when CodeSmith was installed, so I removed 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Website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16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Useful .NET tools websit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sharptoolbox.com/Default.asp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bsdg.org/2004/12/top-net-developer-tools.s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Useful Messenger Icon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0120" y="1271520"/>
            <a:ext cx="1092240" cy="340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^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1944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0720" y="4653000"/>
            <a:ext cx="5417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ttp://tinyurl.com/5p3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ome are a bit different in Trilli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532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83528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835280" y="3084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1835280" y="37162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348000" y="1268280"/>
            <a:ext cx="109224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[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788000" y="13255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478800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478800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4788000" y="306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4788000" y="3716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39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225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ely not in any way influenced by an article in a MSDN mag. No, no, not at all, I promi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’ll look at a few free tools I’ve come across, or at least heard of, but not necessarily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ll be a loosely structured session requiring audience participation, as I will frequently have no idea what I’m d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require emergency Beer for J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02760" y="2530440"/>
            <a:ext cx="29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457f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05560" y="3332160"/>
            <a:ext cx="5139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Century Gothic"/>
              </a:rPr>
              <a:t>You can contact me further 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Century Gothic"/>
              </a:rPr>
              <a:t>jcooper@tabdee.ltd.u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133720"/>
            <a:ext cx="27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457f"/>
                </a:solidFill>
                <a:latin typeface="Century Gothic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Reflector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55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Lutz Roeder’s .NET Reflecto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www.aisto.com/roeder/dot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s office is across the hall from Anders 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flector File Disassembler Add-i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denisbauer.com/NETTools/FileDisassembler.asp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flector does auto updating - in fact must update, or it stops work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547920"/>
            <a:ext cx="757080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FxCop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29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312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s code for compliance to CLS and other ru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tdotnet.com/team/fxc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st thing is that it hates Hungarian notation. Yes!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re is a Whidbey ver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SharpDevelop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27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4944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icsharpcode.net/OpenSource/SD/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ull .NET 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o coincidence some of it looks like Delphi or V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ull source available under GP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WebMatrix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21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312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www.asp.net/WebMatrix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ree tool from Microsoft for building ASP.NET applic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utorial available online 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asp.net/webmatrix/tour/getstarted/intro.asp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Snippet Compiler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62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36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liver.com/dotnet/SnippetCompiler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7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mpiles and runs single or multiple C#, VB.NET and ASP.NET snippets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7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ptionally builds WinForm EXEs, console EXEs or DLLs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7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e user can store a library of templates.  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7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isplays compile errors and warning, including wavey lines in editor with error/warning tooltips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7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ntelliSense for static members and method signatures, as well as constructor signatures. 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7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mports VS.NET projects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7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nveniently sits in the notification area waiting to be useful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7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xports snippets to HTML/RTF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devMetric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33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de metrics too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10944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anticipatingminds.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uns from command line, or more usefully, from the Tools menu in Visual Studi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devAdvantage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orks a bit like FxCop, but can apply refactorings to fix the issu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anticipatingminds.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ntegrates into Visual Studi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14:20:52Z</dcterms:created>
  <dc:creator>Jim Cooper</dc:creator>
  <dc:description/>
  <dc:language>en-US</dc:language>
  <cp:lastModifiedBy>Jim Cooper</cp:lastModifiedBy>
  <cp:lastPrinted>1998-03-12T04:44:47Z</cp:lastPrinted>
  <dcterms:modified xsi:type="dcterms:W3CDTF">2005-02-27T15:39:50Z</dcterms:modified>
  <cp:revision>41</cp:revision>
  <dc:subject/>
  <dc:title>Free .NET Tools</dc:title>
</cp:coreProperties>
</file>