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99760" y="1271520"/>
            <a:ext cx="8142120" cy="43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88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49120">
              <a:lnSpc>
                <a:spcPct val="90000"/>
              </a:lnSpc>
              <a:spcBef>
                <a:spcPts val="14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415880" indent="-260280">
              <a:lnSpc>
                <a:spcPct val="90000"/>
              </a:lnSpc>
              <a:spcBef>
                <a:spcPts val="1488"/>
              </a:spcBef>
              <a:buClr>
                <a:srgbClr val="33cc33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1805040" indent="-260280">
              <a:lnSpc>
                <a:spcPct val="90000"/>
              </a:lnSpc>
              <a:spcBef>
                <a:spcPts val="1488"/>
              </a:spcBef>
              <a:buClr>
                <a:srgbClr val="0095e8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1805040" indent="-260280">
              <a:lnSpc>
                <a:spcPct val="90000"/>
              </a:lnSpc>
              <a:spcBef>
                <a:spcPts val="1488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1805040" indent="-260280">
              <a:lnSpc>
                <a:spcPct val="90000"/>
              </a:lnSpc>
              <a:spcBef>
                <a:spcPts val="1488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11280" y="1125360"/>
            <a:ext cx="8137440" cy="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08000" y="5950080"/>
            <a:ext cx="76500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457200" y="2666880"/>
            <a:ext cx="82184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5f5f5f"/>
                </a:solidFill>
                <a:latin typeface="Century Gothic"/>
              </a:rPr>
              <a:t>Jim Coo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057400" y="4952880"/>
            <a:ext cx="500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19a"/>
                </a:solidFill>
                <a:latin typeface="Century Gothic"/>
              </a:rPr>
              <a:t>UK Borland User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19a"/>
                </a:solidFill>
                <a:latin typeface="Century Gothic"/>
              </a:rPr>
              <a:t>www.ukbug.co.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400" spc="-1" strike="noStrike">
                <a:solidFill>
                  <a:srgbClr val="39457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9457f"/>
              </a:solidFill>
              <a:latin typeface="Century Gothic"/>
            </a:endParaRPr>
          </a:p>
        </p:txBody>
      </p:sp>
      <p:pic>
        <p:nvPicPr>
          <p:cNvPr id="43" name="ladybird" descr=""/>
          <p:cNvPicPr/>
          <p:nvPr/>
        </p:nvPicPr>
        <p:blipFill>
          <a:blip r:embed="rId2"/>
          <a:stretch/>
        </p:blipFill>
        <p:spPr>
          <a:xfrm>
            <a:off x="3886200" y="3352680"/>
            <a:ext cx="1279440" cy="1325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5f5f5f"/>
              </a:solidFill>
              <a:latin typeface="Century Gothic"/>
            </a:endParaRPr>
          </a:p>
          <a:p>
            <a:pPr lvl="1" marL="406440" indent="-19080" algn="ctr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49120" algn="ctr">
              <a:lnSpc>
                <a:spcPct val="90000"/>
              </a:lnSpc>
              <a:spcBef>
                <a:spcPts val="1225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15880" indent="-260280" algn="ctr">
              <a:lnSpc>
                <a:spcPct val="90000"/>
              </a:lnSpc>
              <a:spcBef>
                <a:spcPts val="1225"/>
              </a:spcBef>
              <a:buClr>
                <a:srgbClr val="33cc33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23920" indent="420840" algn="ctr">
              <a:lnSpc>
                <a:spcPct val="90000"/>
              </a:lnSpc>
              <a:spcBef>
                <a:spcPts val="1225"/>
              </a:spcBef>
              <a:buClr>
                <a:srgbClr val="0095e8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123920" indent="42084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123920" indent="42084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8000" y="5950080"/>
            <a:ext cx="765000" cy="792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400" spc="-1" strike="noStrike">
                <a:solidFill>
                  <a:srgbClr val="39457f"/>
                </a:solidFill>
                <a:latin typeface="Century Gothic"/>
              </a:rPr>
              <a:t>Basics of Component Building</a:t>
            </a:r>
            <a:endParaRPr b="1" lang="en-US" sz="4400" spc="-1" strike="noStrike">
              <a:solidFill>
                <a:srgbClr val="39457f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Hierarchy - 3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53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31395b"/>
                </a:solidFill>
                <a:latin typeface="Arial"/>
              </a:rPr>
              <a:t>TControl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sual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ts of new properties, many of them protec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sition, client area, Visible, Enabled, Font et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r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6640" indent="-246600">
              <a:lnSpc>
                <a:spcPct val="90000"/>
              </a:lnSpc>
              <a:spcBef>
                <a:spcPts val="1225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e a TWinControl (which is a subclass of TContro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ent handlers (all protecte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Hierarchy - 4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31395b"/>
                </a:solidFill>
                <a:latin typeface="Arial"/>
              </a:rPr>
              <a:t>TGraphicControl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o window hand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49120">
              <a:lnSpc>
                <a:spcPct val="90000"/>
              </a:lnSpc>
              <a:spcBef>
                <a:spcPts val="1225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refore cannot receive foc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49120">
              <a:lnSpc>
                <a:spcPct val="90000"/>
              </a:lnSpc>
              <a:spcBef>
                <a:spcPts val="1225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nnot be a parent and contain other contr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 get messages thoug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o visual repres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49120">
              <a:lnSpc>
                <a:spcPct val="90000"/>
              </a:lnSpc>
              <a:spcBef>
                <a:spcPts val="1225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scendants use virtual Paint method and Canvas property to draw themsel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Hierarchy - 5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46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31395b"/>
                </a:solidFill>
                <a:latin typeface="Arial"/>
              </a:rPr>
              <a:t>TCustomLabel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mplements label control but all properties protec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scendants can override constructor and/or Loaded to set different defa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 expose only those properties that are requir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e will hide Caption and Font, and set our own val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Hierarchy - 6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52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8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31395b"/>
                </a:solidFill>
                <a:latin typeface="Arial"/>
              </a:rPr>
              <a:t>TWinContro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8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as a window hand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8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capsulates standard Windows contr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8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tra events to handle keyboard, focus changes et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8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eatePar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lnSpc>
                <a:spcPct val="8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31395b"/>
                </a:solidFill>
                <a:latin typeface="Arial"/>
              </a:rPr>
              <a:t>TCustomContro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8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ed a window hand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8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ave to draw everything themsel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Points to note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27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Must be much more familiar with VC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ed to understand the hierarchy and the correct class from which to inher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ften using protected proper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Components need to be registered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26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88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26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88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26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88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Topics for another time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416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Message handling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Cooperating with other component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otification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Component and property editor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Horrible, nasty, smelly, and downright evil data aware control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736360" y="3332160"/>
            <a:ext cx="369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5f5f5f"/>
                </a:solidFill>
                <a:latin typeface="Century Gothic"/>
              </a:rPr>
              <a:t>Time for Beer for Jim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20574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9457f"/>
                </a:solidFill>
                <a:latin typeface="Century Gothic"/>
              </a:rPr>
              <a:t>Ques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What is a component?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Something we can drop on a form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Part of the VC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Technically, it is a class descended from TComponen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Why build your own? You some kind of control freak or something?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Ha!! Geddit? Damn, that was a good one!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Why build a component?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48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To add to or change the functionality of an existing componen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ght just mean having a different set of default property val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To produce a completely new componen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To support reus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nly in those cases it makes sense to have something on a for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Why build a component? - 2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40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Because you want to becom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thy ri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exually irresisti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eted across the world, nay, universe, as a sublime example of an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ergeek in whose presence other, mere mortal programmers will feel as flies on a giant cowp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Different from Applications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47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Built for developers to us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All done in cod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part from fram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bugging is hard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More conventions and rules to follow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Must play nicely with the Delphi ID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Runtime interface and behaviour different from design-tim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TjimBeerLabel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Example of changing the default behaviour of an existing componen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It will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ways show the caption “Buy Jim a beer now!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ways use the same fo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Note the naming conventio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TjimBeerLabel - 2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2" name="TLabelHierarchy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69764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Hierarchy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27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2d3057"/>
                </a:solidFill>
                <a:latin typeface="Arial"/>
              </a:rPr>
              <a:t>TPersistent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reamable proper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blished makes sense n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lphi can store TPersistent descendants in a .dfm file (potentiall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Hierarchy - 2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50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31395b"/>
                </a:solidFill>
                <a:latin typeface="Arial"/>
              </a:rPr>
              <a:t>TComponent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on-visual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me, Ta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ponentState esp. csDesig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wn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ad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6640" indent="-246600">
              <a:lnSpc>
                <a:spcPct val="90000"/>
              </a:lnSpc>
              <a:spcBef>
                <a:spcPts val="1225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lled after values read from form but before displ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2T14:48:24Z</dcterms:created>
  <dc:creator>Jim Cooper</dc:creator>
  <dc:description/>
  <dc:language>en-US</dc:language>
  <cp:lastModifiedBy>Jim Cooper</cp:lastModifiedBy>
  <cp:lastPrinted>1998-03-12T04:44:47Z</cp:lastPrinted>
  <dcterms:modified xsi:type="dcterms:W3CDTF">2003-09-12T16:18:11Z</dcterms:modified>
  <cp:revision>22</cp:revision>
  <dc:subject/>
  <dc:title>UK-BUG Meeting 18th February 2003</dc:title>
</cp:coreProperties>
</file>