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99760" y="1271520"/>
            <a:ext cx="8142120" cy="43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488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49120">
              <a:lnSpc>
                <a:spcPct val="90000"/>
              </a:lnSpc>
              <a:spcBef>
                <a:spcPts val="1488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415880" indent="-260280">
              <a:lnSpc>
                <a:spcPct val="90000"/>
              </a:lnSpc>
              <a:spcBef>
                <a:spcPts val="1488"/>
              </a:spcBef>
              <a:buClr>
                <a:srgbClr val="33cc33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1805040" indent="-260280">
              <a:lnSpc>
                <a:spcPct val="90000"/>
              </a:lnSpc>
              <a:spcBef>
                <a:spcPts val="1488"/>
              </a:spcBef>
              <a:buClr>
                <a:srgbClr val="0095e8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1805040" indent="-260280">
              <a:lnSpc>
                <a:spcPct val="90000"/>
              </a:lnSpc>
              <a:spcBef>
                <a:spcPts val="1488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1805040" indent="-260280">
              <a:lnSpc>
                <a:spcPct val="90000"/>
              </a:lnSpc>
              <a:spcBef>
                <a:spcPts val="1488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79280" y="6093000"/>
            <a:ext cx="1217880" cy="56340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667640" y="6021360"/>
            <a:ext cx="1224000" cy="6429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611280" y="1125360"/>
            <a:ext cx="8137440" cy="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348000" y="3936960"/>
            <a:ext cx="2521080" cy="1166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8360" y="2997360"/>
            <a:ext cx="82184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5f5f5f"/>
                </a:solidFill>
                <a:latin typeface="Century Gothic"/>
              </a:rPr>
              <a:t>Jim Coo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63920" y="5160960"/>
            <a:ext cx="39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19a"/>
                </a:solidFill>
                <a:latin typeface="Century Gothic"/>
              </a:rPr>
              <a:t>www.tabdee.ltd.u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788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400" spc="-1" strike="noStrike">
                <a:solidFill>
                  <a:srgbClr val="39457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39457f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5f5f5f"/>
              </a:solidFill>
              <a:latin typeface="Century Gothic"/>
            </a:endParaRPr>
          </a:p>
          <a:p>
            <a:pPr lvl="1" marL="406440" indent="-19080" algn="ctr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49120" algn="ctr">
              <a:lnSpc>
                <a:spcPct val="90000"/>
              </a:lnSpc>
              <a:spcBef>
                <a:spcPts val="1225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15880" indent="-260280" algn="ctr">
              <a:lnSpc>
                <a:spcPct val="90000"/>
              </a:lnSpc>
              <a:spcBef>
                <a:spcPts val="1225"/>
              </a:spcBef>
              <a:buClr>
                <a:srgbClr val="33cc33"/>
              </a:buClr>
              <a:buSzPct val="80000"/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23920" indent="420840" algn="ctr">
              <a:lnSpc>
                <a:spcPct val="90000"/>
              </a:lnSpc>
              <a:spcBef>
                <a:spcPts val="1225"/>
              </a:spcBef>
              <a:buClr>
                <a:srgbClr val="0095e8"/>
              </a:buClr>
              <a:buSzPct val="80000"/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123920" indent="42084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123920" indent="42084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79280" y="6093000"/>
            <a:ext cx="1217880" cy="563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7667640" y="6021360"/>
            <a:ext cx="1224000" cy="6429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88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400" spc="-1" strike="noStrike">
                <a:solidFill>
                  <a:srgbClr val="39457f"/>
                </a:solidFill>
                <a:latin typeface="Century Gothic"/>
              </a:rPr>
              <a:t>Design Patterns</a:t>
            </a:r>
            <a:endParaRPr b="1" lang="en-US" sz="4400" spc="-1" strike="noStrike">
              <a:solidFill>
                <a:srgbClr val="39457f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Interpreter Pattern - 2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9760" y="1271520"/>
            <a:ext cx="8142120" cy="45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We will be defining a class for each element in the grammar, so this pattern works best if the grammar is not too complex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Can be inefficient way to represent data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Recursive descent compilers have similar limitations and are a good match for feeding the interpreter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Grammar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14212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mlDoc     -&gt; Prolog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urier New"/>
              </a:rPr>
              <a:t>0..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TagLis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urier New"/>
              </a:rPr>
              <a:t>0..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84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olog     -&gt; &lt;?xml PrologData?&g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84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agList    -&gt; Node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84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de       -&gt; StartTag [Data | TagList] EndTa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84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rtTag   -&gt; &lt;TagName&g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84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Tag     -&gt; &lt;/TagName&g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84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ologData -&gt; [Any printable chars except &lt;,&gt;,/ and ? ]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84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ata       -&gt; [Any printable chars except &lt;,&gt; and / ]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84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agName    -&gt; [Any printable chars except &lt;,&gt;,/,space]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urier New"/>
              </a:rPr>
              <a:t>+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84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7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Ignore DTDs, attributes, escaped characters (e.g. &amp;lt), structure of prolog data and empty element tag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0">
              <a:lnSpc>
                <a:spcPct val="70000"/>
              </a:lnSpc>
              <a:spcBef>
                <a:spcPts val="14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Example XML file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9760" y="1271520"/>
            <a:ext cx="8142120" cy="47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We will be able to parse things like this: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8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?xml version="1.0"?&g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8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8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ist&g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8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omeStuff&gt;Stuff 1 is here&lt;/SomeStuff&g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8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omeStuff&gt;Stuff 2 is here&lt;/SomeStuff&g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8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omeStuff&gt;Stuff 3 is here&lt;/SomeStuff&g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8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omeStuff&gt;Stuff 4 is here&lt;/SomeStuff&g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8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ist&g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8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Interpreter Pattern - Code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9760" y="1271160"/>
            <a:ext cx="814212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55960" indent="-25596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Requires </a:t>
            </a: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client</a:t>
            </a: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 to build syntax tre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Base class of tree is the </a:t>
            </a: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abstract expression</a:t>
            </a: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as abstract method to perform interpret operation – Search and Replace in our c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ill allow operation on just Data or Tags as well, so need to understand document struc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Interpreter Pattern – Code 2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9760" y="1271160"/>
            <a:ext cx="8142120" cy="462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Subclass for each grammar elemen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erminal expressions (refactored out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49120">
              <a:lnSpc>
                <a:spcPct val="90000"/>
              </a:lnSpc>
              <a:spcBef>
                <a:spcPts val="1225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logData, Data, TagNa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49120">
              <a:lnSpc>
                <a:spcPct val="90000"/>
              </a:lnSpc>
              <a:spcBef>
                <a:spcPts val="1225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ctually do search and replace on these el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onterminal expres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49120">
              <a:lnSpc>
                <a:spcPct val="90000"/>
              </a:lnSpc>
              <a:spcBef>
                <a:spcPts val="1225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de up of other expres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49120">
              <a:lnSpc>
                <a:spcPct val="90000"/>
              </a:lnSpc>
              <a:spcBef>
                <a:spcPts val="1225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ll SearchAndReplace on those other expres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002760" y="2530440"/>
            <a:ext cx="299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9457f"/>
                </a:solidFill>
                <a:latin typeface="Century Gothic"/>
              </a:rPr>
              <a:t>Quest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005560" y="3332160"/>
            <a:ext cx="5139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5f5f5f"/>
                </a:solidFill>
                <a:latin typeface="Century Gothic"/>
              </a:rPr>
              <a:t>You can contact me further 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5f5f5f"/>
                </a:solidFill>
                <a:latin typeface="Century Gothic"/>
              </a:rPr>
              <a:t>jcooper@tabdee.ltd.u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32000" y="2133720"/>
            <a:ext cx="270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9457f"/>
                </a:solidFill>
                <a:latin typeface="Century Gothic"/>
              </a:rPr>
              <a:t>Thank yo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Topics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99760" y="1271520"/>
            <a:ext cx="8142120" cy="32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55960" indent="-25596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Examine the patterns I didn’t get to last tim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emplate Method and Strate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Look at Interpreter pattern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ollows on from Dave Oldfield’s session on parsing at the May me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Example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99760" y="1271160"/>
            <a:ext cx="8142120" cy="11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Will consider a fictional company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0" algn="ctr">
              <a:lnSpc>
                <a:spcPct val="90000"/>
              </a:lnSpc>
              <a:spcBef>
                <a:spcPts val="14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Distillers and Brewers Group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2971800"/>
            <a:ext cx="814248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That’s </a:t>
            </a: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“Group”,</a:t>
            </a: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 with a </a:t>
            </a: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“G”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3962520"/>
            <a:ext cx="8142480" cy="18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This group has booze-producing plants, which may have departments and/or employees. The departments also have employee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Template Method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99760" y="1271160"/>
            <a:ext cx="8142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0" algn="ctr">
              <a:lnSpc>
                <a:spcPct val="90000"/>
              </a:lnSpc>
              <a:spcBef>
                <a:spcPts val="14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1" i="1" lang="en-GB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the skeleton of an algorithm in a operation, deferring some steps to subclasses. Template Method lets the subclasses redefine certain steps of an algorithm without changing the algorithm’s structure.”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0" algn="ctr">
              <a:lnSpc>
                <a:spcPct val="90000"/>
              </a:lnSpc>
              <a:spcBef>
                <a:spcPts val="14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                </a:t>
            </a:r>
            <a:r>
              <a:rPr b="1" i="1" lang="en-GB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GoF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Template Method - 2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9760" y="1271160"/>
            <a:ext cx="814212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Define structure of an algorithm, and let subclasses change certain aspects of i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If an aspect </a:t>
            </a: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 be overridden, make it abstrac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If an aspect </a:t>
            </a: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might</a:t>
            </a: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 be overridden (a </a:t>
            </a: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hook</a:t>
            </a: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), make it virtua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Such a fundamental pattern, you have almost certainly used i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Strategy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99760" y="1271160"/>
            <a:ext cx="8142120" cy="29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0" algn="ctr">
              <a:lnSpc>
                <a:spcPct val="90000"/>
              </a:lnSpc>
              <a:spcBef>
                <a:spcPts val="14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1" i="1" lang="en-GB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family of algorithms, encapsulate each one, and make them interchangeable. Strategy lets the algorithm vary independently from clients that use it.”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0" algn="ctr">
              <a:lnSpc>
                <a:spcPct val="90000"/>
              </a:lnSpc>
              <a:spcBef>
                <a:spcPts val="14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               </a:t>
            </a:r>
            <a:r>
              <a:rPr b="1" i="1" lang="en-GB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GoF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Strategy - 2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99760" y="1271160"/>
            <a:ext cx="8142120" cy="494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Provide a class with configurable behaviour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Different variations of an algorithm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Hide complexities of algorithm/data from client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Replace lots of if/case statements with Strategy classes (sometimes State is used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0">
              <a:lnSpc>
                <a:spcPct val="90000"/>
              </a:lnSpc>
              <a:spcBef>
                <a:spcPts val="1488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Strategy - 3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9760" y="1271160"/>
            <a:ext cx="814212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Clients need to be aware of need for different strategie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Usually have a </a:t>
            </a: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context</a:t>
            </a: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 class, which stores information used by the algorithm, and calls i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Can have default behaviour in the contex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Can have more than one algorithm per strategy clas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Interpreter Pattern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99760" y="1271520"/>
            <a:ext cx="8142120" cy="45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0" algn="ctr">
              <a:lnSpc>
                <a:spcPct val="90000"/>
              </a:lnSpc>
              <a:spcBef>
                <a:spcPts val="14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i="1" lang="en-GB" sz="3400" spc="-1" strike="noStrike">
                <a:solidFill>
                  <a:srgbClr val="000000"/>
                </a:solidFill>
                <a:latin typeface="Tahoma"/>
              </a:rPr>
              <a:t>Given a language, define a representation for its grammar along with an interpreter that uses the representation to interpret sentences in the grammar”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0">
              <a:lnSpc>
                <a:spcPct val="90000"/>
              </a:lnSpc>
              <a:spcBef>
                <a:spcPts val="14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i="1" lang="en-GB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i="1" lang="en-GB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i="1" lang="en-GB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i="1" lang="en-GB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i="1" lang="en-GB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i="1" lang="en-GB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i="1" lang="en-GB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i="1" lang="en-GB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i="1" lang="en-GB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i="1" lang="en-GB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GoF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Definition of “interpret” is broad, and includes other things than executing instruction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7T15:27:08Z</dcterms:created>
  <dc:creator>Jim Cooper</dc:creator>
  <dc:description/>
  <dc:language>en-US</dc:language>
  <cp:lastModifiedBy>Jim Cooper</cp:lastModifiedBy>
  <cp:lastPrinted>1998-03-12T04:44:47Z</cp:lastPrinted>
  <dcterms:modified xsi:type="dcterms:W3CDTF">2003-07-14T14:47:45Z</dcterms:modified>
  <cp:revision>55</cp:revision>
  <dc:subject/>
  <dc:title>Slide 1</dc:title>
</cp:coreProperties>
</file>