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121-1BB4-4667-9484-B2FCA484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584-F381-4000-A371-91ACE2F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930-0C94-41FB-A232-66ABE562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CA2-53AE-49E3-BB16-15C1ED8C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CD5-1951-40C7-92AF-732CDB86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3B22-93E5-415F-9000-9B64F8D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856F-F4BC-4184-867F-DD18552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6230-351E-4B97-867C-D05ED4F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D012-D4B7-4F2B-B6C2-A54D7979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CF5-B466-4020-B041-2E6BE3D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28A-F172-4B3C-B14E-DF1A03C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9B6-C4E6-4EB4-A4D0-E182596D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BE1-6324-4AD4-A6D6-43DD454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084D-24A3-4619-92ED-8CCA243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938-0827-4B34-A97B-CFB2767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72F-B222-4624-AD86-1EF69CD5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B5B0-3D65-4905-ACA1-43C579FF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9A5-E4E4-46C2-A388-527C640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595-9786-40CE-937C-FB9DA5B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797-3B6A-4DB8-9D8A-DF8C012F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10C-C69F-442D-A205-DB1125E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38F-D296-42ED-9C51-658988D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1DB-DE39-4568-B1A2-DD1E63E8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A02-3C0B-463A-B114-6A858BC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1A7F-2BB0-4E72-AF5C-E0D29CB7C28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5FD-512F-4401-8AE3-5DFE2E38B9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View Present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oanna Car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joannac@btinternet.c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esent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roll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put Manag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at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 of Obj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ected in U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mon A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ion List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kes a Sele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isit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act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nked to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nu Sel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use Event(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naged by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esen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View Present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oanna Car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joannac@btinternet.c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View Present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it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does it do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 I need it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w does it work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VP - What is it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20040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sign Pattern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velopment Framework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VP – What is it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d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i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esen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e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ma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ract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View Present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Image2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 View Presenter - Dat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MVC%20Data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6724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odel View Presenter - U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4" name="MVC%20UI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8101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a cla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esents behavio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usiness Ru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apsul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a Compon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isual Represent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M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3:55:54Z</dcterms:created>
  <dc:creator>Joanna Carter</dc:creator>
  <dc:description/>
  <dc:language>en-US</dc:language>
  <cp:lastModifiedBy>Joanna Carter</cp:lastModifiedBy>
  <dcterms:modified xsi:type="dcterms:W3CDTF">2001-09-10T15:29:35Z</dcterms:modified>
  <cp:revision>2</cp:revision>
  <dc:subject/>
  <dc:title>Model View Presenter</dc:title>
</cp:coreProperties>
</file>