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C4B6-DC4E-4955-AEC9-443A428B4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FB1D-3A0B-4567-9A8B-776FF3E5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A49E2-D1FF-4982-B6B6-B900A8A9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5899B-5950-4E62-9CEF-68CD1F07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7480-80F9-4794-B079-304DBAEE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A5D95-A8D0-4B5F-94EE-3607918E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3103-78FB-43D9-8B80-4E91F501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BBC8-04BB-4B70-8F7B-417B4C53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263C-EC94-4A6B-BAAC-D8A3EAD0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606A-2D0A-4E83-A391-2F6A6DB3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A20E-EA53-4B8E-9170-4DB64F4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8821-7363-47F1-862D-B860F081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F574-353D-426E-BF12-9EA6F9EE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FB27-3C8B-4B5A-AEC3-F765404A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926B-9FBA-4D28-80AA-432456EF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387A-4BF7-4D1D-8757-A9F9455F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AC49-F9D4-47EF-83B4-7A36065A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EB0C7-E1B0-48DE-A044-A1B91E48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E077-EEA3-436F-8261-7A210752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79EB-8139-486F-825F-4BB5D3AD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413BC-DC96-4FC6-A4EA-29AF710E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DF0D8-01BF-47AC-BB8E-5CFE80EF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1B32A-4B80-4329-935A-0EDAC7BF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01BD2-6A79-42FC-B5C3-C2B01D1EE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3718080" y="623736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2164-D2A2-4522-8493-C789074E39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14299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6843600" y="6243480"/>
            <a:ext cx="2247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http://www.checkdigit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9"/>
          <a:stretch/>
        </p:blipFill>
        <p:spPr>
          <a:xfrm>
            <a:off x="7920" y="6238800"/>
            <a:ext cx="13953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9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24A7-B9DF-4434-A6BF-4894523786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24000" y="2997000"/>
            <a:ext cx="39038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ed by Ian Bark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2411280" y="3514680"/>
            <a:ext cx="37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heckdigit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11280" y="1052640"/>
            <a:ext cx="5473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tting Touchy Fe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867280" y="260280"/>
            <a:ext cx="292104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ahoma"/>
              </a:rPr>
              <a:t>Cute code</a:t>
            </a: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B plug and play ev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s with fingerprint hardware using a secure COM interfa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mory mapped files for data transf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evention of APM Standby and Hibernate ev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ongle storage, retrieval and extremely secure encryp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ahoma"/>
              </a:rPr>
              <a:t>What does/doesn’t work</a:t>
            </a: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is a VERY successful product and it has fulfilled the requirements of the customer perfec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ick Reports was/is very bug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t was the last time I will ever use the B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VER rely on a hardware manufactur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ahoma"/>
              </a:rPr>
              <a:t>Links</a:t>
            </a: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ww.checkdigits.com (of cours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ww.timesystemsuk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ww.obsof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ww.digitalpersona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ww.waterlowbusiness.co.u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www.ealaddin.com/ha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ahoma"/>
              </a:rPr>
              <a:t>Eh?</a:t>
            </a: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ase study of a biometric time and attendanc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irely written in Borland Delph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sale in the UK, USA, Europe and various other territ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ahoma"/>
              </a:rPr>
              <a:t>What’s it all about?</a:t>
            </a: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alk about the product and what makes it (fairly) uniqu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the hardware and software protection method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ok at the Delphi components us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ook at some cute co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cuss what works and what doesn’t talk about alterna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ahoma"/>
              </a:rPr>
              <a:t>The product</a:t>
            </a:r>
            <a:endParaRPr b="0" lang="en-US" sz="40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iometric time and attendance syste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es in a “Basic” and “Pro” v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ame code base for both ver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lso then reused to create another product range – in 1 we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ss market, shrink-wrapped, very popul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ahoma"/>
              </a:rPr>
              <a:t>Design brief</a:t>
            </a:r>
            <a:endParaRPr b="0" lang="en-US" sz="40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eliable – “fire and forget” sal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caleable from small businesses to large corporate bod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asic” version should be upgradeable to “Pro” over the phone with minimum ‘hackability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CO &lt; £100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Design brief used BOAE method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ahoma"/>
              </a:rPr>
              <a:t>BOAE methodology</a:t>
            </a:r>
            <a:endParaRPr b="0" lang="en-US" sz="40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28720" y="1227240"/>
            <a:ext cx="792144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ahoma"/>
              </a:rPr>
              <a:t>The hardware</a:t>
            </a:r>
            <a:endParaRPr b="0" lang="en-US" sz="40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 USB sensor designed for Windows 2000 and XP log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ually marketed by Microsoft at one poi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es with an SDK for C++, translated by hand into Delph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rdware manufacturer does not practice good version contro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Tahoma"/>
              </a:rPr>
              <a:t>Delphi components</a:t>
            </a:r>
            <a:endParaRPr b="0" lang="en-US" sz="44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Delphi 4 used throughou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Quick Report Pro version 3.08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BC Version 6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Infopow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me customised compon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alendar contr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Security contro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5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Tahoma"/>
              </a:rPr>
              <a:t>Dongle</a:t>
            </a:r>
            <a:endParaRPr b="0" lang="en-US" sz="4000" spc="-1" strike="noStrike">
              <a:solidFill>
                <a:srgbClr val="dfdef6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meHASP4 from Aladdi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a built-in real time clock with battery back u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as no known exploits for the version used – unlike ot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d to store licence details, restrictions, time limits and other 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6T19:33:46Z</dcterms:created>
  <dc:creator> </dc:creator>
  <dc:description/>
  <dc:language>en-US</dc:language>
  <cp:lastModifiedBy> Ian Barker</cp:lastModifiedBy>
  <dcterms:modified xsi:type="dcterms:W3CDTF">2003-10-20T20:48:54Z</dcterms:modified>
  <cp:revision>38</cp:revision>
  <dc:subject/>
  <dc:title>Checkdigits.com</dc:title>
</cp:coreProperties>
</file>