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F02-7043-42C0-8D02-9302B521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87F-4E5C-40EF-ADD9-F177757D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181-5465-4357-B71A-305991A9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BB75-C07A-4050-BE68-36D1732C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C6F-45CB-420E-8443-7E81E3F3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49C-F6E8-4583-A3FA-78CD9793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929-1A49-4129-86B5-7CD80A0C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8D2-4188-4FD9-B2C0-E771A241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7959-ADFD-4AD8-BAD9-2BBCAC52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F1E-4CA4-4F54-9AC2-841EAAA3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41D-E602-467B-B93C-A0FC1A9B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6D8-5F90-487D-9847-8C4E0AD0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4114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0AEB-60E2-4CA7-8B70-7908FBFD5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6141960" y="6338880"/>
            <a:ext cx="27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 Rounded MT Bold"/>
              </a:rPr>
              <a:t>daveandal.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5080" y="6338880"/>
            <a:ext cx="29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Rounded MT Bold"/>
              </a:rPr>
              <a:t>DaveAndAl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ahoma"/>
              </a:rPr>
              <a:t>Web Sites The Quick Way</a:t>
            </a: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ave Sussm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VP ASP.NE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99"/>
                </a:solidFill>
                <a:latin typeface="Tahoma"/>
              </a:rPr>
              <a:t>Templating – Server Controls</a:t>
            </a:r>
            <a:endParaRPr b="1" lang="en-US" sz="40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trol writes default conten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r content within templat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13000"/>
            <a:ext cx="5635440" cy="146556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&lt;my:ContentControl runat="server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&lt;ContentTemplat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Page content goes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&lt;/ContentTemplat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&lt;/my:ContentControl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99"/>
                </a:solidFill>
                <a:latin typeface="Tahoma"/>
              </a:rPr>
              <a:t>Templating – Server Controls</a:t>
            </a:r>
            <a:endParaRPr b="1" lang="en-US" sz="40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ontrols within templates not accessible at compile ti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FindContro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ntellisense Suppor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Schema defining templat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99"/>
                </a:solidFill>
                <a:latin typeface="Tahoma"/>
              </a:rPr>
              <a:t>Templating – Server Controls</a:t>
            </a: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rite default conten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r content within server contro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3213000"/>
            <a:ext cx="5635440" cy="173988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&lt;my:ContentControl runat="server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Page content goes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&lt;/my:ContentControl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ahoma"/>
              </a:rPr>
              <a:t>Server Controls</a:t>
            </a: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Toolbox suppor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Drag and dro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o default designer suppor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Must build a ControlDesign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trol has to be actively placed on form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99"/>
                </a:solidFill>
                <a:latin typeface="Tahoma"/>
              </a:rPr>
              <a:t>Templating – in ASP.NET 1.1</a:t>
            </a:r>
            <a:endParaRPr b="1" lang="en-US" sz="40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ombination of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Server Control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User Control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ilsonMasterPag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http://authors.aspalliance.com/PaulWilson/Articl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99"/>
                </a:solidFill>
                <a:latin typeface="Tahoma"/>
              </a:rPr>
              <a:t>WilsonMasterPages</a:t>
            </a: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00000" y="1413000"/>
            <a:ext cx="3527640" cy="4321080"/>
            <a:chOff x="900000" y="1413000"/>
            <a:chExt cx="3527640" cy="4321080"/>
          </a:xfrm>
        </p:grpSpPr>
        <p:sp>
          <p:nvSpPr>
            <p:cNvPr id="126" name=""/>
            <p:cNvSpPr/>
            <p:nvPr/>
          </p:nvSpPr>
          <p:spPr>
            <a:xfrm>
              <a:off x="900000" y="1916280"/>
              <a:ext cx="3527640" cy="3817800"/>
            </a:xfrm>
            <a:prstGeom prst="rect">
              <a:avLst/>
            </a:prstGeom>
            <a:solidFill>
              <a:srgbClr val="0066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16000" y="2205000"/>
              <a:ext cx="3095640" cy="3168720"/>
            </a:xfrm>
            <a:prstGeom prst="rect">
              <a:avLst/>
            </a:prstGeom>
            <a:solidFill>
              <a:srgbClr val="00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16000" y="2565360"/>
              <a:ext cx="30956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16000" y="5084640"/>
              <a:ext cx="30956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79640" y="2565360"/>
              <a:ext cx="0" cy="2519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87280" y="2227320"/>
              <a:ext cx="29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&lt;ContentRegion id="header" /&gt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10600" y="5157720"/>
              <a:ext cx="1479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Times New Roman"/>
                </a:rPr>
                <a:t>Copyright © Foobar Inc 200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18160" y="2781360"/>
              <a:ext cx="819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s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sk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row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46200" y="1413000"/>
              <a:ext cx="195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emplate.asc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50920" y="2759040"/>
              <a:ext cx="223380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&lt;ContentReg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d="MPContent"&gt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&lt;/ContentRegion&gt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59280" y="1413000"/>
            <a:ext cx="3527640" cy="4321080"/>
            <a:chOff x="4859280" y="1413000"/>
            <a:chExt cx="3527640" cy="4321080"/>
          </a:xfrm>
        </p:grpSpPr>
        <p:sp>
          <p:nvSpPr>
            <p:cNvPr id="137" name=""/>
            <p:cNvSpPr/>
            <p:nvPr/>
          </p:nvSpPr>
          <p:spPr>
            <a:xfrm>
              <a:off x="4859280" y="1916280"/>
              <a:ext cx="3527640" cy="3817800"/>
            </a:xfrm>
            <a:prstGeom prst="rect">
              <a:avLst/>
            </a:prstGeom>
            <a:solidFill>
              <a:srgbClr val="0066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96000" y="1413000"/>
              <a:ext cx="173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fault.asp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76720" y="2205000"/>
              <a:ext cx="3095640" cy="3168720"/>
            </a:xfrm>
            <a:prstGeom prst="rect">
              <a:avLst/>
            </a:prstGeom>
            <a:solidFill>
              <a:srgbClr val="00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48360" y="2276640"/>
              <a:ext cx="2952720" cy="18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&lt;ContentRegion id="header"&gt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Bradley Hand ITC"/>
                </a:rPr>
                <a:t>Foobar In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&lt;ContentRegion&gt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Name: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Address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84720" y="3683160"/>
              <a:ext cx="1368720" cy="144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84720" y="3895560"/>
              <a:ext cx="1368720" cy="325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982240" y="1700280"/>
            <a:ext cx="3101040" cy="3673440"/>
            <a:chOff x="2982240" y="1700280"/>
            <a:chExt cx="3101040" cy="3673440"/>
          </a:xfrm>
        </p:grpSpPr>
        <p:grpSp>
          <p:nvGrpSpPr>
            <p:cNvPr id="144" name=""/>
            <p:cNvGrpSpPr/>
            <p:nvPr/>
          </p:nvGrpSpPr>
          <p:grpSpPr>
            <a:xfrm>
              <a:off x="2982240" y="2205000"/>
              <a:ext cx="3101040" cy="3168720"/>
              <a:chOff x="2982240" y="2205000"/>
              <a:chExt cx="3101040" cy="3168720"/>
            </a:xfrm>
          </p:grpSpPr>
          <p:sp>
            <p:nvSpPr>
              <p:cNvPr id="145" name=""/>
              <p:cNvSpPr/>
              <p:nvPr/>
            </p:nvSpPr>
            <p:spPr>
              <a:xfrm>
                <a:off x="2987640" y="2205000"/>
                <a:ext cx="3095640" cy="3168720"/>
              </a:xfrm>
              <a:prstGeom prst="rect">
                <a:avLst/>
              </a:prstGeom>
              <a:solidFill>
                <a:srgbClr val="00cccc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51280" y="2565360"/>
                <a:ext cx="0" cy="25192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982240" y="5157720"/>
                <a:ext cx="1479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Copyright © Foobar Inc 200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989800" y="2781360"/>
                <a:ext cx="81936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roduct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s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emor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isk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rows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87640" y="5084640"/>
                <a:ext cx="309564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87640" y="2565360"/>
                <a:ext cx="309564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987640" y="2205000"/>
                <a:ext cx="1589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Bradley Hand ITC"/>
                  </a:rPr>
                  <a:t> </a:t>
                </a:r>
                <a:r>
                  <a:rPr b="1" lang="en-GB" sz="2000" spc="-1" strike="noStrike">
                    <a:solidFill>
                      <a:srgbClr val="000000"/>
                    </a:solidFill>
                    <a:latin typeface="Bradley Hand ITC"/>
                  </a:rPr>
                  <a:t>Foobar Inc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28240" y="2924280"/>
                <a:ext cx="865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: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ddress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43280" y="2924280"/>
                <a:ext cx="1368720" cy="14436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643280" y="3137040"/>
                <a:ext cx="1368720" cy="32544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3635280" y="1700280"/>
              <a:ext cx="173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fault.asp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99"/>
                </a:solidFill>
                <a:latin typeface="Tahoma"/>
              </a:rPr>
              <a:t>WilsonMasterPages</a:t>
            </a: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m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ahoma"/>
              </a:rPr>
              <a:t>Pre-Built Solutions</a:t>
            </a: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ommunity Starter ki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NetNuk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ttp://www.dotnetnuke.com/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ainbow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ttp://www.rainbowportal.org/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ahoma"/>
              </a:rPr>
              <a:t>Community Starter Kits</a:t>
            </a: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pplied by Microsof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merc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muni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orta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por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ime Track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rum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m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99"/>
                </a:solidFill>
                <a:latin typeface="Tahoma"/>
              </a:rPr>
              <a:t>DotNetNuke / Rainbow</a:t>
            </a: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ort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ontent Managemen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NetNuke Dem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5892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 to impress your boss but do as little work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ahoma"/>
              </a:rPr>
              <a:t>Code / Page Builders</a:t>
            </a: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utomatically generate pag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icrosoft WebMatrix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Dem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ahoma"/>
              </a:rPr>
              <a:t>ASP.NET 2.0</a:t>
            </a: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ample Sit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ortal Framework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m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ahoma"/>
              </a:rPr>
              <a:t>Resources</a:t>
            </a: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lides &amp; Sample Cod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ttp://www.ipona.com/talk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SP.NET Ho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ttp://www.asp.net/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ttp://www.gotdotnet.com/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ahoma"/>
              </a:rPr>
              <a:t>Agenda</a:t>
            </a: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emplating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e-built Solu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ode / Page Build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SP.NET 2.0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99"/>
                </a:solidFill>
                <a:latin typeface="Tahoma"/>
              </a:rPr>
              <a:t>Templating</a:t>
            </a:r>
            <a:endParaRPr b="1" lang="en-US" sz="44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vide central structure to pag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er Control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ustom Page clas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ustom Control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99"/>
                </a:solidFill>
                <a:latin typeface="Tahoma"/>
              </a:rPr>
              <a:t>Templating – User Controls</a:t>
            </a:r>
            <a:endParaRPr b="1" lang="en-US" sz="40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rop header and footer onto pag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eader.ascx &amp; Footer.ascx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blem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ot enforce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Location not enforce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ismatched HTM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ot validate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99"/>
                </a:solidFill>
                <a:latin typeface="Tahoma"/>
              </a:rPr>
              <a:t>Templating – Custom Page Class</a:t>
            </a:r>
            <a:endParaRPr b="1" lang="en-US" sz="40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herits from Pag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vides default conten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ndering content directl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uilding a control collec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oad content from template pag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99"/>
                </a:solidFill>
                <a:latin typeface="Tahoma"/>
              </a:rPr>
              <a:t>Templating – Custom Page Class</a:t>
            </a:r>
            <a:endParaRPr b="1" lang="en-US" sz="40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557360"/>
            <a:ext cx="8424720" cy="475740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sing System.Web.U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namespace MyCompany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public class PageTemplate : Pag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protected override void Render(HtmlTextWriter writer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// render default con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protected override void CreateChildControls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// generate default contr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99"/>
                </a:solidFill>
                <a:latin typeface="Tahoma"/>
              </a:rPr>
              <a:t>Templating – Custom Page Class</a:t>
            </a:r>
            <a:endParaRPr b="1" lang="en-US" sz="40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1844640"/>
            <a:ext cx="8208720" cy="36828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&lt;%@ Page Inherits="MyCompany.PageTemplate" %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3070080"/>
            <a:ext cx="8208720" cy="64260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public class MyPage : MyCompany.PageTemplat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4005360"/>
            <a:ext cx="8208720" cy="119124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Public Class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herits MyCompany.PageTemp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99"/>
                </a:solidFill>
                <a:latin typeface="Tahoma"/>
              </a:rPr>
              <a:t>Templating – Custom Page Class</a:t>
            </a:r>
            <a:endParaRPr b="1" lang="en-US" sz="4000" spc="-1" strike="noStrike">
              <a:solidFill>
                <a:srgbClr val="ffcc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mplici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 designer suppor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er content should not includ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TML head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rver FORM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1:27:59Z</dcterms:created>
  <dc:creator>Dave Sussman</dc:creator>
  <dc:description/>
  <dc:language>en-US</dc:language>
  <cp:lastModifiedBy>Dave Sussman</cp:lastModifiedBy>
  <dcterms:modified xsi:type="dcterms:W3CDTF">2003-11-27T14:45:44Z</dcterms:modified>
  <cp:revision>10</cp:revision>
  <dc:subject/>
  <dc:title>Web Sites The Quick Way</dc:title>
</cp:coreProperties>
</file>