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5.jpeg" ContentType="image/jpeg"/>
  <Override PartName="/ppt/media/image4.wmf" ContentType="image/x-wmf"/>
  <Override PartName="/ppt/media/image23.jpeg" ContentType="image/jpeg"/>
  <Override PartName="/ppt/media/image22.wmf" ContentType="image/x-wm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6.wmf" ContentType="image/x-wmf"/>
  <Override PartName="/ppt/media/image14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867-78D8-49E6-A425-AFC75984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D53A-3917-46D1-80BD-28A1951C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697-51C7-45F7-8127-8BC60D3D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417-EBF5-4FA8-865C-3789A2DA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3477-2235-4A49-8DC2-120720F6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8F44-8FAE-432E-83CF-0CF7D0A7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863D-058A-4686-A284-8BEDEED7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25CD-CEB6-4241-80E1-2AFFACFE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E29C-F0D5-4BDA-B592-299E2BA3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0132-9AAF-4118-BD8D-27A726FB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8DD0-3AD2-4924-8143-03D78B0E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304-1F67-4577-8D5D-E61DD85A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5E98-BF31-40E6-BB56-E8851012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9A3D-19DF-462C-9F24-A5774761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7AAB-D4F6-40A9-B396-147864BE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4024-A81D-4CF9-BDD5-A5389E89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89D6-E908-4FD6-82D4-9091763F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680-EB8F-4D18-99B2-729F7744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00E1-1601-4D77-84BF-C13A175C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7C3-F38A-498F-89FF-41ED38CC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415-F04E-4D42-8EFB-AB53D778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5E9F-38C8-4DBC-9B9F-6F2C0D71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7FE-C9F7-4D4B-876E-50163985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BC2-FABF-45AF-83A6-E584AB4D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9208-DD45-4428-B1E0-B37597C089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0E71-3346-44ED-9BC4-9E72C09B68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ireshark.org/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2133720"/>
            <a:ext cx="9144000" cy="20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66"/>
                </a:solidFill>
                <a:latin typeface="Arial"/>
              </a:rPr>
              <a:t>Encryption </a:t>
            </a:r>
            <a:br>
              <a:rPr sz="4400"/>
            </a:br>
            <a:r>
              <a:rPr b="0" lang="en-US" sz="4400" spc="-1" strike="noStrike">
                <a:solidFill>
                  <a:srgbClr val="333366"/>
                </a:solidFill>
                <a:latin typeface="Arial"/>
              </a:rPr>
              <a:t>&amp; </a:t>
            </a:r>
            <a:br>
              <a:rPr sz="4400"/>
            </a:br>
            <a:r>
              <a:rPr b="0" lang="en-US" sz="4400" spc="-1" strike="noStrike">
                <a:solidFill>
                  <a:srgbClr val="333366"/>
                </a:solidFill>
                <a:latin typeface="Arial"/>
              </a:rPr>
              <a:t>Com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5105520"/>
            <a:ext cx="7056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Verdana"/>
              </a:rPr>
              <a:t>Cristian Nicol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99cccc"/>
                </a:solidFill>
                <a:latin typeface="Verdana"/>
              </a:rPr>
              <a:t>n_cristian@hotmail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Hashing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ocedure or mathematical function which converts a large amount of data into a small dat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ccidental or intentional change to the data will change the hash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- mess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h value - message digest or dig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amples: SHA, MD5, 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Hashing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62481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Symmetric-key algorithm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es related or identical cryptographic keys for both decryption and encryptio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practice, represent a shared secret between two or more parti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ther terms: secret-key, single-key, shared-key, one-key and private-key encryp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have the advantage of spe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Examples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ES, Blowfish, DES, Triple DES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Symmetric-key algorithm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62320" y="2819520"/>
            <a:ext cx="450036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Certificate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 public key certificate (or identity certificate) - an electronic document which incorporates a digital signature to bind together a public key with an identity — information such as the name of a person or an organization, their address, and so forth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ed to verify that a public key belongs to an individua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 a typical public key infrastructure (PKI) scheme, the signature will be of a certificate authority (CA). In a web of trust scheme, the signature is of either the user (a self-signed certificate) or other user's ("endorsements"). In either case, the signatures on a certificate are attestations by the certificate signer that the identity information and the public key belong together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0120" y="45720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Public-key cryptography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hod for secret communication between two parties without requiring an initial exchange of secret key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also be used to create digital sign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known as asymmetric cryptography - the key used to encrypt a message differs from the key used to decrypt 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has a pair of cryptographic keys—a public key and a private ke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vate key is kept secret, while the public key may be widely distribut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ssages - encrypted with the public ke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only be decrypted with the private 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keys are related mathematically, but the private key cannot be practically derived from the public 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Public-key cryptography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381040" cy="2324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238140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800600" y="1600200"/>
            <a:ext cx="2381400" cy="2666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952880" y="4191120"/>
            <a:ext cx="23814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SSL - TL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Secure Sockets Layer (SSL) -&gt; Transport Layer Security (TL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cryptographic protocols  - provide security and data integrity for communications over TCP/IP networks such as the Interne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Verdana"/>
              </a:rPr>
              <a:t>TLS and SSL encrypt the segments of the Transport Layer protocols in use for an end-to-end connection across the networ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391520" y="533520"/>
            <a:ext cx="12571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SSL - TL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391520" y="533520"/>
            <a:ext cx="1257120" cy="958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057400" y="1295280"/>
            <a:ext cx="5238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Tunnelling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An external secure SSL port that is mapped to an internal unsecured TCP or UDP port of an existing appl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Examples: MPLS, IPSEC, PPPT, PPPoE, TLS, SSH, Soc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also be used to "sneak through" a firewal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43800" y="609480"/>
            <a:ext cx="10796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Most important lesson…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Verdana"/>
              </a:rPr>
              <a:t>"A chain is only as strong as its weakest link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ecurity is hard wor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hat are you protec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gainst whom you are protecting i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391520" y="380880"/>
            <a:ext cx="131436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72200" y="152280"/>
            <a:ext cx="2362320" cy="1341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OTP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one-time passwords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mathematical algorithm to generate a new password based on the previo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based on time-synchronization between the authentication server and the client providing the passwo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mathematical algorithm - the new password is based on a challenge (e.g. random number) and a counter instead of being based on the previous passwo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72200" y="152280"/>
            <a:ext cx="2362320" cy="1341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OTP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function OneTimePassword(APassword: string; aSeed: string; aCount: integer): int64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a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MD5: TMd5Stream;   LMD5Hash: TMd5Digest;   I: integer; L64Bit: int64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MD5 := TMd5Stream.Create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f (length(aSeed) &gt; 0) th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MD5.Write(lowercase(ASeed)[1], length(ASeed))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if (length(aPassword) &gt; 0) th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MD5.Write(APassword[1], length(APassword))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MD5Hash:= LMD5.Diges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64Bit:= (Int64(LMD5Hash[0] xor LMD5Hash[2]) shl 32) or (LMD5Hash[1] xor LMD5Hash[3])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for i:= 1 to ACount do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64Bit:= (Int64(L64Bit) shr 32) or (L64Bit and $FFFFFFFF) shl 32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MD5.Write(L64Bit, 8)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MD5Hash:= LMD5.Diges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64Bit:= (Int64(LMD5Hash[0] xor LMD5Hash[2]) shl 32) or (LMD5Hash[1] xor LMD5Hash[3])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finall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MD5.free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nd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result:= ReverseEndian(L64Bit);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24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end;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Tools”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t scanners,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ulnerability scan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niff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ylogg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ndows hooks, troj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ssword cracking / brute-force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ckdoors and remote access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rt re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 dial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cp/ip stack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20120" y="4572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Wireshark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Network protocol analyzer (formally known as Ethereal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http://www.wireshark.org/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696080" y="533520"/>
            <a:ext cx="90324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Demos </a:t>
            </a:r>
            <a:br>
              <a:rPr sz="3600"/>
            </a:b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and </a:t>
            </a:r>
            <a:br>
              <a:rPr sz="3600"/>
            </a:b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Questions 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781680" y="190512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52320" y="2590560"/>
            <a:ext cx="4481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99cccc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33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What to protect?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gorithms, workflow, process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Access (authentication, authorizatio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91520" y="1522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Executable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Encrypt files (no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Lite ver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0" y="914400"/>
            <a:ext cx="18176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Peopl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905120"/>
            <a:ext cx="1981080" cy="1981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eople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ould not p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1981080"/>
            <a:ext cx="3505320" cy="4191120"/>
          </a:xfrm>
          <a:prstGeom prst="ellipse">
            <a:avLst/>
          </a:prstGeom>
          <a:solidFill>
            <a:srgbClr val="99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057400"/>
            <a:ext cx="2361960" cy="2666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eople that w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t 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our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2747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Information (data) life cycl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v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ransit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tored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238880" y="1600200"/>
            <a:ext cx="1386000" cy="1368360"/>
          </a:xfrm>
          <a:prstGeom prst="rect">
            <a:avLst/>
          </a:prstGeom>
          <a:ln w="0">
            <a:noFill/>
          </a:ln>
        </p:spPr>
      </p:pic>
      <p:sp>
        <p:nvSpPr>
          <p:cNvPr id="109" name="Cloud"/>
          <p:cNvSpPr/>
          <p:nvPr/>
        </p:nvSpPr>
        <p:spPr>
          <a:xfrm>
            <a:off x="6934320" y="3048120"/>
            <a:ext cx="1904760" cy="1276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477120" y="4876920"/>
            <a:ext cx="1311120" cy="873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8001000" y="4800600"/>
            <a:ext cx="984240" cy="990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0773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7162560" y="4038480"/>
            <a:ext cx="53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40384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Weak point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v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Keylogg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Memory dum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Injecting threa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Transit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Wire protocols - packe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tored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Files on dis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781680" y="609480"/>
            <a:ext cx="188604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Compression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s of encoding information using fewer bits (or other information-bearing units) than an unencoded representation would use through use of specific encoding schem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Trade-off – storage or bandwidth v CP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ssless - lossy compression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Examples: lzw, zip,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zip, jpe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010280" y="609480"/>
            <a:ext cx="16113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66"/>
                </a:solidFill>
                <a:latin typeface="Arial"/>
              </a:rPr>
              <a:t>Encryption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rocess of transforming information using an algorithm (cipher) to make it unreadable to anyone except those possessing special knowledge, usually referred to as a ke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ult of the process is encrypted information (ciphertex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41912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9:06:40Z</dcterms:created>
  <dc:creator>Cristian</dc:creator>
  <dc:description/>
  <dc:language>en-US</dc:language>
  <cp:lastModifiedBy>Cristian</cp:lastModifiedBy>
  <dcterms:modified xsi:type="dcterms:W3CDTF">2009-01-21T13:26:58Z</dcterms:modified>
  <cp:revision>637</cp:revision>
  <dc:subject/>
  <dc:title>Slide 1</dc:title>
</cp:coreProperties>
</file>