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A28-3101-4D8E-B324-A4EAE937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EF8-DF43-4759-B9E6-86ECDBAA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865-B94B-4838-A4FA-1A5D646A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4AF-40A5-44CC-A12B-0ADA1788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DB16-0540-4141-8BD0-D08ADA18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80F6-CE38-4C15-A0F4-E7061325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3886-494E-44C3-ADB6-009CE438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F424-54CA-44C2-858E-70830471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571C-A67E-4317-802E-49CDD502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8AA1-A690-4072-9CD5-779B4D5D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3DDF-DBD3-4A2C-94B4-423A9CDE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093-BA3E-49D3-A99E-50DCE929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AB76-8FB4-449A-BFC7-4923E065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FBE5-F7FB-41DF-BA01-D4C0670B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A310-13F1-4A7F-8EC1-3A4F2F7A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F180-3B37-41A3-92D1-5C2E067C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F4BC-519D-48E6-86EF-1D697017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748-8454-45C3-9C80-CF09E1C8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888-E03C-4026-B92E-6FC86050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294C-7089-4B62-97B5-EE24AB02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A2D-C6A5-4878-8DD4-378B686E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A26-FB5B-4EB7-97F4-58801E73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97E-2C67-4A22-81D7-052EC534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DA4-0C0D-461D-8929-FB3E5D11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38B9-9DA0-4374-BAD8-38D1C87F7C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0586-BFD0-4D2C-AB13-2460948BB4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752480"/>
            <a:ext cx="91440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Inter-Process Communi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5105520"/>
            <a:ext cx="70563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Verdana"/>
              </a:rPr>
              <a:t>Cristian Nicol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99cccc"/>
                </a:solidFill>
                <a:latin typeface="Verdana"/>
              </a:rPr>
              <a:t>cristian@microolap.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Windows messag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Fast, in memory not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Messages queue limited in siz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Normal messages - notify or send integ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M_COPYDATA used to send strea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ender needs to identify the Recei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orks only in local s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Clipboar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Difficult to monitor for notific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an interact with other applic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Insec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ender puts data in the clipboar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Receiver monitors the clipboar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orks only on local s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Memory mapped fi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Fast, in mem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Map size is fix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Need to sync ac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ender and Receiver share the memo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Need synchronized ac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orks on local station and local mach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Named pip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Fast, no need to sync ac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Difficult to progra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\\&lt;server&gt;\pipe\&lt;pipe&gt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orks on local station, local machine and local netwo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Mailslo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One-way commun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an broadcast mess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ent as datagram – limited in siz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Delivery not assur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\\&lt;server&gt;\mailslot\&lt;slot&gt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orks on local station, local machine and local netwo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Socke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854000"/>
            <a:ext cx="73137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lower than pip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UD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C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UDP can broadcast mess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orks on local station, local machine, local network and over intern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CO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lower than other metho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Difficult to install/config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ainful to create/debug, especially when marshalling binary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ending data = a function ca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Receiving data = reading para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orks on local station, local machine and over netwo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248520" y="1523880"/>
            <a:ext cx="0" cy="441972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528920"/>
            <a:ext cx="0" cy="441468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1523880"/>
            <a:ext cx="0" cy="441972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IPC use – type of comms (1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18080" y="1752480"/>
            <a:ext cx="60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Notification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Data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sync Comm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ync Co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2209680"/>
            <a:ext cx="213372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indows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2590920"/>
            <a:ext cx="251460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3352680"/>
            <a:ext cx="251460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lip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2971800"/>
            <a:ext cx="388620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indows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3719520"/>
            <a:ext cx="33526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emory mappe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4086360"/>
            <a:ext cx="44956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amed 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4880" y="5219640"/>
            <a:ext cx="464832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ckets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04880" y="5586480"/>
            <a:ext cx="662940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8600" y="4843440"/>
            <a:ext cx="44956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ckets 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1523880"/>
            <a:ext cx="0" cy="441972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29600" y="1523880"/>
            <a:ext cx="0" cy="403884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2209680"/>
            <a:ext cx="662940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467240"/>
            <a:ext cx="396252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ils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6248520"/>
            <a:ext cx="677700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209680"/>
            <a:ext cx="678168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1880" y="1523880"/>
            <a:ext cx="0" cy="472464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1523880"/>
            <a:ext cx="0" cy="472464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1523880"/>
            <a:ext cx="0" cy="472464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1523880"/>
            <a:ext cx="0" cy="472464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IPC use – scope (2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8000" y="1752480"/>
            <a:ext cx="509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tation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Machine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Network       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2209680"/>
            <a:ext cx="35812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indows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2590920"/>
            <a:ext cx="51814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3624120"/>
            <a:ext cx="182880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lip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2971800"/>
            <a:ext cx="1828800" cy="64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indows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0200" y="4005360"/>
            <a:ext cx="35812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emory mappe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4386240"/>
            <a:ext cx="51814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amed 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5505480"/>
            <a:ext cx="594360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ckets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5872320"/>
            <a:ext cx="594360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5138640"/>
            <a:ext cx="67816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ckets 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523880"/>
            <a:ext cx="0" cy="472464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4757760"/>
            <a:ext cx="51814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ils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Demos </a:t>
            </a:r>
            <a:br>
              <a:rPr sz="3600"/>
            </a:b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and </a:t>
            </a:r>
            <a:br>
              <a:rPr sz="3600"/>
            </a:b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Question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81680" y="1905120"/>
            <a:ext cx="162252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IPC compon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rocesses needing to communic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ata to be sen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Channel of communi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52320" y="2590560"/>
            <a:ext cx="4481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cccc"/>
                </a:solidFill>
                <a:latin typeface="Arial"/>
              </a:rPr>
              <a:t>Thank you!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Factors influencing IPC (1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Type of communication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Notific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ata (one-way communication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synchronous communi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ynchronous communi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Future extension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Local st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Local machin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Factors influencing IPC (2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Verdana"/>
              </a:rPr>
              <a:t>Other factor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rans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ssured deliver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ssured proces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peed of communi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Volumes of da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ush/pul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Programming languag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IPC – missing bi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DE (dynamic data exchang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Global Atoms T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IPC v RPC (remote procedure call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COM/CORBA/SOAP/you-name-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IPC typ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Windows objects: events, mutexes, semapho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Disk fil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Windows messag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Clipboar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Memory mapped fil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Named pi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Mailslo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Sockets / IP  (UPD, TCP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C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Windows objec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Useful for notific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Ev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Mutex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emaph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Verdana"/>
              </a:rPr>
              <a:t>No way to send data – usually completes one of the other IP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Windows objec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Global objects uses “Global\” prefix on the na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an be secur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Receiver creates, sender ope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Receiver waits or polls for notific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orks on current station and local mach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Disk fi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low, Secure, Saf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Often overlook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ender creates the fi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Receiver polls for new fi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indows objects can be used for notific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orks on current station, local machine and local netwo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19:06:40Z</dcterms:created>
  <dc:creator>Cristian</dc:creator>
  <dc:description/>
  <dc:language>en-US</dc:language>
  <cp:lastModifiedBy>Cristian</cp:lastModifiedBy>
  <dcterms:modified xsi:type="dcterms:W3CDTF">2007-10-13T19:56:53Z</dcterms:modified>
  <cp:revision>443</cp:revision>
  <dc:subject/>
  <dc:title>Slide 1</dc:title>
</cp:coreProperties>
</file>