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wmf" ContentType="image/x-wmf"/>
  <Override PartName="/ppt/media/image14.png" ContentType="image/png"/>
  <Override PartName="/ppt/media/image8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1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A583-BFA1-4C3F-B21C-6FACA763E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602520"/>
            <a:ext cx="77724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EB0E-41CC-42E1-951C-A07251659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D714-656B-4B7C-A714-6DB59E34A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12536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12536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60252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60252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60252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9AAE-397A-4C22-8EA0-4E2B5CB68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25440"/>
            <a:ext cx="777240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D505-2541-492A-B342-098EE7960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602520"/>
            <a:ext cx="77724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602520"/>
            <a:ext cx="77724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12536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12536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60252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60252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602520"/>
            <a:ext cx="250236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1F7E-A8E6-4330-9375-7AC8E355D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1237-48B2-4A6B-8C6F-7732E081D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FA19-BCB8-49BB-8FAA-22CBA9BA3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5440"/>
            <a:ext cx="777240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808F-2E32-455A-A61C-F2D9C84BD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155D-DBD3-4629-AC3D-4D6955952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60252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11E4-B894-4824-97AD-8A800ACD4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25360"/>
            <a:ext cx="37926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602520"/>
            <a:ext cx="7772400" cy="22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5BB9-1DFD-4C15-939F-50E6FCB2C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craigmurphy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60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7160">
              <a:spcBef>
                <a:spcPts val="601"/>
              </a:spcBef>
              <a:buClr>
                <a:srgbClr val="00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160" y="6629040"/>
            <a:ext cx="37335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Why Scrum 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E8E-15F5-4FB9-9A2C-04CE975C4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831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01080" y="404640"/>
            <a:ext cx="97164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66764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icrosoft Sans Serif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831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324480"/>
            <a:ext cx="883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1-2004 Craig Mur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777080" y="5734080"/>
            <a:ext cx="971640" cy="44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2044440" cy="158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916360" y="5373720"/>
            <a:ext cx="3365280" cy="89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492360" y="4581360"/>
            <a:ext cx="2175120" cy="790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45576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371600" algn="ctr">
              <a:spcBef>
                <a:spcPts val="400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1830240" algn="ctr">
              <a:spcBef>
                <a:spcPts val="300"/>
              </a:spcBef>
              <a:buClr>
                <a:srgbClr val="00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18302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18302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66764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icrosoft Sans Serif"/>
              </a:rPr>
              <a:t>Why Scrum Works</a:t>
            </a:r>
            <a:br>
              <a:rPr sz="4000"/>
            </a:br>
            <a:r>
              <a:rPr b="1" lang="en-US" sz="1800" spc="-1" strike="noStrike">
                <a:solidFill>
                  <a:srgbClr val="000099"/>
                </a:solidFill>
                <a:latin typeface="Microsoft Sans Serif"/>
              </a:rPr>
              <a:t>(or why other methods don’t)</a:t>
            </a:r>
            <a:endParaRPr b="1" lang="en-US" sz="1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1524240" cy="1433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661080" y="907920"/>
            <a:ext cx="2087640" cy="507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2097000" cy="57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The Opposite of Waterfall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495680"/>
            <a:ext cx="4876920" cy="762120"/>
          </a:xfrm>
          <a:custGeom>
            <a:avLst/>
            <a:gdLst/>
            <a:ahLst/>
            <a:rect l="l" t="t" r="r" b="b"/>
            <a:pathLst>
              <a:path w="3072" h="480">
                <a:moveTo>
                  <a:pt x="0" y="480"/>
                </a:moveTo>
                <a:cubicBezTo>
                  <a:pt x="104" y="240"/>
                  <a:pt x="208" y="0"/>
                  <a:pt x="720" y="0"/>
                </a:cubicBezTo>
                <a:cubicBezTo>
                  <a:pt x="1232" y="0"/>
                  <a:pt x="2680" y="400"/>
                  <a:pt x="3072" y="480"/>
                </a:cubicBezTo>
              </a:path>
            </a:pathLst>
          </a:custGeom>
          <a:noFill/>
          <a:ln w="316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495680"/>
            <a:ext cx="5257800" cy="762120"/>
          </a:xfrm>
          <a:custGeom>
            <a:avLst/>
            <a:gdLst/>
            <a:ahLst/>
            <a:rect l="l" t="t" r="r" b="b"/>
            <a:pathLst>
              <a:path w="3312" h="480">
                <a:moveTo>
                  <a:pt x="0" y="480"/>
                </a:moveTo>
                <a:cubicBezTo>
                  <a:pt x="252" y="240"/>
                  <a:pt x="504" y="0"/>
                  <a:pt x="1056" y="0"/>
                </a:cubicBezTo>
                <a:cubicBezTo>
                  <a:pt x="1608" y="0"/>
                  <a:pt x="2936" y="400"/>
                  <a:pt x="3312" y="480"/>
                </a:cubicBez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4419720"/>
            <a:ext cx="5105160" cy="838080"/>
          </a:xfrm>
          <a:custGeom>
            <a:avLst/>
            <a:gdLst/>
            <a:ahLst/>
            <a:rect l="l" t="t" r="r" b="b"/>
            <a:pathLst>
              <a:path w="3216" h="528">
                <a:moveTo>
                  <a:pt x="0" y="528"/>
                </a:moveTo>
                <a:cubicBezTo>
                  <a:pt x="236" y="264"/>
                  <a:pt x="472" y="0"/>
                  <a:pt x="1008" y="0"/>
                </a:cubicBezTo>
                <a:cubicBezTo>
                  <a:pt x="1544" y="0"/>
                  <a:pt x="2848" y="440"/>
                  <a:pt x="3216" y="528"/>
                </a:cubicBezTo>
              </a:path>
            </a:pathLst>
          </a:custGeom>
          <a:noFill/>
          <a:ln w="316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4343400"/>
            <a:ext cx="4495680" cy="914400"/>
          </a:xfrm>
          <a:custGeom>
            <a:avLst/>
            <a:gdLst/>
            <a:ahLst/>
            <a:rect l="l" t="t" r="r" b="b"/>
            <a:pathLst>
              <a:path w="2832" h="576">
                <a:moveTo>
                  <a:pt x="0" y="576"/>
                </a:moveTo>
                <a:cubicBezTo>
                  <a:pt x="244" y="288"/>
                  <a:pt x="488" y="0"/>
                  <a:pt x="960" y="0"/>
                </a:cubicBezTo>
                <a:cubicBezTo>
                  <a:pt x="1432" y="0"/>
                  <a:pt x="2512" y="480"/>
                  <a:pt x="2832" y="576"/>
                </a:cubicBezTo>
              </a:path>
            </a:pathLst>
          </a:custGeom>
          <a:noFill/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257800"/>
            <a:ext cx="72392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860640"/>
            <a:ext cx="72392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268280"/>
            <a:ext cx="1627200" cy="5335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1844640"/>
            <a:ext cx="1627200" cy="5335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2421000"/>
            <a:ext cx="1627200" cy="53316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3068640"/>
            <a:ext cx="1627200" cy="53352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5791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“The New New Product Development Game”, Hirotaka Takeuchi and Ikujiro Nonaka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arvard Business Revie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January 198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3FE9-7041-4B52-B21B-0B8B5909A9E4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at is Scrum?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5853240" y="4133880"/>
            <a:ext cx="1066680" cy="758880"/>
          </a:xfrm>
          <a:prstGeom prst="rightArrow">
            <a:avLst>
              <a:gd name="adj1" fmla="val 50000"/>
              <a:gd name="adj2" fmla="val 35140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57600" y="4343400"/>
            <a:ext cx="838440" cy="38088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 rot="6108600">
            <a:off x="3956760" y="1400040"/>
            <a:ext cx="1981080" cy="1752480"/>
          </a:xfrm>
          <a:custGeom>
            <a:avLst/>
            <a:gdLst>
              <a:gd name="textAreaLeft" fmla="*/ -360 w 1981080"/>
              <a:gd name="textAreaRight" fmla="*/ 1981080 w 198108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7559" y="3844"/>
                </a:moveTo>
                <a:arcTo wR="-7674" hR="-7674" stAng="-6898741" swAng="-13871483"/>
                <a:lnTo>
                  <a:pt x="313" y="8218"/>
                </a:lnTo>
                <a:arcTo wR="10800" hR="10800" stAng="-9970225" swAng="13871483"/>
                <a:lnTo>
                  <a:pt x="16501" y="23037"/>
                </a:lnTo>
                <a:lnTo>
                  <a:pt x="10836" y="20973"/>
                </a:lnTo>
                <a:lnTo>
                  <a:pt x="12900" y="15309"/>
                </a:lnTo>
                <a:close/>
              </a:path>
            </a:pathLst>
          </a:cu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0920" y="5502240"/>
            <a:ext cx="919440" cy="5176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1680">
            <a:solidFill>
              <a:srgbClr val="006c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92320" y="5086440"/>
            <a:ext cx="919080" cy="51732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1680">
            <a:solidFill>
              <a:srgbClr val="006c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61920" y="4684680"/>
            <a:ext cx="919440" cy="5176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1680">
            <a:solidFill>
              <a:srgbClr val="006c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9120" y="4282920"/>
            <a:ext cx="919440" cy="5176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316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67240" y="4200480"/>
            <a:ext cx="894960" cy="664920"/>
            <a:chOff x="3567240" y="4200480"/>
            <a:chExt cx="894960" cy="664920"/>
          </a:xfrm>
        </p:grpSpPr>
        <p:sp>
          <p:nvSpPr>
            <p:cNvPr id="132" name=""/>
            <p:cNvSpPr/>
            <p:nvPr/>
          </p:nvSpPr>
          <p:spPr>
            <a:xfrm>
              <a:off x="3719520" y="4503240"/>
              <a:ext cx="742680" cy="362160"/>
            </a:xfrm>
            <a:prstGeom prst="cube">
              <a:avLst>
                <a:gd name="adj" fmla="val 81990"/>
              </a:avLst>
            </a:prstGeom>
            <a:solidFill>
              <a:srgbClr val="ccffff"/>
            </a:solidFill>
            <a:ln w="31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68760" y="4402440"/>
              <a:ext cx="742680" cy="362520"/>
            </a:xfrm>
            <a:prstGeom prst="cube">
              <a:avLst>
                <a:gd name="adj" fmla="val 81990"/>
              </a:avLst>
            </a:prstGeom>
            <a:solidFill>
              <a:srgbClr val="ccffff"/>
            </a:solidFill>
            <a:ln w="31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18000" y="4302000"/>
              <a:ext cx="742680" cy="362160"/>
            </a:xfrm>
            <a:prstGeom prst="cube">
              <a:avLst>
                <a:gd name="adj" fmla="val 81990"/>
              </a:avLst>
            </a:prstGeom>
            <a:solidFill>
              <a:srgbClr val="ccffff"/>
            </a:solidFill>
            <a:ln w="31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67240" y="4200480"/>
              <a:ext cx="742680" cy="362520"/>
            </a:xfrm>
            <a:prstGeom prst="cube">
              <a:avLst>
                <a:gd name="adj" fmla="val 81990"/>
              </a:avLst>
            </a:prstGeom>
            <a:solidFill>
              <a:srgbClr val="ccffff"/>
            </a:solidFill>
            <a:ln w="31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000400" y="34020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1240" y="20304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 rot="15491400">
            <a:off x="4338720" y="2522160"/>
            <a:ext cx="2313000" cy="2086200"/>
          </a:xfrm>
          <a:custGeom>
            <a:avLst/>
            <a:gdLst>
              <a:gd name="textAreaLeft" fmla="*/ 0 w 2313000"/>
              <a:gd name="textAreaRight" fmla="*/ 2313360 w 2313000"/>
              <a:gd name="textAreaTop" fmla="*/ -360 h 2086200"/>
              <a:gd name="textAreaBottom" fmla="*/ 2086200 h 2086200"/>
            </a:gdLst>
            <a:ahLst/>
            <a:rect l="textAreaLeft" t="textAreaTop" r="textAreaRight" b="textAreaBottom"/>
            <a:pathLst>
              <a:path w="21600" h="21600">
                <a:moveTo>
                  <a:pt x="14327" y="4453"/>
                </a:moveTo>
                <a:arcTo wR="-7261" hR="-7261" stAng="-3656356" swAng="-18701123"/>
                <a:lnTo>
                  <a:pt x="261" y="13160"/>
                </a:lnTo>
                <a:arcTo wR="10800" hR="10800" stAng="10042521" swAng="18701123"/>
                <a:lnTo>
                  <a:pt x="4243" y="22600"/>
                </a:lnTo>
                <a:lnTo>
                  <a:pt x="2507" y="16523"/>
                </a:lnTo>
                <a:lnTo>
                  <a:pt x="8585" y="14787"/>
                </a:lnTo>
                <a:close/>
              </a:path>
            </a:pathLst>
          </a:cu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24240" y="4133880"/>
            <a:ext cx="1066680" cy="758880"/>
          </a:xfrm>
          <a:prstGeom prst="rightArrow">
            <a:avLst>
              <a:gd name="adj1" fmla="val 50000"/>
              <a:gd name="adj2" fmla="val 35140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91200" y="4276800"/>
            <a:ext cx="919440" cy="517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9320" y="48769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27480" y="5181480"/>
            <a:ext cx="30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Back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rioritized by Product Ow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3000" y="394344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t Back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3720" y="3400560"/>
            <a:ext cx="143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log 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4905360"/>
            <a:ext cx="207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ly Shipp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c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44000" y="227664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ly Sc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81880" y="5791320"/>
            <a:ext cx="236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gile Software Development with Scru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Ken Schwaber and Mike Beed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EA12-5598-4FE5-A4C9-69A93465678D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at is Scrum?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Scrum revolves around the </a:t>
            </a:r>
            <a:r>
              <a:rPr b="0" lang="en-US" sz="2100" spc="-1" strike="noStrike">
                <a:solidFill>
                  <a:srgbClr val="3333cc"/>
                </a:solidFill>
                <a:latin typeface="Microsoft Sans Serif"/>
              </a:rPr>
              <a:t>ethos of simplicity</a:t>
            </a: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, resulting in </a:t>
            </a:r>
            <a:r>
              <a:rPr b="0" lang="en-US" sz="2100" spc="-1" strike="noStrike">
                <a:solidFill>
                  <a:srgbClr val="3333cc"/>
                </a:solidFill>
                <a:latin typeface="Microsoft Sans Serif"/>
              </a:rPr>
              <a:t>delivery</a:t>
            </a: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 of something that moves the project forward: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marL="452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28000" indent="-37692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What have you done during the last 24 hours?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28000" indent="-37692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What do you plan to do in the next 24 hours?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28000" indent="-37692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What’s stopping you getting on with the work of the next 24 hours?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28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marL="452520" indent="-45252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This is useful because: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marL="452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28000" indent="-37692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This is 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progress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, it’s work completed to date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28000" indent="-37692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This is 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forward planning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, it is work you are about to do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828000" indent="-37692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These are your 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impediments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 or 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obstructions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, it might be things you need in order to work…more 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forward planning.  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It’s also identification of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 immediate risks.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marL="452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2360" y="227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9080" y="1989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8A62-3872-4E14-877D-A231D7AD58A0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at is Scrum?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Role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Product Owner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Possibly a Product Manager or Project Sponsor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Internal Customer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ScrumMaster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Represents management to the project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Typically filled by a Project Manager or Team Leader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Responsible for enacting Scrum values and practices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Main job is to remove impediments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Project Team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5-10 members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Cross-functional:  QA, Programmers, UI Designers, etc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AB26-2467-49E8-97DE-2F85C08E8FE8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at is Scrum?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9185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Daily “stand up” meeting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Folks who sit down at meetings get too comfortabl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They attend meetings for the coffee and doughnuts, not for the project’s sake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Only the ScrumMaster and the project team are allowed to talk: outsiders may listen in, but are removed should they say anything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This is all about who is committed to the project or not…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911240" cy="1935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1520640" cy="17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F862-3656-4318-AE1A-CFE38D400C74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at is Scrum?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Daily “stand up” meetings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98480" indent="-34272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Time-boxed, typically to 15 minute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Microsoft Sans Serif"/>
              </a:rPr>
              <a:t>if you can’t say what you have to say succinctly, you’re waffling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98480" indent="-342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Three questions: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19320" indent="-304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What did you do yesterday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19320" indent="-304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What will you do today?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19320" indent="-304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Microsoft Sans Serif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What obstacles are in your way?</a:t>
            </a:r>
            <a:r>
              <a:rPr b="0" lang="en-GB" sz="1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98480" indent="-34272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Keeping it time-boxed focuses folks minds and helps get/keep agenda items targeted at what’s important: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98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98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Microsoft Sans Serif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Microsoft Sans Serif"/>
              </a:rPr>
              <a:t>Moving the project forward towards delivery of “something”… and identifying and removing obstacles that prevent this goal being met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00A5-78CD-4DA0-B083-BA75D3F55707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Agenda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ting the Scen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at is Scrum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icrosoft Sans Serif"/>
              </a:rPr>
              <a:t>Scrum’s Artifac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y Scrum Works…For Me (Adopting Scrum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A4FD-31C9-452A-86E7-02C4646100E5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Scrum’s Artifacts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crum has remarkably few artifac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Product Backlog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print Backlog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Burndown Chart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an be managed using an nothing more than an Excel spreadsheet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More advanced / complicated tools exist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Web-based – no good for the project manager who travel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Still under development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1623-170A-4CD7-A722-BA7C4503EE9F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Product Backlog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1125360"/>
          <a:ext cx="7846920" cy="4386600"/>
        </p:xfrm>
        <a:graphic>
          <a:graphicData uri="http://schemas.openxmlformats.org/drawingml/2006/table">
            <a:tbl>
              <a:tblPr/>
              <a:tblGrid>
                <a:gridCol w="646200"/>
                <a:gridCol w="360360"/>
                <a:gridCol w="809640"/>
                <a:gridCol w="2776320"/>
                <a:gridCol w="662040"/>
                <a:gridCol w="1074960"/>
                <a:gridCol w="276120"/>
                <a:gridCol w="12412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log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 (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maining (day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iew Analy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tend Analysis - Aberd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tend Analysis - Newcas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tend Analysis - London West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analysts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analysts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 analysts out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nal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business process reengineer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nal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business process reengineer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onal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business process reengineer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r Acceptance of BPR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r Acceptance of BPR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4520" indent="-344520"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11F5-E453-4A2F-9D79-BA21FB0B11FE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Sprint Backlog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281800" cy="2695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11120" y="2101680"/>
            <a:ext cx="8209080" cy="253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0200" y="3181320"/>
            <a:ext cx="7993080" cy="2376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971640" y="4214880"/>
            <a:ext cx="8066160" cy="22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4920-8185-4E4C-95C7-5779577BA4F7}" type="slidenum">
              <a:t>19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Disclaimer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One person’s view…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What works for me, might not work for you…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ot intended to be a “my method’s better than your method” session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Not a “nitty-gritty” project management session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I will be talking about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Why I have not adopted Scrum in its entirety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Why I </a:t>
            </a:r>
            <a:r>
              <a:rPr b="0" lang="en-US" sz="1800" spc="-1" strike="noStrike">
                <a:solidFill>
                  <a:srgbClr val="3333cc"/>
                </a:solidFill>
                <a:latin typeface="Microsoft Sans Serif"/>
              </a:rPr>
              <a:t>adopted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the parts of Scrum that I did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Why I </a:t>
            </a:r>
            <a:r>
              <a:rPr b="0" lang="en-US" sz="1800" spc="-1" strike="noStrike">
                <a:solidFill>
                  <a:srgbClr val="3333cc"/>
                </a:solidFill>
                <a:latin typeface="Microsoft Sans Serif"/>
              </a:rPr>
              <a:t>adapted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Scrum to suit my need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How I am using Scrum, yet still “appearing” to use traditional heavyweight method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Like Scrum, this is a lightweight ses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ore of a Case Study perhaps…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B0E4-640E-41CC-BEAE-AF6E99EA0CC3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Burndown Exampl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No work being performed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-109440" y="1484280"/>
          <a:ext cx="9145440" cy="36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1484280"/>
                    <a:ext cx="914544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C2A7-0C07-4653-9EA2-6EC78D71128A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Burndown Exampl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Work being performed, but not fast enough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108000" y="1413000"/>
          <a:ext cx="9252000" cy="36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413000"/>
                    <a:ext cx="925200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AF8C-30E0-4547-BAE7-F16F0C94B3FB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Burndown Exampl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Work being performed, but too fast!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-108000" y="1484280"/>
          <a:ext cx="9072720" cy="36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484280"/>
                    <a:ext cx="907272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D581-DE89-40C6-A78F-44890B0EB3F9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Individual Burndown Charts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557360"/>
          <a:ext cx="8964720" cy="35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9647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23BE-FB38-4CDC-A398-BDCCD995A4BE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Agenda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ting the Scen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at is Scrum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crum’s Artifac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icrosoft Sans Serif"/>
              </a:rPr>
              <a:t>Why Scrum Works…For Me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 (Adopting Scrum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A10A-2C36-4BFD-B2F2-872AADFF9F79}" type="slidenum">
              <a:t>24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y Scrum Works…For M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’s simple, Scrum’s three questions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Summary of work completed to date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Microsoft Sans Serif"/>
              </a:rPr>
              <a:t>or</a:t>
            </a:r>
            <a:endParaRPr b="0" lang="en-US" sz="15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Summary of work complete in the last 14 days (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Plan of work for the next 14 days (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Project Issues requiring action from the Steering Group (</a:t>
            </a:r>
            <a:r>
              <a:rPr b="0" lang="en-US" sz="1900" spc="-1" strike="noStrike">
                <a:solidFill>
                  <a:srgbClr val="3333cc"/>
                </a:solidFill>
                <a:latin typeface="Microsoft Sans Serif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5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icrosoft Sans Serif"/>
              </a:rPr>
              <a:t>I first used these three key elements of Scrum a few months ago, the [small] audience loved the simplicity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96360" y="3141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80360" y="2852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164360" y="2565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D443-C191-4A39-B8CF-71B7F1626FD7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y Scrum Works…For M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t’s fairly easy to convert a Sprint Backlog in to a Microsoft Project “plan”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Despite the cost of Microsoft Project licenses, upper management seem to like “charts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print Backlogs and Burndown Charts are early warning indicator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Lack of progress, very visibl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Not enough work or work too easy, very visibl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ssumes that everybody is </a:t>
            </a:r>
            <a:r>
              <a:rPr b="0" lang="en-US" sz="2000" spc="-1" strike="noStrike">
                <a:solidFill>
                  <a:srgbClr val="3333cc"/>
                </a:solidFill>
                <a:latin typeface="Microsoft Sans Serif"/>
              </a:rPr>
              <a:t>committed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to keeping the Sprint Backlog up to dat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1113-6626-4824-92B3-E7B07D2E62A1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y Scrum Works…For M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’ve had some buy in to “stand up” meetings, but not enough: we don’t practice them right now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Perhaps because Scrum expects late-comers to pay a nominal £1, $1, or €1 fine!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Here’s another reason why I think some folks have objected to them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7705800" cy="26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DB7F-5986-408B-82BC-3D2B3A14CC5B}" type="slidenum">
              <a:t>27</a:t>
            </a:fld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023 L 0.00139 -0.06223 E">
                                      <p:cBhvr>
                                        <p:cTn id="23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Agenda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ting the Scen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at is Scrum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crum’s Artifac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y Scrum Works…For Me (Adopting Scrum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icrosoft Sans Serif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DF00-4559-4C73-8B8C-E6E26C796109}" type="slidenum">
              <a:t>28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Summary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Keep asking these questions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What is the simplest thing that can move the project forward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Does what I am doing right now move the project forward at all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Are there any impediments that are preventing progress?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Don’t procrastinate, do something, no matter how small…” – </a:t>
            </a:r>
            <a:r>
              <a:rPr b="0" i="1" lang="en-GB" sz="1600" spc="-1" strike="noStrike">
                <a:solidFill>
                  <a:srgbClr val="000000"/>
                </a:solidFill>
                <a:latin typeface="Microsoft Sans Serif"/>
              </a:rPr>
              <a:t>Ken Schwaber, April 2004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FF7F-1A88-4C87-B465-70FA2E954B2A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Agenda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ting the Scen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at is Scrum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crum’s Artifac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y Scrum Works…For Me (Adopting Scrum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33DC-4D55-44AD-932C-C880366998B1}" type="slidenum">
              <a:t>3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Summary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Keep the team small and tight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Avoid folks with Teflon shoulders – “hangers on”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Our core team comprises of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1 * business expert, with authority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1 * IT expert, with internal Time &amp; Expense experience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1 * consultant with specific MIS implementation experience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2 * business analyst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Any larger and decisions become committee-driven: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400"/>
              </a:spcBef>
              <a:buClr>
                <a:srgbClr val="cc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They won’t be made in a timely fashion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CFF6-FFEF-4CD0-8857-8B795CF3B9FE}" type="slidenum">
              <a:t>30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Summary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79640" y="1844640"/>
            <a:ext cx="5181120" cy="4495320"/>
            <a:chOff x="1979640" y="1844640"/>
            <a:chExt cx="5181120" cy="4495320"/>
          </a:xfrm>
        </p:grpSpPr>
        <p:sp>
          <p:nvSpPr>
            <p:cNvPr id="207" name=""/>
            <p:cNvSpPr/>
            <p:nvPr/>
          </p:nvSpPr>
          <p:spPr>
            <a:xfrm>
              <a:off x="2059560" y="3632400"/>
              <a:ext cx="2624760" cy="2625120"/>
            </a:xfrm>
            <a:prstGeom prst="ellipse">
              <a:avLst/>
            </a:prstGeom>
            <a:solidFill>
              <a:srgbClr val="99ccff"/>
            </a:solidFill>
            <a:ln w="31680">
              <a:solidFill>
                <a:srgbClr val="006c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97160" y="4042800"/>
              <a:ext cx="1967040" cy="1968840"/>
            </a:xfrm>
            <a:prstGeom prst="ellipse">
              <a:avLst/>
            </a:prstGeom>
            <a:solidFill>
              <a:srgbClr val="ccffff"/>
            </a:solidFill>
            <a:ln w="3168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9640" y="5047920"/>
              <a:ext cx="2787120" cy="12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9640" y="3386520"/>
              <a:ext cx="1280520" cy="170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225600" y="2582640"/>
              <a:ext cx="16920" cy="246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25960" y="5030640"/>
              <a:ext cx="2459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91120" y="4534920"/>
              <a:ext cx="90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643000">
              <a:off x="3461400" y="4125960"/>
              <a:ext cx="13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lic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01600" y="1865160"/>
              <a:ext cx="1967040" cy="1968840"/>
            </a:xfrm>
            <a:prstGeom prst="ellipse">
              <a:avLst/>
            </a:prstGeom>
            <a:solidFill>
              <a:srgbClr val="00ccff"/>
            </a:solidFill>
            <a:ln w="31680">
              <a:solidFill>
                <a:srgbClr val="006c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73640" y="1844640"/>
              <a:ext cx="278712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85480" y="2583000"/>
              <a:ext cx="1475280" cy="145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3680" y="2993040"/>
              <a:ext cx="90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rc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3960" y="3485160"/>
              <a:ext cx="106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3880" y="5003280"/>
              <a:ext cx="983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Clos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Certain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29560" y="4996440"/>
              <a:ext cx="983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Far fr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Certain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6040" y="4982760"/>
              <a:ext cx="24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42440" y="4634280"/>
              <a:ext cx="983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Clos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42440" y="2541960"/>
              <a:ext cx="983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Far fr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</a:rPr>
                <a:t>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1820880" y="3575880"/>
              <a:ext cx="24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553080" y="5638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Management and Organizational Dynamic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Ralph Stacey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gile Software Development with Scru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Ken Schwaber and Mike Beed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4BA7-BD4F-4F43-9FF7-13606A795F0F}" type="slidenum">
              <a:t>31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Resources (Books)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43280" y="1197000"/>
            <a:ext cx="6121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4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Microsoft Sans Serif"/>
              </a:rPr>
              <a:t>Agile Project Management with Scrum</a:t>
            </a:r>
            <a:endParaRPr b="0" lang="en-US" sz="25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Ken Schwaber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Microsoft Press, 2004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ISBN 073561993X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Microsoft Sans Serif"/>
              </a:rPr>
              <a:t>________________________________</a:t>
            </a:r>
            <a:endParaRPr b="0" lang="en-US" sz="25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Microsoft Sans Serif"/>
              </a:rPr>
              <a:t>Agile Software Development with Scrum</a:t>
            </a:r>
            <a:endParaRPr b="0" lang="en-US" sz="25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Ken Schwaber, Mike Beedl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Prentice Hall, 2002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ISBN 0130676349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004840" cy="244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96992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8388-F542-4EB7-836F-F311709DF3D9}" type="slidenum">
              <a:t>32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Resources (web-sites)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Scrum: It’s About Common Sens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Microsoft Sans Serif"/>
              </a:rPr>
              <a:t>http://www.controlchaos.com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Pay your £1, $1, €1 late-comer fee via this site!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Microsoft Sans Serif"/>
              </a:rPr>
              <a:t>http://www.scrumalliance.org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Microsoft Sans Serif"/>
              </a:rPr>
              <a:t>http://www.mountaingoatsoftware.com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3B25-C07A-4C29-B572-AF6585A52818}" type="slidenum">
              <a:t>33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Contact and Update Information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66229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Craig Murphy  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icrosoft Sans Serif"/>
              </a:rPr>
              <a:t>Updated slides, notes and source code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Microsoft Sans Serif"/>
              </a:rPr>
              <a:t>http://www.CraigMurphy.com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44800" cy="1587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292480" cy="23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A918-5555-4689-8BB9-69D1DE632E6D}" type="slidenum">
              <a:t>34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2652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DB21-830C-4362-9104-ECD4B4095B61}" type="slidenum">
              <a:t>35</a:t>
            </a:fld>
          </a:p>
        </p:txBody>
      </p:sp>
    </p:spTree>
  </p:cSld>
  <p:transition advTm="15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Motivation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o put my Scrum training to good use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o adopt Scrum, albeit incrementally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No “big bang” adoption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o develop a façade that [initially] looks like we’re practicing </a:t>
            </a:r>
            <a:r>
              <a:rPr b="0" lang="en-US" sz="2000" spc="-1" strike="noStrike">
                <a:solidFill>
                  <a:srgbClr val="3333cc"/>
                </a:solidFill>
                <a:latin typeface="Microsoft Sans Serif"/>
              </a:rPr>
              <a:t>traditional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project managemen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raditional project management seems to revolve around the creation of often unnecessary artefacts that deliver little or no value to the project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4440" indent="-2300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</a:rPr>
              <a:t>Annoyingly, management seem to want these artefacts sooner rather than later…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36F3-A7B1-4522-A462-8B78D684D9DF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Agenda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icrosoft Sans Serif"/>
              </a:rPr>
              <a:t>Setting the Scen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at is Scrum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crum’s Artifac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y Scrum Works…For Me (Adopting Scrum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2CB9-4175-4044-B19E-9C60FB3ECB57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Setting the Scen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urrently, I’m project managing a Management Information System (MIS)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Off-the-shelf, “single version” produc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Java application for wide-spread us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Win32 client for concentrated use in head office/finance centre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onfigured via fields in a database table…AFAIK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nancial accounting: GL AR, AP, P&amp;L, WIP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ime &amp; Expense recording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-2854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500 users, distributed over 15 geographically remote office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1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F56B-30B6-4B37-8F45-569C266B48B2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Setting the Scene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icrosoft Sans Serif"/>
              </a:rPr>
              <a:t>My involvement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3680" indent="-28260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Purchase &amp; legalese, SOW, PSA, SLA, etc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32920" indent="-22752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despite my objections, I’m not a lawyer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329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3680" indent="-28260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Existing process analysis within 15 geographically remote offices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32920" indent="-22752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Performed by two Business Analysts (BAs)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329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3680" indent="-28260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Rationalisation and Configuration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32920" indent="-22752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Based on the documentation produced by the BAs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3680" indent="-28260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Owner of the “Project Plan” (WWW!  Warning Warning Waterfall!)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3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33680" indent="-282600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icrosoft Sans Serif"/>
              </a:rPr>
              <a:t>Responsible for reporting to the Steering Group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32920" indent="-22752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icrosoft Sans Serif"/>
              </a:rPr>
              <a:t>Board level folks who are responsible for decision making</a:t>
            </a:r>
            <a:endParaRPr b="0" lang="en-US" sz="16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584000" indent="-226080">
              <a:spcBef>
                <a:spcPts val="34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Microsoft Sans Serif"/>
              </a:rPr>
              <a:t>like lots of feedback, but…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40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1E84-5E80-4D05-992E-1D11E678E613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Agenda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etting the Scene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icrosoft Sans Serif"/>
              </a:rPr>
              <a:t>What is Scrum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crum’s Artifacts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y Scrum Works…For Me (Adopting Scrum)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44520" indent="-344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6431-81DD-497E-8E71-07D23DB84F71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icrosoft Sans Serif"/>
              </a:rPr>
              <a:t>What is Scrum?</a:t>
            </a:r>
            <a:endParaRPr b="1" lang="en-US" sz="2800" spc="-1" strike="noStrike">
              <a:solidFill>
                <a:srgbClr val="000099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4080" indent="-334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Scrum: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Is an agile, </a:t>
            </a:r>
            <a:r>
              <a:rPr b="0" lang="en-US" sz="2000" spc="-1" strike="noStrike">
                <a:solidFill>
                  <a:srgbClr val="3333cc"/>
                </a:solidFill>
                <a:latin typeface="Microsoft Sans Serif"/>
              </a:rPr>
              <a:t>lightweight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an </a:t>
            </a:r>
            <a:r>
              <a:rPr b="0" lang="en-US" sz="2000" spc="-1" strike="noStrike">
                <a:solidFill>
                  <a:srgbClr val="3333cc"/>
                </a:solidFill>
                <a:latin typeface="Microsoft Sans Serif"/>
              </a:rPr>
              <a:t>manage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Microsoft Sans Serif"/>
              </a:rPr>
              <a:t>control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software and product developmen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Uses iterative, incremental practice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Has a </a:t>
            </a:r>
            <a:r>
              <a:rPr b="0" lang="en-US" sz="2000" spc="-1" strike="noStrike">
                <a:solidFill>
                  <a:srgbClr val="3333cc"/>
                </a:solidFill>
                <a:latin typeface="Microsoft Sans Serif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 implementation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Increases productivity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Reduces </a:t>
            </a:r>
            <a:r>
              <a:rPr b="0" lang="en-US" sz="2000" spc="-1" strike="noStrike">
                <a:solidFill>
                  <a:srgbClr val="3333cc"/>
                </a:solidFill>
                <a:latin typeface="Microsoft Sans Serif"/>
              </a:rPr>
              <a:t>time to benefit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Embraces adaptive, empirical systems developmen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Is not restricted to software development projects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-276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Embraces the opposite of the waterfall approach…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18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AACE-BE90-43BC-954A-0EAC8F42FD8E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5:45:36Z</dcterms:created>
  <dc:creator>Craig Murphy</dc:creator>
  <dc:description/>
  <dc:language>en-US</dc:language>
  <cp:lastModifiedBy>Craig Murphy</cp:lastModifiedBy>
  <cp:lastPrinted>2000-09-24T01:46:47Z</cp:lastPrinted>
  <dcterms:modified xsi:type="dcterms:W3CDTF">2004-09-06T05:36:58Z</dcterms:modified>
  <cp:revision>75</cp:revision>
  <dc:subject/>
  <dc:title>Why Scrum Works</dc:title>
</cp:coreProperties>
</file>