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20D-2FF1-459E-9244-4357C7DA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466-E01C-4117-9278-6EF26F47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BBF-1A0F-4DB8-9C23-AF291F50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276-C48A-43B0-8B1D-AADDE281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4C5-B15E-430C-AF2E-C3E251D9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490-3180-4251-8032-A4168B11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997-3DF8-4426-B4A4-2395E2DE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8CB-C12D-4BAC-81EA-1D535603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AFA-11FC-4E9A-97C8-9B188D66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CE1-F5D0-437C-83E7-5B433409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23E-B129-4DF9-A2DF-C891137B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48A-FE0F-4252-8C18-6E5EDAE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421E-8243-4CB6-ACF9-21491DA8F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rial"/>
              </a:rPr>
              <a:t>Delphi Custom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1915920"/>
            <a:ext cx="6553080" cy="27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with Craig Chapman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http://www.craigchapman.me.uk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craig@craigchapman.me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84720" y="3213000"/>
            <a:ext cx="3276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8785440" cy="38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360" y="954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DI Regions – Drawing a b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3360" y="889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DI Regions – Combined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242892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35280" y="198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492360" y="1565280"/>
            <a:ext cx="242892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427800" y="1557360"/>
            <a:ext cx="2428920" cy="137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13080" y="1982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81600" y="6583320"/>
            <a:ext cx="156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emo1_Border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3080" y="954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642160" cy="194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2360" y="2781360"/>
            <a:ext cx="8640720" cy="2274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443640" y="5110200"/>
            <a:ext cx="24289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8920" y="8892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Inte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7561440" cy="474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95280" y="1465200"/>
            <a:ext cx="6481800" cy="4124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95280" y="5661000"/>
            <a:ext cx="74898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8920" y="8892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Inte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642160" cy="5707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85200" y="6583320"/>
            <a:ext cx="24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emo3_MouseoverAndClick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8920" y="8892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85440" cy="2703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360" y="928800"/>
            <a:ext cx="72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Use the same function for getting text extents as for drawing th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8920" y="8892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72010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8920" y="8892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able Text (Using the Car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5240" y="100008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only create one windows caret per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6120" y="1413000"/>
            <a:ext cx="69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et must be hidden before drawing and re-shown afterw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7777080" cy="511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6840360" cy="65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24000" y="5877000"/>
            <a:ext cx="5040000" cy="67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24000" y="2276640"/>
            <a:ext cx="5349600" cy="290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4000" y="3068640"/>
            <a:ext cx="2519280" cy="31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4000" y="416880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focus we create the ca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3440" y="551016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kill focus we destroy the ca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5440" y="179244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CreateParams() we’ve already s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S_TAB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080" y="270180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CL still doesn’t let us have the focus / kill focus messages unless we set Tab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360" y="921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able Text (Using the Car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705800" cy="5805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800" y="68580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et needs size and posi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7993080" cy="205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8569080" cy="2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8920" y="8892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able Text (Using the Car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6408720" cy="2408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6720" y="83664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 key moveme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rial"/>
              </a:rPr>
              <a:t>Delphi Custom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1915920"/>
            <a:ext cx="6553080" cy="27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with Craig Chapman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http://www.craigchapman.me.uk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craig@craigchapman.me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321300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7440" y="636444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aircominternation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84720" y="3213000"/>
            <a:ext cx="3276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8920" y="8892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able Text (Using the Car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920" y="7840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ing the tex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6192720" cy="241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6265800" cy="2297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50920" y="1557360"/>
            <a:ext cx="6337080" cy="1184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6320" y="5229360"/>
            <a:ext cx="68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ve since added backspace, delete, control keys for home/end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00160" y="6400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4_EditBoxes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4680" y="5589720"/>
            <a:ext cx="85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re is only one caret. Make sure you’re not trying to size or positi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he paint method when you do not have foc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8720" y="1576440"/>
            <a:ext cx="44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see the demo of what I have so f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rial"/>
              </a:rPr>
              <a:t>Delphi Custom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58560" y="1915920"/>
            <a:ext cx="6553080" cy="27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with Craig Chapman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http://www.craigchapman.me.uk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craig@craigchapman.me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84720" y="3213000"/>
            <a:ext cx="3276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3600" y="10620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Custom Contr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680" y="1052640"/>
            <a:ext cx="60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older applications a face lift to improve marke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040" y="1628640"/>
            <a:ext cx="78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-step my pet hate – porting to an alternative syntax for no good reas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320" y="2421000"/>
            <a:ext cx="4356000" cy="336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00720" y="242100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5680" y="954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lass to deriv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280" y="922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ontro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No 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7120" y="19303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Graph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No Window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120" y="24336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ustomTransparentContro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OK, but can be flick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7120" y="293832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ustomContro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Has both canvas and window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200" y="142560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WinContro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No 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63640" y="3675240"/>
            <a:ext cx="49690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5680" y="954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the control transpa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040" y="1996920"/>
            <a:ext cx="71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rid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Params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set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S_EX_TRANSPAR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065800" cy="156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7760" y="981000"/>
            <a:ext cx="832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indows are rectangular, if the control when drawn is to be any other shap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need a transparent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320" y="4525920"/>
            <a:ext cx="88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dow created with this style receiv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M_P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s only after all sib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beneath it have been updated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11040" y="841320"/>
            <a:ext cx="82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r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hod to redraw sibling contr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7600" y="1265400"/>
            <a:ext cx="7704000" cy="5233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5680" y="954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the control transpa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320" y="889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DI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2280" y="84924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your control is non-rectangular and will require mouse interaction then cre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border for the control is not optional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5080" y="1531800"/>
            <a:ext cx="86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s can be used to clip the GDI drawing routines to prevent them draw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 a given boundar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gion defines the area of the canvas into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RE permitted to dr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2505240"/>
            <a:ext cx="840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s can also be used for ‘hit testing’ – This will allow us to test the mo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to see if they are truly within the drawn area of our control rather th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the transparent background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548160"/>
            <a:ext cx="837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several windows functions for creating regions…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EllipticR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reates an elliptic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EllipticRgnIndir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reates an elliptic region from a REC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PolygonR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Creates a polygonal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PolyPolygonR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reates a multi-polygonal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RectR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reates a rectangular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RectRgnIndir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reates a rectangular region from a REC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RoundRectR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reates a region with rounded co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tCreateReg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reates a region from reg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hToReg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reates a region from a GDI defined path on a Device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8892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DI Regions – Drawing a b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272360" cy="1854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7272360" cy="1224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7600" y="112536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ride the paint metho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55640" y="4869000"/>
            <a:ext cx="3672000" cy="107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508720" y="486900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55640" y="6165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Note – BorderRegions need to be de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360" y="8892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DI Regions – Drawing a b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" y="7650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Bord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8280" y="1197000"/>
            <a:ext cx="904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8:01:53Z</dcterms:created>
  <dc:creator>Craig</dc:creator>
  <dc:description/>
  <dc:language>en-US</dc:language>
  <cp:lastModifiedBy>Craig</cp:lastModifiedBy>
  <dcterms:modified xsi:type="dcterms:W3CDTF">2010-11-15T00:00:16Z</dcterms:modified>
  <cp:revision>51</cp:revision>
  <dc:subject/>
  <dc:title>Delphi Custom Controls</dc:title>
</cp:coreProperties>
</file>