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10.png" ContentType="image/png"/>
  <Override PartName="/ppt/media/image5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28.wmf" ContentType="image/x-wmf"/>
  <Override PartName="/ppt/media/image30.png" ContentType="image/png"/>
  <Override PartName="/ppt/media/image9.wmf" ContentType="image/x-wmf"/>
  <Override PartName="/ppt/media/image33.png" ContentType="image/png"/>
  <Override PartName="/ppt/media/image16.wmf" ContentType="image/x-wmf"/>
  <Override PartName="/ppt/media/image35.png" ContentType="image/png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media/image14.wmf" ContentType="image/x-wmf"/>
  <Override PartName="/ppt/media/image15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04D2-63C2-4E78-93E2-B1B5929F87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n argument that too much validation at the database layer is inappropri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tform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quires unnecessary network round tr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xample works by constructing a concrete class and then using the activator to create an instance it calls the Eval function to obtain the appropriat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tch versions exist where multiple sources can be compiled into a single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BB6-37C6-4326-8206-E8ECE98C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DA9-B78D-425A-8D46-370A956A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AB5-97C4-4B9A-BED9-8BBED131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F48-C2C1-4302-A70E-7AAD70B2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4701-DCB8-4E24-BA7E-35FA93BD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E4C4-945A-40CE-958C-37CE9C9E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609A-989A-4FE1-B71C-294AD1D8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58D5-10DE-4753-A4A9-610432E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2356-F2D5-42F6-9458-E3430552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EB9F-2348-497E-A47A-B81F0F55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90A8-35E7-4DAF-BB48-E650ABC2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D3E-5B32-4FEF-9631-2362F0B1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8DD1-3F0F-4FFA-8E62-9006450D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74CE-3B20-467F-B4B5-F1345450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7290-0BEB-493A-BD9A-67DE97B8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6883-228E-4F6F-A888-4956B85E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2B21-A2B4-4342-83AA-D01A9508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8FF-DEF4-4771-BF66-38A7FFC5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D96-4D54-46B8-A66C-2311923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F04-475F-4F43-BE71-90095C8E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7558-533D-437A-A257-A37BA912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9C8-64C6-4A2B-BB4C-9442ED4C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CAE-DA7A-4DE2-9D58-CF5A68A4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B52-D310-45FB-A071-A9FC1A61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95D2-ED08-413C-B29F-F128112A7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331D-C02C-44E3-B0EF-F6A2354B4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deproject.com/csharp/matheval.asp" TargetMode="External"/><Relationship Id="rId2" Type="http://schemas.openxmlformats.org/officeDocument/2006/relationships/hyperlink" Target="http://www.codeproject.com/csharp/matheval.asp" TargetMode="External"/><Relationship Id="rId3" Type="http://schemas.openxmlformats.org/officeDocument/2006/relationships/hyperlink" Target="http://www.codeproject.com/csharp/matheval.asp" TargetMode="External"/><Relationship Id="rId4" Type="http://schemas.openxmlformats.org/officeDocument/2006/relationships/hyperlink" Target="http://www.codeproject.com/csharp/matheval.asp" TargetMode="External"/><Relationship Id="rId5" Type="http://schemas.openxmlformats.org/officeDocument/2006/relationships/hyperlink" Target="http://www.codeproject.com/csharp/matheval.asp" TargetMode="External"/><Relationship Id="rId6" Type="http://schemas.openxmlformats.org/officeDocument/2006/relationships/hyperlink" Target="http://www.codeproject.com/csharp/matheval.asp" TargetMode="External"/><Relationship Id="rId7" Type="http://schemas.openxmlformats.org/officeDocument/2006/relationships/hyperlink" Target="http://www.codeproject.com/csharp/matheval.asp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Century Gothic"/>
              </a:rPr>
              <a:t>Using .NET Runtime Compilation for Bespoke Data Validation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in Bridgew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Developers Grou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deDomProvider Classes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0160" y="1755720"/>
            <a:ext cx="87915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rParameters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Controls Compilation Proc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26708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rResults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tructured Results of Compil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7812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Assembly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upports GetTyp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77028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Activator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upports Runtime Instanti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43606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Processing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8680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Review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Low development co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High performance in repeti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Flexibi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Error handl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Requires sophisticated us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Licenc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– What is it?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hecking data for consistency and format prior to process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Value siz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Value forma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Mandatory valu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Lookup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alcul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Patter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Other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– Why do it?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sabi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Provide users with useful feedback if data is invalid (modern UIs demand this!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Process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Ensure data is consistent prior to processing to reduce the need for later (complex) error handling (defensive programming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Protect the database from inconsistent data (database layer validation is potentially expensive to develop and perfor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SAD Exampl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68648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Slight Change Of Plan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tarted looking into the use of runtime compilation as a means of delivering bespoke runtime valid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Became investigation of using compiled objects to deliver efficient runtime valid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– Where to do it?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31520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Rules – What are they?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tomic constraints on data valu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How do we collect them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How can we prove they are implemented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How do we handle differents rules for different customers without branching cod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How can we support complex rules cheaply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How can we change them easily if business requirements chang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– Standard Approach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apture basic validation rules in a single structure and use a centralised engi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Use different access techniques depending on layer (reflection/RTTI or component/field indexed access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velop specific engines for specialised valid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Hard code complex rul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Requires switches otherwise code branches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Traceability starts to evaporate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– Alternative Approach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ingle repository for all validation rules regardless of complex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upports traceability &amp; debugabi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Use generated classes to perform valid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se linker access to attribut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eparates validation out from core applic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d Validation – Process Overview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72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– Activity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104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d Rule – Abstract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8006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d Rule - Sourc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8961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d Rule Set – Abstract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Container for Rule obj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Must support iter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83818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d Rule Set – Sourc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924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Objectives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Knowledge Sha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Introduce runtime compilation in .NE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Investigate use of compiled validation objects in applic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Is this usefu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Would more research / papers be usefu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Simple Object – Structur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1798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Rule Test – Structur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049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Rule Test – Sourc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Rule Set Test – Structur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98520" y="1828800"/>
            <a:ext cx="3614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Rule Set Test – Sourc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47208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Engine – Structur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572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Engine – Sourc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294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Example 2a – Demonstration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095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Example 2a – Results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,000,000 Compiled = 0.4 second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1,000,000 Reflection = 3 second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pprox. factor of 10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Excludes compilation time!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Excludes locating applicable ru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oesn’t require changes for properties or field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Review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 structure for implementing simple validation obje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Shown potential performance benefits of compiled obje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Haven’t shown source generation and compila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Only shown concept of IsValid test. This isn’t much use for advanced GUIs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No conditional valida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The Rules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udience atten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Mandator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udience particip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Heckl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Toler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leep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Not toler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ccepted at any time though I might deal with them la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Source Rule – Abstract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3657600" cy="3392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39625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Source Rule Set - Abstract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3324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Rule Compilation – Activity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lex Object – Structur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398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lex Object – Rules Sourc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6484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Generator – Structur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4405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Generator – Templat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2486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Generator – Output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57208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r – Structur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0962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r – Load Rule Set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09172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Century Gothic"/>
              </a:rPr>
              <a:t>Background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20 years developing business applic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lphi, Java and Oracle for last 6 yea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echnical Architect for Crown Agen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Tax and Customs business systems for foreign governm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20 sites across the world, each with different languages, legislation and document structur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How do we keep a single code base yet deal with all the differing requirement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One big headach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mpiler – Build Assembly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how Co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Example 2b – Demonstration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3248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Review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Use XML to provide easy persistence of rule set sourc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Separate Generate and Compi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Separate Design and Deplo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Limi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sValid is not user friendl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nstead of compiling could use runtime loading of pre-compiled assembli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Validation – Validat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IsValid is limit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Better approach is to capture validation results in a ValidationResults objec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se similar structure to CompilerResul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isplay useful information to the us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Issues - 1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ull vs String.Emp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anned validation types might be appropriate. Different templat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Form vs Dat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This approach can work on both layers as it works on objects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onditional Valid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dd conditions to the CompiledRule objec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Issues – 2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Runtime or Deploy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This approach doesn’t depend on compiling at the client end, as long as a language supports loadable packag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Master-Detai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Rule Order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Ordering of rules is significant for form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Rule Index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Performance of applicability will require better indexing. Could be done at construction time and use multi-cast event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Issues – 3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Granular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Should rulesets be monolithic or associated with packag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sabi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ollate all errors and inform us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Allow warnings and hi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Extend to support setting focus to associated control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Rule Design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Need a dictionary to support attribute picking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Issues - 4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ed to check for malicious rul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Testin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Should establish xUnit framework for testing rules. One test per rul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Review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Benefi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ode Generation &amp; Compila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Saves having to build specialised validator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Very flexibl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omplier Wrapp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These are definitely a good idea, they make code generation particularly easy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Should be simple to create wrappers for command line compiler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entralised Rule Managem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Traceabil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Debugabil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Future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velop Delphi Win32 equival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velop Java equival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velop GUI rule design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Extend model to support master-detai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Extend rule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Investigate workflow applic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eployment manage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Collate feedback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Publish paper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The Catalyst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Code Project Artic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Vlad Tepes, “Evaluating Mathematical Expressions by Compiling C# at Runtime”, The Code Project, April 2003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3300"/>
                </a:solidFill>
                <a:uFillTx/>
                <a:latin typeface="Century Gothic"/>
                <a:hlinkClick r:id="rId1"/>
              </a:rPr>
              <a:t>www.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Century Gothic"/>
                <a:hlinkClick r:id="rId2"/>
              </a:rPr>
              <a:t>codeproject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Century Gothic"/>
                <a:hlinkClick r:id="rId3"/>
              </a:rPr>
              <a:t>.com/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Century Gothic"/>
                <a:hlinkClick r:id="rId4"/>
              </a:rPr>
              <a:t>csharp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Century Gothic"/>
                <a:hlinkClick r:id="rId5"/>
              </a:rPr>
              <a:t>/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Century Gothic"/>
                <a:hlinkClick r:id="rId6"/>
              </a:rPr>
              <a:t>matheval</a:t>
            </a:r>
            <a:r>
              <a:rPr b="0" lang="en-GB" sz="1800" spc="-1" strike="noStrike" u="sng">
                <a:solidFill>
                  <a:srgbClr val="ff3300"/>
                </a:solidFill>
                <a:uFillTx/>
                <a:latin typeface="Century Gothic"/>
                <a:hlinkClick r:id="rId7"/>
              </a:rPr>
              <a:t>.as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howed technique for construction, compilation and activation of classes on the f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Example 1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578320" cy="37335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Evaluation of Maths Expressio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5048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CodeDom Packages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System.CodeDom.Compil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Microsoft.CSharp (System.dll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Microsoft.VisualBasic (System.dll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Borland.Delphi (DelphiProvider.dll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bcbcb"/>
                </a:solidFill>
                <a:latin typeface="Century Gothic"/>
              </a:rPr>
              <a:t>ICodeCompiler</a:t>
            </a:r>
            <a:endParaRPr b="0" lang="en-US" sz="3200" spc="-1" strike="noStrike">
              <a:solidFill>
                <a:srgbClr val="cbcbc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Direct Access to Compiler Functio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2646360"/>
            <a:ext cx="8528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20:19:10Z</dcterms:created>
  <dc:creator>Colin</dc:creator>
  <dc:description/>
  <dc:language>en-US</dc:language>
  <cp:lastModifiedBy>Colin</cp:lastModifiedBy>
  <dcterms:modified xsi:type="dcterms:W3CDTF">2004-11-12T10:26:01Z</dcterms:modified>
  <cp:revision>17</cp:revision>
  <dc:subject/>
  <dc:title>Using .NET Runtime Compilation for Bespoke Data Object Validation</dc:title>
</cp:coreProperties>
</file>