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32A-1CF5-4A99-A44E-8B9DB186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73C-865B-4A91-8B94-093E4C6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547-960A-4FD0-9D84-BCF1DC27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26A-7AB1-492B-92E7-B3FE569B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B0D-1A73-45A3-94A8-073D0E4D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769E-3926-4ED7-A0FC-3C02D4F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F8C6-79A9-4B15-B1A4-771B5DD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8BF-AB72-4F58-807F-14C51BC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4CE-EFDE-4CF6-BE7C-5BB6ACB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B84-0592-4DA1-BB20-5FF7057E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4662-6CC9-4FFF-AB39-62451D2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BA3-D432-4219-83BC-343E8756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D0B-28D8-4FCD-AA46-45202D4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BE3-660A-4D6C-BD40-268B2B7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085C-326C-4A1D-88BB-39C97C0D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4C1C-FB3D-4B1C-A414-434E662C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E20-AC66-4B1E-AE99-129699C2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548-153B-4EA1-A131-BF3D13D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294-0A26-4287-9C99-77B89ED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D6C-2C6D-45CA-8060-2CDD4C57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0F9-0186-4779-A99D-9CFF5CD8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9F7-3839-4A3E-BDB8-1683E70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D62-CD0F-442D-9EE8-00A531C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BD6-99A3-4EFD-A52A-52B8C8E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EE48-7791-4D77-A22E-6385E37AE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428B-92E3-4730-9C54-BC5B42C95A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XSLT - Extensible Stylesheet Language Transform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n Wintring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n@wintringham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variant of XML, designed to transform XML f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 from XML to X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 From XML to HT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of XSL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ML Description of a Stylesheet IE&lt;xsl:stylesheet xmlns:xsl="http://www.w3.org/1999/XSL/Transform"  version="1.0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amespace to match IE &lt;xsl:template match="ROWDATA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tml or XML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lects IE &lt;xsl:value-of select="@CustNo" /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ing Multiple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 each loop to step through a set of similar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rting of a for each lo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nal xpath query to select only records where a field matches some parame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lphi Magazine – Craig Murphy’s article Issue 66 Using XML And XSLT in Delph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3c XSLT 1.0 RFC www.w3.org/tr/1999/rec/-xslt-199911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13:13:22Z</dcterms:created>
  <dc:creator>BWintringham</dc:creator>
  <dc:description/>
  <dc:language>en-US</dc:language>
  <cp:lastModifiedBy>BWintringham</cp:lastModifiedBy>
  <dcterms:modified xsi:type="dcterms:W3CDTF">2002-02-22T08:53:47Z</dcterms:modified>
  <cp:revision>4</cp:revision>
  <dc:subject/>
  <dc:title>XSLT Xextensible Style sheets</dc:title>
</cp:coreProperties>
</file>