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49320" y="1412640"/>
            <a:ext cx="7238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4005000"/>
            <a:ext cx="7434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6560" y="4761000"/>
            <a:ext cx="7434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49320" y="1412640"/>
            <a:ext cx="7238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56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608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560" y="4761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6080" y="4761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49320" y="1412640"/>
            <a:ext cx="7238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6560" y="4005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0440" y="4005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53960" y="4005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6560" y="4761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0440" y="4761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53960" y="4761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49320" y="1412640"/>
            <a:ext cx="7238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6560" y="4005000"/>
            <a:ext cx="74343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49320" y="1412640"/>
            <a:ext cx="7238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6560" y="4005000"/>
            <a:ext cx="7434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49320" y="1412640"/>
            <a:ext cx="7238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560" y="4005000"/>
            <a:ext cx="3627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36080" y="4005000"/>
            <a:ext cx="3627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49320" y="1412640"/>
            <a:ext cx="7238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49320" y="1412640"/>
            <a:ext cx="7238880" cy="9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49320" y="1412640"/>
            <a:ext cx="7238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656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6080" y="4005000"/>
            <a:ext cx="3627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6560" y="4761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49320" y="1412640"/>
            <a:ext cx="7238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26560" y="4005000"/>
            <a:ext cx="74343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49320" y="1412640"/>
            <a:ext cx="7238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6560" y="4005000"/>
            <a:ext cx="3627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608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6080" y="4761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49320" y="1412640"/>
            <a:ext cx="7238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656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608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6560" y="4761000"/>
            <a:ext cx="7434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49320" y="1412640"/>
            <a:ext cx="7238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6560" y="4005000"/>
            <a:ext cx="7434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6560" y="4761000"/>
            <a:ext cx="7434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49320" y="1412640"/>
            <a:ext cx="7238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656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608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6560" y="4761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36080" y="4761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49320" y="1412640"/>
            <a:ext cx="7238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6560" y="4005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0440" y="4005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53960" y="4005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6560" y="4761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0440" y="4761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53960" y="4761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49320" y="1412640"/>
            <a:ext cx="7238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6560" y="4005000"/>
            <a:ext cx="7434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49320" y="1412640"/>
            <a:ext cx="7238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560" y="4005000"/>
            <a:ext cx="3627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6080" y="4005000"/>
            <a:ext cx="3627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49320" y="1412640"/>
            <a:ext cx="7238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49320" y="1412640"/>
            <a:ext cx="7238880" cy="9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49320" y="1412640"/>
            <a:ext cx="7238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56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6080" y="4005000"/>
            <a:ext cx="3627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6560" y="4761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49320" y="1412640"/>
            <a:ext cx="7238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560" y="4005000"/>
            <a:ext cx="3627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608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6080" y="4761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49320" y="1412640"/>
            <a:ext cx="7238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56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608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26560" y="4761000"/>
            <a:ext cx="7434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99760" y="1271520"/>
            <a:ext cx="8142120" cy="43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88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027080" indent="-249120">
              <a:lnSpc>
                <a:spcPct val="90000"/>
              </a:lnSpc>
              <a:spcBef>
                <a:spcPts val="14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1415880" indent="-260280">
              <a:lnSpc>
                <a:spcPct val="90000"/>
              </a:lnSpc>
              <a:spcBef>
                <a:spcPts val="1488"/>
              </a:spcBef>
              <a:buClr>
                <a:srgbClr val="33cc33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4" marL="1805040" indent="-260280">
              <a:lnSpc>
                <a:spcPct val="90000"/>
              </a:lnSpc>
              <a:spcBef>
                <a:spcPts val="1488"/>
              </a:spcBef>
              <a:buClr>
                <a:srgbClr val="0095e8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5" marL="1805040" indent="-260280">
              <a:lnSpc>
                <a:spcPct val="90000"/>
              </a:lnSpc>
              <a:spcBef>
                <a:spcPts val="1488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6" marL="1805040" indent="-260280">
              <a:lnSpc>
                <a:spcPct val="90000"/>
              </a:lnSpc>
              <a:spcBef>
                <a:spcPts val="1488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09480" y="1069920"/>
            <a:ext cx="8067960" cy="572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8101080" y="5848200"/>
            <a:ext cx="1042920" cy="100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49320" y="1412640"/>
            <a:ext cx="7238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780000" y="5157720"/>
            <a:ext cx="1546200" cy="1497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924360" y="476280"/>
            <a:ext cx="1342800" cy="847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06440" indent="-19080" algn="ctr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7080" indent="-249120" algn="ctr">
              <a:lnSpc>
                <a:spcPct val="90000"/>
              </a:lnSpc>
              <a:spcBef>
                <a:spcPts val="1225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15880" indent="-260280" algn="ctr">
              <a:lnSpc>
                <a:spcPct val="90000"/>
              </a:lnSpc>
              <a:spcBef>
                <a:spcPts val="1225"/>
              </a:spcBef>
              <a:buClr>
                <a:srgbClr val="33cc33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123920" indent="420840" algn="ctr">
              <a:lnSpc>
                <a:spcPct val="90000"/>
              </a:lnSpc>
              <a:spcBef>
                <a:spcPts val="1225"/>
              </a:spcBef>
              <a:buClr>
                <a:srgbClr val="0095e8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123920" indent="42084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123920" indent="42084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71640" y="1412640"/>
            <a:ext cx="72388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bjectively Useful Information 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3068280"/>
            <a:ext cx="7434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ian Lon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ining &amp; Consultancy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NET, Delphi, C++Builder, Kylix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ttp://www.blong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CMA Specifica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ECMA-335: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DF &amp; PostScript format (up to date):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ttp://www.ecma.ch/publications/standards/ecma-335.ht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ord &amp; PDF format (up to date):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tp://msdn.microsoft.com/net/ecm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ord format: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$(FrameworkSDK)\Tool Developers Guide\do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HTML format: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ttp://dotnet.di.unipi.it/EcmaSpecs.asp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50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88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IL Disassembler: ildasm.ex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UI for easy brows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sole mode generates IL fi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lasm.exe can regenerate functionally equivalent executables from these IL files (round tripping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88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Lutz Roeder’s Reflector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imilar to ildasm.exe in many way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ttp://www.aisto.com/roeder/dot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56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80000"/>
              </a:lnSpc>
              <a:spcBef>
                <a:spcPts val="1312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akrin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8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compiles .NET assemblies to C#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80000"/>
              </a:lnSpc>
              <a:spcBef>
                <a:spcPts val="1049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www.saurik.com/net/exempl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80000"/>
              </a:lnSpc>
              <a:spcBef>
                <a:spcPts val="1312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SW DotNet-Reflection-Browser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8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compiles .NET assemblies to various langua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80000"/>
              </a:lnSpc>
              <a:spcBef>
                <a:spcPts val="1049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www.lesser-software.com/en/content/products/LSW%20DotNet-Tools/LSW_DotNet_Reflection_Browser.ht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80000"/>
              </a:lnSpc>
              <a:spcBef>
                <a:spcPts val="1312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Microsoft FxCo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8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LS-compliance to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8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ighlights broken CLS ru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80000"/>
              </a:lnSpc>
              <a:spcBef>
                <a:spcPts val="1049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www.gotdotnet.com/team/libraries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2920" y="1268280"/>
            <a:ext cx="750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ramework operations manual, low level detai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4103640" cy="4897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268280"/>
            <a:ext cx="7991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Everything you ever wanted to know about COM Interop and P/Invoke (and lots you didn’t)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3716640" cy="446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hared Sour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54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312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Shared Source CLI (code-named Rotor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For academic use, not commerc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argets Windows 2000/XP, FreeBSD 4.7 &amp; Mac OS X 10.2 (&amp; has been ported to Linux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mplements ECMA-335 (and ECMA-33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tains source of a C# compiler, JITter, verifier, GC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, core class library, IL disassembler &amp; assembler, debugger, plus much mo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ttp://msdn.microsoft.com/net/sscl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88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uses a different algorithm than the commercial .NET G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268280"/>
            <a:ext cx="7991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A guided tour of some the key parts of the source from the developers (publication is imminent)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2205000"/>
            <a:ext cx="3024000" cy="4537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Open Source &amp; GPL Sour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61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80000"/>
              </a:lnSpc>
              <a:spcBef>
                <a:spcPts val="1488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Mono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8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pen Source CLI implementation sponsored (&amp; mostly implemented) by Ximi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8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argets Linux &amp; Window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8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http://www.go-mono.co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80000"/>
              </a:lnSpc>
              <a:spcBef>
                <a:spcPts val="1488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DotGNU Portable .NE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8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PL CLI implementation (with compilers) by the GNU proje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8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argets GNU/Linu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8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http://www.dotgnu.or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1268280"/>
            <a:ext cx="7991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CLR internal operations manual, </a:t>
            </a:r>
            <a:r>
              <a:rPr b="1" i="1" lang="en-GB" sz="2600" spc="-1" strike="noStrike">
                <a:solidFill>
                  <a:srgbClr val="ffffff"/>
                </a:solidFill>
                <a:latin typeface="Arial"/>
              </a:rPr>
              <a:t>very</a:t>
            </a: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 low level detail, told from the insid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700360" y="2133720"/>
            <a:ext cx="3751200" cy="4535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268280"/>
            <a:ext cx="7991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ull coverage of CIL (or MSIL) by the author of ILASM, ILDASM &amp; the CLR Metadata valid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627280" y="2205000"/>
            <a:ext cx="3676680" cy="446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Information Re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505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Documentatio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Web Site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Video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Shared Sourc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Open Sourc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GPL Sourc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92000" y="3141720"/>
            <a:ext cx="561636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Are there any questions?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899640" y="1988640"/>
            <a:ext cx="74343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5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rian Lo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ining &amp; Consultancy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.NET, Delphi, C++Builder, Kyl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ttp://www.blong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ocument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55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312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The .NET Framework Runtime has little interesting document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312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The .NET Framework SDK has a gamut of documentatio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.NET organis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ssentials prim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ployment cover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lass library, compiler &amp; ASP.NET refer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ools documen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bugging cover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quick start sam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1341360"/>
            <a:ext cx="4897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ffffff"/>
                </a:solidFill>
                <a:latin typeface="Arial"/>
              </a:rPr>
              <a:t>.NET Framework Essentials 2nd Edi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Thuan Thai &amp; Hoang Q. La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Solid framework introduc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648240" cy="5327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eb Sit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461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70000"/>
              </a:lnSpc>
              <a:spcBef>
                <a:spcPts val="913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DotNET Developers Group (DDG)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ttp://www.richplum.net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70000"/>
              </a:lnSpc>
              <a:spcBef>
                <a:spcPts val="913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Got .NET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ttp://www.gotdotnet.com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70000"/>
              </a:lnSpc>
              <a:spcBef>
                <a:spcPts val="913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.NET Junkies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ttp://www.dotnetjunkies.com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70000"/>
              </a:lnSpc>
              <a:spcBef>
                <a:spcPts val="913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.NET 247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ttp://www.dotnet247.com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70000"/>
              </a:lnSpc>
              <a:spcBef>
                <a:spcPts val="913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O’Reilly CLR/CLI/FCL articles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ttp://www.ondotnet.com/topics/dotnet/fcl.net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70000"/>
              </a:lnSpc>
              <a:spcBef>
                <a:spcPts val="913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O’Reilly C# articles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ttp://www.ondotnet.com/topics/dotnet/csharp.net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70000"/>
              </a:lnSpc>
              <a:spcBef>
                <a:spcPts val="913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# Web site directory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ttp://directory.google.com/Top/Computers/Programming/Languages/C-sharp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70000"/>
              </a:lnSpc>
              <a:spcBef>
                <a:spcPts val="913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C# Corner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ttp://www.c-sharpcorner.com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eb Vide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29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The DotNet Show</a:t>
            </a:r>
            <a:br>
              <a:rPr sz="3400"/>
            </a:b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http://msdn.microsoft.com/theshow/</a:t>
            </a:r>
            <a:br>
              <a:rPr sz="3400"/>
            </a:b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Archive.asp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MSDN TV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http://msdn.microsoft.com/msdntv/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archive.aspx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CMA Specifica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271520"/>
            <a:ext cx="5183280" cy="51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576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ECMA 334 is the formal specification of the C# language (updated in Nov 200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576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his specification has been implemented multiple times (.NET, SSCLI, Mono,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tGNU Portable.NET, more of which later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94200" y="1271520"/>
            <a:ext cx="3068640" cy="4318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CMA Specifica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80000"/>
              </a:lnSpc>
              <a:spcBef>
                <a:spcPts val="1488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ECMA-334: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d format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(VS.NET)\VC#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HTML format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s-help://MS.NETFrameworkSDK/csspec/html/CSharpSpecStart.htm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tp://dotnet.di.unipi.it/EcmaSpec/CShar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DF &amp; PostScript format (up to date):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ttp://www.ecma.ch/publications/standards/ecma-334.ht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ord &amp; PDF format (up to date):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tp://msdn.microsoft.com/net/ecm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CMA Specifica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0120" y="1271160"/>
            <a:ext cx="5124240" cy="52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80000"/>
              </a:lnSpc>
              <a:spcBef>
                <a:spcPts val="1349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ECMA 335 is the formal specification of the Common Language Infrastructure (CLI), as implemented by the MS CLR (updated in Nov 2002)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80000"/>
              </a:lnSpc>
              <a:spcBef>
                <a:spcPts val="1349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Covers the CLS, CTS, the core of the Class Library and CI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80000"/>
              </a:lnSpc>
              <a:spcBef>
                <a:spcPts val="1349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This is the definitive guide to the core of the .NET platform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94200" y="1271520"/>
            <a:ext cx="3068640" cy="4318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21:08:18Z</dcterms:created>
  <dc:creator>Brian Long</dc:creator>
  <dc:description/>
  <dc:language>en-US</dc:language>
  <cp:lastModifiedBy>Brian Long</cp:lastModifiedBy>
  <dcterms:modified xsi:type="dcterms:W3CDTF">2003-04-03T09:52:01Z</dcterms:modified>
  <cp:revision>51</cp:revision>
  <dc:subject/>
  <dc:title>Subjectively Useful Information Resources</dc:title>
</cp:coreProperties>
</file>