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4825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F99-6597-4750-B9B9-AF04B8EB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27B-53CF-4026-8FDC-F5E2BE78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285-4BAC-49D6-BD7D-D30862C9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767-ABF0-4CBC-A524-90EF26C4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5EE3-14DD-4009-84C7-AA56FCFA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21B-AB0E-4F71-B13E-840B4F5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BA18-5769-4939-91C9-EA69DFC6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4177-FAA1-4202-88E1-FD7DF051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9605-E85C-4F62-AA5C-28AF2BDB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822-E8A9-48F0-AF82-45AE816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F08-3AA9-47DA-819C-9B028C9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860-DE0D-4ED1-8B14-B628E643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F950-AB48-48F4-8A55-1D9AB3F6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C77-D8F3-4E70-B6C0-DED2641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29D6-F054-4A7F-BF6E-B054F5D4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937F-EBE9-4F82-9F5C-EFAE742C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6DAE-8245-4BD7-9C14-C76B0A3A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EB1-76F2-4258-AB2E-43DCF3AF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3BA-4456-4B9C-8E76-ED59B51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BAA-2652-4E2C-89B5-996F6EC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85B-759C-489D-91FD-5B40A940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1BE-8AE4-4AED-B9ED-922A4B41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A58-091A-4876-9640-77C35473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719-91BF-4EF8-B9A9-0314B50A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8D33-00D2-4B31-8C68-8B729EE93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978F-F097-4760-B368-7A0D6732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Hosts and Lmhost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se fi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falls of using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Lmhosts on Linu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ames are specific to local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tal for smb (server message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e seeing windows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itfa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y entries in hosts files on W2K and NT4 cause a request across two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entries in Lmhosts on linux cause errors for remote windows 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Network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22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eful Comman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btstat –c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p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pconfig /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 view \\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erver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ructure of H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981080"/>
            <a:ext cx="7772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OSTS file is used when you do something with the TCP/IP utilities, such as PING, FTP, and TELNET. You can find the HOSTS file in the winnt\system32\drivers\etc directory. The format of the file is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 Address     Friendly Name   130.25.25.87   jsmith_nt   # Remarks are denoted with a #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an entry like this in the HOSTS file, you could PING jsmith instead of typing out the whole IP address (ping 130.25.25.87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tructure of lmh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19051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MHOSTS file is for LAN Manager name resolution with the TCP/IP protocol. The file is similar in format to the HOSTS file, but its function is to resolve IP addresses for a server that is not on the local subnet (the same wir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Structure of lmho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676520"/>
            <a:ext cx="77724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, if you type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 VIEW \\JSMITH_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JSMITH_NT is on a different subnet, you will receive a "Server not Found" error message. If you are on a different subnet, edit your LMHOSTS file (in the same directory as the HOSTS file) to rea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 Address     Friendly Name   130.25.25.87   jsmith_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when you type "NET VIEW \\JSMITH_NT" (without the quotation marks), the LMHOSTS file tells Windows NT to replace the "\\jsmith_nt" with the IP address to resolve where the server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Lmhosts and Windows</a:t>
            </a: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any name to be used to refer to a remote machine on a different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sts on Window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real name and IP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 is local to the particular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s on a local net do not need to be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sts on Linux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lid hosts entries are required for certain operations eg tel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48:12Z</dcterms:created>
  <dc:creator>angus</dc:creator>
  <dc:description/>
  <dc:language>en-US</dc:language>
  <cp:lastModifiedBy>angus</cp:lastModifiedBy>
  <dcterms:modified xsi:type="dcterms:W3CDTF">2001-03-13T12:26:36Z</dcterms:modified>
  <cp:revision>6</cp:revision>
  <dc:subject/>
  <dc:title>Hosts Lmhosts </dc:title>
</cp:coreProperties>
</file>