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BC4F60-9A98-4A5E-9C84-A0CFD4149B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380F5F-7E4A-4676-8BB7-2DAF2859A5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: At the 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L Compare 6.0; DataDude; MS p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472DE0-C9D1-4269-9B73-9E32EA481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CAECF9-F62D-443F-8A77-8711A47B86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e comparing SQL Server 2000 and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not avoid th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A4D69F-9C18-4C91-A4F8-7BACEA9CB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similar to application development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8C5151-EB51-4CCC-AD56-665B9E3C9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EE7-DFEA-41E0-8468-C9CC68D5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D3F-0D14-4472-93CD-866D5960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263-13BF-45F0-8066-795C3200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842-3331-42A6-BF3A-C55040E8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594-E383-4725-A1BF-41CDDF6F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524-FCB2-47D0-B821-52F4B76D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70F-2FC6-486D-B03E-6E93298F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228-48B3-4C3B-B7EA-EEAE985B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9D8-6762-42AF-92E2-1683151E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C16-C5FF-401C-9BF9-B06920D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72C-2FD4-4D6E-93FC-8EE315F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678-F0A3-46CE-B1A5-8D044CE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5420-7917-40AA-8D15-4DF9DE1CD88F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atabase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ndrás Belokosztolsz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98989"/>
                </a:solidFill>
                <a:latin typeface="Calibri"/>
              </a:rPr>
              <a:t>15/10/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Is the Schemata Stor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272440" cy="7014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786120" y="4714920"/>
            <a:ext cx="14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urce Control For 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urce control works with files, the database schema is not in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: identifying the difference between the files and the database schema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: keeping the files in sync with the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In the Databa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cessed objects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[tables]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yntax not pre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xtual objects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[views, triggers]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yntax pre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a data not perfectly preserved -&gt; runtime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erated objects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[symmetric keys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to explore, just a D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ore: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414360" y="1523880"/>
            <a:ext cx="8315280" cy="2548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428760" y="4357800"/>
            <a:ext cx="835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428760" y="4143240"/>
            <a:ext cx="82296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ables are not textual objec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mments and formatting in the creation scripts are lo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information is stored in several system tables and are accessible via these or via system view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are: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ripts: Textual 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cumentation: Scripts or extended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erated constraint names (defaults, foreign keys, check constrai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00 vs. 2005 (and 2008): users vs. sc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chronization: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bles contain data, so a drop/create is not an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ertain operations cannot be performed using an alter stat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 file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 identity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rtain data type changes (ima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c Problem: Alter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 certain cases you cannot alter an ob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bles need to be rebuilt when identity columns need cha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ble returning functions when the returning table schema cha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nderlying CLR assembly needs to be rebui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 careful, because during the rebuild you may lose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ermis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tended proper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plore: Stored Procedures, Views,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"/>
          <p:cNvPicPr/>
          <p:nvPr/>
        </p:nvPicPr>
        <p:blipFill>
          <a:blip r:embed="rId1"/>
          <a:stretch/>
        </p:blipFill>
        <p:spPr>
          <a:xfrm>
            <a:off x="414360" y="1523880"/>
            <a:ext cx="8315280" cy="2548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428760" y="4357800"/>
            <a:ext cx="835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428760" y="4143240"/>
            <a:ext cx="82296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n-CLR stored procedures, functions, views and triggers are textual objects, i.e. they are stored as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ents and formatting in the creation scripts are preser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information is stored in several system tables and are accessible via these or via system views, but meta information may be inconsiste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s 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blem: Stored Procedure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stored as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endencies may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ored procedures can return bad res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ored procedures can break (and we learn this only when we try to execute th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is very different from compiled softwa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lowchart: Internal Storage 3"/>
          <p:cNvSpPr/>
          <p:nvPr/>
        </p:nvSpPr>
        <p:spPr>
          <a:xfrm>
            <a:off x="1714680" y="3035160"/>
            <a:ext cx="1000080" cy="716040"/>
          </a:xfrm>
          <a:prstGeom prst="flowChartInternalStorag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bl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ounded Rectangle 4"/>
          <p:cNvSpPr/>
          <p:nvPr/>
        </p:nvSpPr>
        <p:spPr>
          <a:xfrm>
            <a:off x="3643200" y="300024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ed procedure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1" name="Straight Arrow Connector 6"/>
          <p:cNvCxnSpPr>
            <a:stCxn id="90" idx="1"/>
            <a:endCxn id="89" idx="3"/>
          </p:cNvCxnSpPr>
          <p:nvPr/>
        </p:nvCxnSpPr>
        <p:spPr>
          <a:xfrm flipH="1" flipV="1">
            <a:off x="2714040" y="3392280"/>
            <a:ext cx="929160" cy="3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2" name="Multiply 9"/>
          <p:cNvSpPr/>
          <p:nvPr/>
        </p:nvSpPr>
        <p:spPr>
          <a:xfrm>
            <a:off x="1428840" y="2585880"/>
            <a:ext cx="1571400" cy="1557360"/>
          </a:xfrm>
          <a:prstGeom prst="pie">
            <a:avLst/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Cloud"/>
          <p:cNvSpPr/>
          <p:nvPr/>
        </p:nvSpPr>
        <p:spPr>
          <a:xfrm>
            <a:off x="6119640" y="1928880"/>
            <a:ext cx="2743200" cy="1214280"/>
          </a:xfrm>
          <a:prstGeom prst="pie">
            <a:avLst/>
          </a:prstGeom>
          <a:solidFill>
            <a:srgbClr val="4bac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chema bi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blem: Stored Procedure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ysdepends and sys.sql_dependencies track dependencies </a:t>
            </a:r>
            <a:r>
              <a:rPr b="1" lang="en-GB" sz="2000" spc="-1" strike="noStrike">
                <a:solidFill>
                  <a:srgbClr val="ff6161"/>
                </a:solidFill>
                <a:latin typeface="Calibri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, they do </a:t>
            </a:r>
            <a:r>
              <a:rPr b="1" lang="en-GB" sz="2800" spc="-1" strike="noStrike">
                <a:solidFill>
                  <a:srgbClr val="cc3300"/>
                </a:solidFill>
                <a:latin typeface="Calibri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ters are not updating sysdepends (2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ored procedures can reference nonexistent store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ras.Belokosztolszki@red-gate.com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oftware architect at Red Gate Softw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ponsible for SQL too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QL Compare, SQL Data Compare, SQL Pack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QL Log Resc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QL Refa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y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vents (NxtGenUG, VBUG, SQL Bits, many other user group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QL Server Cent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log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ttp://www.simple-talk.com/community/blogs/andras/default.asp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ticl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ttp://www.simple-talk.com/author/andr%c3%a1s-belokosztolszk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nderstanding Stored Procedures &amp; Textual Obj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cy code “someone” wrote some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sk: understand it fast and modify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tted code easier to 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cumentation can be inlined unlike in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ification is by a simple alter stat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is often sufficient, but there are problems with CLR and object depend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blems: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ews are also stored as textual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owner (user or schema) if not specified is resolved differently for various users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lution: fully qualified names </a:t>
            </a:r>
            <a:r>
              <a:rPr b="1" lang="en-GB" sz="2000" spc="-1" strike="noStrike">
                <a:solidFill>
                  <a:srgbClr val="ff6161"/>
                </a:solidFill>
                <a:latin typeface="Calibri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derlying tables may chan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* from dbo.table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lumns can change -&gt; sp_refresh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lumns may be drop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lution: Expand * and schemabi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aming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cripts: Search and re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datab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identify dependencies (but sysdepends is wro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name in Management Studio uses sp_rena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_rename is evil! It does update only the sysobjects/sys.objects tables/view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not use it, or use it with car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op and create the textual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les, Users, Permi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yntax for creating roles is different for 2000 and 2005 (sp_addrole vs. CREATE R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ch one should be in the scrip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_adduser in 2005 creates a sc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od policy: grant permissions to rol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 not compare user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: create role transactional, but sp_addrole and sp_addrolemember are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ore: Defa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wo types of defaults, and they must be handled differently during synchr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I default (in the colum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ound default – can be re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00: syscomments, sysobjects, syscolum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05: sys.columns, sys.default_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cessed Objects: Defa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fault values for tables are parsed and processed by SQL Ser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ote that there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ferent 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ferent function c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ra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ra parenthe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e my blog: http://www.simple-talk.com/community/blogs/andras/default.asp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71680" y="2000160"/>
          <a:ext cx="8001000" cy="148284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QL Server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QL Server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(2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+2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+2+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((1)+(2))+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t(3 as i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nvert(int,3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NVERT([int],(3),0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are and Sync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XML Schema Coll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QL Server 2005 supports XML with schema val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ML schema collection is a set of XML schem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: it is difficult to alter this object, i.e. you can only add to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you want to modify it, you must unbind it from all dependent objects, like table columns, functions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e can write .Net code and execute it from the data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compiled code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ll, it can be 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are the CLR objec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CLR assemblies are stored in the database as binary files. See sys.assemblies and sys.assembly_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rongly named assemblies can be easier identified based on their version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endencies are much better tracked for CLR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blem: CLR 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tabase has assemblyXYZ, what is i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cument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t it out of the database and use Reflect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bout the dependencies (Which tables does it reference? It is like dynamic SQ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lexible (same talk a year ago -&gt; chan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is the schema 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base vs. Creation scri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vantages/disadvan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ore the database/make it explo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pare (scripts/db, db/d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ynchronize (scripts/db, db/d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R UD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e can create custom user defined types using 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se types can be used in a table as column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: How to update an assemb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ter assembly works sometim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is the alternative? (See SQL Comp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lowchart: Process 3"/>
          <p:cNvSpPr/>
          <p:nvPr/>
        </p:nvSpPr>
        <p:spPr>
          <a:xfrm>
            <a:off x="1285920" y="5143680"/>
            <a:ext cx="1857240" cy="42840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lowchart: Process 4"/>
          <p:cNvSpPr/>
          <p:nvPr/>
        </p:nvSpPr>
        <p:spPr>
          <a:xfrm>
            <a:off x="1285920" y="5786280"/>
            <a:ext cx="1857240" cy="42876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Flowchart: Process 5"/>
          <p:cNvSpPr/>
          <p:nvPr/>
        </p:nvSpPr>
        <p:spPr>
          <a:xfrm>
            <a:off x="3714840" y="5143680"/>
            <a:ext cx="1857240" cy="42840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D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lowchart: Process 6"/>
          <p:cNvSpPr/>
          <p:nvPr/>
        </p:nvSpPr>
        <p:spPr>
          <a:xfrm>
            <a:off x="3714840" y="5786280"/>
            <a:ext cx="1857240" cy="42876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R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Flowchart: Process 7"/>
          <p:cNvSpPr/>
          <p:nvPr/>
        </p:nvSpPr>
        <p:spPr>
          <a:xfrm>
            <a:off x="6143760" y="5143680"/>
            <a:ext cx="1857240" cy="785520"/>
          </a:xfrm>
          <a:prstGeom prst="flowChart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ble with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Straight Arrow Connector 9" descr=""/>
          <p:cNvPicPr/>
          <p:nvPr/>
        </p:nvPicPr>
        <p:blipFill>
          <a:blip r:embed="rId1"/>
          <a:stretch/>
        </p:blipFill>
        <p:spPr>
          <a:xfrm>
            <a:off x="2987640" y="5200560"/>
            <a:ext cx="8222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Straight Arrow Connector 11" descr=""/>
          <p:cNvPicPr/>
          <p:nvPr/>
        </p:nvPicPr>
        <p:blipFill>
          <a:blip r:embed="rId2"/>
          <a:stretch/>
        </p:blipFill>
        <p:spPr>
          <a:xfrm>
            <a:off x="2987640" y="5303880"/>
            <a:ext cx="828720" cy="689040"/>
          </a:xfrm>
          <a:prstGeom prst="rect">
            <a:avLst/>
          </a:prstGeom>
          <a:ln w="0">
            <a:noFill/>
          </a:ln>
        </p:spPr>
      </p:pic>
      <p:pic>
        <p:nvPicPr>
          <p:cNvPr id="126" name="Straight Arrow Connector 13" descr=""/>
          <p:cNvPicPr/>
          <p:nvPr/>
        </p:nvPicPr>
        <p:blipFill>
          <a:blip r:embed="rId3"/>
          <a:stretch/>
        </p:blipFill>
        <p:spPr>
          <a:xfrm>
            <a:off x="5413320" y="5200560"/>
            <a:ext cx="822240" cy="444600"/>
          </a:xfrm>
          <a:prstGeom prst="rect">
            <a:avLst/>
          </a:prstGeom>
          <a:ln w="0">
            <a:noFill/>
          </a:ln>
        </p:spPr>
      </p:pic>
      <p:pic>
        <p:nvPicPr>
          <p:cNvPr id="127" name="Straight Arrow Connector 15" descr=""/>
          <p:cNvPicPr/>
          <p:nvPr/>
        </p:nvPicPr>
        <p:blipFill>
          <a:blip r:embed="rId4"/>
          <a:stretch/>
        </p:blipFill>
        <p:spPr>
          <a:xfrm>
            <a:off x="2987640" y="5413320"/>
            <a:ext cx="828720" cy="695520"/>
          </a:xfrm>
          <a:prstGeom prst="rect">
            <a:avLst/>
          </a:prstGeom>
          <a:ln w="0">
            <a:noFill/>
          </a:ln>
        </p:spPr>
      </p:pic>
      <p:pic>
        <p:nvPicPr>
          <p:cNvPr id="128" name="Straight Arrow Connector 17" descr=""/>
          <p:cNvPicPr/>
          <p:nvPr/>
        </p:nvPicPr>
        <p:blipFill>
          <a:blip r:embed="rId5"/>
          <a:stretch/>
        </p:blipFill>
        <p:spPr>
          <a:xfrm>
            <a:off x="2987640" y="5840280"/>
            <a:ext cx="822240" cy="365400"/>
          </a:xfrm>
          <a:prstGeom prst="rect">
            <a:avLst/>
          </a:prstGeom>
          <a:ln w="0">
            <a:noFill/>
          </a:ln>
        </p:spPr>
      </p:pic>
      <p:sp>
        <p:nvSpPr>
          <p:cNvPr id="129" name="Multiply 22"/>
          <p:cNvSpPr/>
          <p:nvPr/>
        </p:nvSpPr>
        <p:spPr>
          <a:xfrm>
            <a:off x="1143000" y="4786200"/>
            <a:ext cx="2071800" cy="1214640"/>
          </a:xfrm>
          <a:prstGeom prst="pie">
            <a:avLst/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chronize: Ro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35719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ARE @RouteLifetime IN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ARE @CreateRouteCommand Nvarchar(4000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@RouteLifetime = CASE WHEN (DATEDIFF(s, GETUTCDATE(), CAST('20070110 09:23:45.823' AS DATETIME)) &lt; 0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 1 ELSE DATEDIFF(s, GETUTCDATE(), CAST('20070110 09:23:45.823' AS DATETIME)) EN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@CreateRouteCommand = N'CREATE ROUTE [routeA]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IZATION [routeA_User]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ADDRESS=N''TCP://localhost''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_NAME=N''serviceA''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BROKER_INSTANCE=N''broker_instance_identifier''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FETIME='+ cast(@RouteLifetime as nvarchar(12))+''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 sp_executesql @CreateRouteComman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457200" y="1600200"/>
            <a:ext cx="82296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outes are used by the Service Brok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outes have a lifetime which i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Specified in seconds that indicate time to liv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Stored as an absolute val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ore: Certificates And 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QL Server 2005 supports Certificates and (A)symmetric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se are mostly generated by their create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be used for encryption and autho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te that there is nothing about key rotation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ystem tables do not contain enough information to recreate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c: Part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600200"/>
            <a:ext cx="532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table that is stored on several filegroups based on a partitioning colum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exes are also partiti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filegroups can be read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wo objects that control this: partition schemes and partition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Diagram 4" descr=""/>
          <p:cNvPicPr/>
          <p:nvPr/>
        </p:nvPicPr>
        <p:blipFill>
          <a:blip r:embed="rId1"/>
          <a:stretch/>
        </p:blipFill>
        <p:spPr>
          <a:xfrm>
            <a:off x="6010200" y="1695600"/>
            <a:ext cx="1828800" cy="3698640"/>
          </a:xfrm>
          <a:prstGeom prst="rect">
            <a:avLst/>
          </a:prstGeom>
          <a:ln w="0">
            <a:noFill/>
          </a:ln>
        </p:spPr>
      </p:pic>
      <p:pic>
        <p:nvPicPr>
          <p:cNvPr id="138" name="Diagram 5" descr=""/>
          <p:cNvPicPr/>
          <p:nvPr/>
        </p:nvPicPr>
        <p:blipFill>
          <a:blip r:embed="rId2"/>
          <a:stretch/>
        </p:blipFill>
        <p:spPr>
          <a:xfrm>
            <a:off x="7723080" y="1695600"/>
            <a:ext cx="13287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c: Partition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tion functions specify the interv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tion schemes specify the filegroups for these interv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PARTITION FUNCTION pf1 ( INT 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 RANGE LEFT FOR VALUES ( 2000, 2001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PARTITION SCHEME ps1 AS PARTITION pf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O ( [PRIMARY], [PRIMARY], [PRIMARY]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c Problem: Part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alter operation splits and merges a partition scheme, but this affects both the partition function and the partition sch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split and a merge is a very resource intensive operation because data is involved (moving rows from one filegroup to anoth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pace limi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ras.Belokosztolszki@red-gate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red-gate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simple-talk.com/community/blogs/andras/default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simple-talk.com/author/andr%c3%a1s-belokosztolszki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Ideal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425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quirement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ural growth of the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re data and physical limi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ansion: more information is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cess control restr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base merges (two perfect databases need to be consolida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nover, new people? New ide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nge for the sake of chan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or documentation -&gt; Re-implementing existing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hanges Lead to Database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base schemata change, i.e. existing schemata need to be extended and chan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erally there is a deployed production database and one or many “freely modifiable” development data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need to identify or track chang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atabas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450720" y="1542960"/>
            <a:ext cx="83394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B Development Problem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t is NOT compiled code with public/private qualif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endencies can be bro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here are these? What is using this object? Public AP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Can I modify th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hat is in this object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ho changed this the last time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blems are detected during produc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Garbage (unused, possibly unusable code, possibly maintain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cumentation: Where to store? How to retriev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egacy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o versio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o au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atabase Development With 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0720" y="1542960"/>
            <a:ext cx="83394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4:24Z</dcterms:created>
  <dc:creator>Andras Belokosztolszki</dc:creator>
  <dc:description/>
  <dc:language>en-US</dc:language>
  <cp:lastModifiedBy>andras.b</cp:lastModifiedBy>
  <dcterms:modified xsi:type="dcterms:W3CDTF">2008-10-15T10:12:43Z</dcterms:modified>
  <cp:revision>317</cp:revision>
  <dc:subject/>
  <dc:title>Database Evolution</dc:title>
</cp:coreProperties>
</file>