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08DB-2516-47C4-8B80-D731CB16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E72D-9395-429A-B099-19E2E742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7EA-5AC3-47D5-8935-28C876A1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24C5-C882-4388-9199-BB90FDE91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8F63-09DA-4E52-B663-85E56C37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136BE-37D1-4FCC-8583-9FA5B52E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8994-C957-439B-A1B2-6781F38E8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DDE51-BE9E-4FAF-B4BD-D06A1D60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75CF-6344-47E0-97DC-C11516D3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4869-1CCC-439B-A6D4-53C44CE8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38F93-4DB2-4874-8C2F-11915241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4119-571F-4CA6-B609-462107C6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D4F6A-8712-4F11-85B4-3FA9E547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CF40-85A1-4F61-9427-EECAD1E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EB5C-6272-4504-8B6E-3E36FD43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8E230-08D9-4AF8-B917-AC72D276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CA91-CCF0-4FD3-AB10-03B9F2E7E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D6F-7D20-4E3D-89F6-7D93B7953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BA54-D998-4066-AC88-3106E0D7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E197-0F4C-47DE-9C3E-A47D71B5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67CE-A672-4BA8-90A3-733CA8E9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77AC-1B6A-466A-B4C6-F7A98B1E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B08F-BB2B-4104-9A20-F467534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48AE-2CEA-4151-8F82-6F19E603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B207-CC6F-43D8-B55E-F226AAAC13F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44778-2EE8-4B73-A75D-002C13596680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5640" y="1996920"/>
            <a:ext cx="78487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sing “Excel” in </a:t>
            </a:r>
            <a:br>
              <a:rPr sz="4400"/>
            </a:b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elphi Win 32 Applic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y David Smith o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order Asset Management Lt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uthorised and regulated by the Financial Services Authority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O suited to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ding of Excel workbooks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nipulation of worksheet data and storing data back into Exc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apid transfer of data from Excel to a databa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shing data into pre-created and formatted Excel workboo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n’ create new workbooks, sheets and ranges using the SQL commands such as ‘INSERT INTO Table’ but perhaps this might be better done with Autom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Excel Integration ….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utomation suited to: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tegration of Excel functions into the application itself freeing you as the developer from the difficulty of creating complex functions yoursel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reating workbooks for use in ‘Excel’ itself with control over cell data, formulae and formatt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Front-ending complex Excel workbooks where the interface for users is ‘ug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utomation –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rop a TExcelApplication on your app’s fo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t the ConnectKind dependent upon the type of situation the app is being used 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se the Connect method to ‘launch’ an instance of Excel and either use the TExcelWorkBook and TExcelWorkSheet server components or code their creation manu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utomation -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Index := 1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XLApp.Connec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lcid := LOCALE_USER_DEFAULT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XLVerAsStr := XLApp.Version[lcid]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xcelVersion := StrToFloat(XLVerAsStr); </a:t>
            </a:r>
            <a:r>
              <a:rPr b="0" lang="en-GB" sz="2400" spc="-1" strike="noStrike">
                <a:solidFill>
                  <a:srgbClr val="ff0066"/>
                </a:solidFill>
                <a:latin typeface="Tahoma"/>
              </a:rPr>
              <a:t>//used later for working out how to populate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XLApp.Workbooks.Add(xlWBatWorksheet,0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orkBk := XLApp.Workbooks.Item[IIndex]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XLConnected := True; </a:t>
            </a:r>
            <a:r>
              <a:rPr b="0" lang="en-GB" sz="2400" spc="-1" strike="noStrike">
                <a:solidFill>
                  <a:srgbClr val="ff0066"/>
                </a:solidFill>
                <a:latin typeface="Tahoma"/>
              </a:rPr>
              <a:t>//just a flag for use l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utomation –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etermine the version of Excel being used by XLVerAsStr := XLApp.Version[lcid];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ush data into, or read data from, Excel by using either 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orksheet.Cells.Item[row,col].value(2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Worksheet.Range[‘A1’,’C3’].value(2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utomation –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t cell formulae using either of the syntaxes available in Exc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=sum(A1:D4)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=R[-2]C[-2] * RC[-1]’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Set up complex formulae in the worksheet first before pushing database field values to the worksheet when used in ‘OnCalcFields’ ev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Delphi &amp; Excel - Summar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 lot of business data is stored in Excel workbooks and a lot of ready-to-use stats, financial etc functions exist within Exc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sider the possibility of using either ADO or Automation as part of your application solution. Time is money so save it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ven if you’ve never used the technologies before it isn’t that difficult – if I can do it, then anyone c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Wh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890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lot of ‘business’ data exists in Excel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despread user ba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xcel features many functions not available in Delphi al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to imple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put can be left after processing in the app, a database or in Excel workbook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Why No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ther skill to lea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veryone uses Excel and this may increase as costs of MS Office increase and free software such as Star Office become more pop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ly increases the ‘load’ on your system whilst your app is run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tentially another area for problems to arise not under your control as ‘Excel’ versions and patches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he How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technologies exist that allow us to use Excel from a Win 32 ap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ctiveX Data Object (AD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utomation (OLE Automat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technology is probably best suited for solving particular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ADO Advantag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cel not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e through ADO presents itself as ‘database like’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QL Query commands that you are more than likely to be familiar with can be us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w overhead of system resour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DO –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t the connection string of an TADOConnection component at run-time to point to the relevant workbook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Provider=Microsoft.Jet.OLEDB.4.0;Data Source=</a:t>
            </a:r>
            <a:br>
              <a:rPr sz="1800"/>
            </a:b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:\MyWorkbook.xls;Extended Properties=Excel 8.0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nnect a TADOquery component to the ADOComponent and use a SQL string such as ‘SELECT * FROM [Sheet1$]’ to retrieve da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DO –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Named ranges and sheets get ‘translated’ into database like table n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an also use [Sheet2$A20:F50]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ell types get translated as follow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ext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WideStr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umeric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lo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mo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m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c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olean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ool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e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ateTi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DO – The Bas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Note no mention of formulae, they are treated not perhaps as thought as calculated fields but instead as read-only and trying to amend them will cause a ‘Cannot update ….field not updateable’ err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emember that formulae will NOT update as Excel is not running! Closing and opening the workbook with ADO will not force re-calculation. When opened with Excel in auto-recalculation mode, changes made to data cells will naturally be reflected in any connected formulae cel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eaeaea"/>
                </a:solidFill>
                <a:latin typeface="Tahoma"/>
              </a:rPr>
              <a:t>ADO – Watch out for!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Connection string must be set at run-time and must be carefully format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Provider=Microsoft.Jet.OLEDB.4.0;Data Source=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:\MyWorkbook.xls;Extended Properties=Excel 8.0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Use [] to delimit SQL/Excel Tables names such as [Sheet1$]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on’t try and connect to ‘password’ protected workbooks and workshee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5T20:27:54Z</dcterms:created>
  <dc:creator>David Smith</dc:creator>
  <dc:description/>
  <dc:language>en-US</dc:language>
  <cp:lastModifiedBy> </cp:lastModifiedBy>
  <dcterms:modified xsi:type="dcterms:W3CDTF">2007-03-12T22:14:42Z</dcterms:modified>
  <cp:revision>20</cp:revision>
  <dc:subject/>
  <dc:title>Using Excel in  Delphi Win 32 Applications</dc:title>
</cp:coreProperties>
</file>